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gif" ContentType="image/gif"/>
  <Override PartName="/ppt/media/image6.gif" ContentType="image/gif"/>
  <Override PartName="/ppt/media/image9.png" ContentType="image/png"/>
  <Override PartName="/ppt/media/image16.jpeg" ContentType="image/jpeg"/>
  <Override PartName="/ppt/media/drumroll.wav" ContentType="audio/x-wav"/>
  <Override PartName="/ppt/media/image14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sound001.wav" ContentType="audio/x-wav"/>
  <Override PartName="/ppt/media/image13.png" ContentType="image/png"/>
  <Override PartName="/ppt/media/image15.wmf" ContentType="image/x-wmf"/>
  <Override PartName="/ppt/media/image1.jpeg" ContentType="image/jpeg"/>
  <Override PartName="/ppt/media/image4.gif" ContentType="image/gif"/>
  <Override PartName="/ppt/media/image5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AD7-6A96-40F7-B8E7-A2D083F6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82D-BDEC-42E0-A252-E148807D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2EB-D016-4B09-90EC-809270AB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64C-7DEB-4F4B-8C9C-5CD9D2F1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004-9026-4394-BDFF-5ED403FA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97D-2EE4-46B5-8F0C-937DE4D9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4A5-8BAE-4D94-AA33-609E7382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F82-9A94-4D2A-AD64-633515B6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B44-5647-4774-AA93-24D8459D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DCA-DFEC-40EC-AF0F-18E9EADE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960-483F-4F4E-92BF-78BB123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902-E460-44F2-B9CF-6B420412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A81C-EE33-4165-90D5-A72FD568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13.xml"/><Relationship Id="rId5" Type="http://schemas.openxmlformats.org/officeDocument/2006/relationships/slide" Target="slide40.xml"/><Relationship Id="rId6" Type="http://schemas.openxmlformats.org/officeDocument/2006/relationships/slide" Target="slide43.xml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" Target="slide1.xml"/><Relationship Id="rId6" Type="http://schemas.openxmlformats.org/officeDocument/2006/relationships/audio" Target="../media/sound001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"/>
              </a:rPr>
              <a:t>S grapjes 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79280" y="981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eletten b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042920" y="1989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9280" y="2997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nijwond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042920" y="4005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not 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79280" y="5013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Sylvplaatsna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8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533520"/>
            <a:ext cx="87058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EB JE DE 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ONITOR GELIKT  ?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609480" y="3657600"/>
            <a:ext cx="3200400" cy="2438280"/>
          </a:xfrm>
          <a:custGeom>
            <a:avLst/>
            <a:gdLst>
              <a:gd name="textAreaLeft" fmla="*/ 438480 w 3200400"/>
              <a:gd name="textAreaRight" fmla="*/ 2761920 w 3200400"/>
              <a:gd name="textAreaTop" fmla="*/ 438480 h 2438280"/>
              <a:gd name="textAreaBottom" fmla="*/ 1999800 h 2438280"/>
            </a:gdLst>
            <a:ahLst/>
            <a:rect l="textAreaLeft" t="textAreaTop" r="textAreaRight" b="textAreaBottom"/>
            <a:pathLst>
              <a:path w="28350" h="21600">
                <a:moveTo>
                  <a:pt x="0" y="0"/>
                </a:moveTo>
                <a:lnTo>
                  <a:pt x="28350" y="0"/>
                </a:lnTo>
                <a:lnTo>
                  <a:pt x="28350" y="21600"/>
                </a:lnTo>
                <a:lnTo>
                  <a:pt x="0" y="21600"/>
                </a:lnTo>
                <a:close/>
              </a:path>
              <a:path fill="lightenLess" w="28350" h="21600">
                <a:moveTo>
                  <a:pt x="0" y="0"/>
                </a:moveTo>
                <a:lnTo>
                  <a:pt x="28350" y="0"/>
                </a:lnTo>
                <a:lnTo>
                  <a:pt x="24465" y="3886"/>
                </a:lnTo>
                <a:lnTo>
                  <a:pt x="3886" y="3886"/>
                </a:lnTo>
                <a:close/>
              </a:path>
              <a:path fill="darken" w="28350" h="21600">
                <a:moveTo>
                  <a:pt x="28350" y="0"/>
                </a:moveTo>
                <a:lnTo>
                  <a:pt x="28350" y="21600"/>
                </a:lnTo>
                <a:lnTo>
                  <a:pt x="24465" y="17714"/>
                </a:lnTo>
                <a:lnTo>
                  <a:pt x="24465" y="3886"/>
                </a:lnTo>
                <a:close/>
              </a:path>
              <a:path fill="darkenLess" w="28350" h="21600">
                <a:moveTo>
                  <a:pt x="28350" y="21600"/>
                </a:moveTo>
                <a:lnTo>
                  <a:pt x="0" y="21600"/>
                </a:lnTo>
                <a:lnTo>
                  <a:pt x="3886" y="17714"/>
                </a:lnTo>
                <a:lnTo>
                  <a:pt x="24465" y="17714"/>
                </a:lnTo>
                <a:close/>
              </a:path>
              <a:path fill="lighten" w="28350" h="21600">
                <a:moveTo>
                  <a:pt x="0" y="21600"/>
                </a:moveTo>
                <a:lnTo>
                  <a:pt x="0" y="0"/>
                </a:lnTo>
                <a:lnTo>
                  <a:pt x="3886" y="3886"/>
                </a:lnTo>
                <a:lnTo>
                  <a:pt x="3886" y="17714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9600" spc="-1" strike="noStrike">
                <a:solidFill>
                  <a:srgbClr val="fc0000"/>
                </a:solidFill>
                <a:latin typeface="Arial"/>
              </a:rPr>
              <a:t>J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971800"/>
            <a:ext cx="0" cy="38862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-38160" y="2971800"/>
            <a:ext cx="918216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5410080" y="3657600"/>
            <a:ext cx="3200400" cy="2438280"/>
          </a:xfrm>
          <a:custGeom>
            <a:avLst/>
            <a:gdLst>
              <a:gd name="textAreaLeft" fmla="*/ 438480 w 3200400"/>
              <a:gd name="textAreaRight" fmla="*/ 2761920 w 3200400"/>
              <a:gd name="textAreaTop" fmla="*/ 438480 h 2438280"/>
              <a:gd name="textAreaBottom" fmla="*/ 1999800 h 2438280"/>
            </a:gdLst>
            <a:ahLst/>
            <a:rect l="textAreaLeft" t="textAreaTop" r="textAreaRight" b="textAreaBottom"/>
            <a:pathLst>
              <a:path w="28350" h="21600">
                <a:moveTo>
                  <a:pt x="0" y="0"/>
                </a:moveTo>
                <a:lnTo>
                  <a:pt x="28350" y="0"/>
                </a:lnTo>
                <a:lnTo>
                  <a:pt x="28350" y="21600"/>
                </a:lnTo>
                <a:lnTo>
                  <a:pt x="0" y="21600"/>
                </a:lnTo>
                <a:close/>
              </a:path>
              <a:path fill="lightenLess" w="28350" h="21600">
                <a:moveTo>
                  <a:pt x="0" y="0"/>
                </a:moveTo>
                <a:lnTo>
                  <a:pt x="28350" y="0"/>
                </a:lnTo>
                <a:lnTo>
                  <a:pt x="24465" y="3886"/>
                </a:lnTo>
                <a:lnTo>
                  <a:pt x="3886" y="3886"/>
                </a:lnTo>
                <a:close/>
              </a:path>
              <a:path fill="darken" w="28350" h="21600">
                <a:moveTo>
                  <a:pt x="28350" y="0"/>
                </a:moveTo>
                <a:lnTo>
                  <a:pt x="28350" y="21600"/>
                </a:lnTo>
                <a:lnTo>
                  <a:pt x="24465" y="17714"/>
                </a:lnTo>
                <a:lnTo>
                  <a:pt x="24465" y="3886"/>
                </a:lnTo>
                <a:close/>
              </a:path>
              <a:path fill="darkenLess" w="28350" h="21600">
                <a:moveTo>
                  <a:pt x="28350" y="21600"/>
                </a:moveTo>
                <a:lnTo>
                  <a:pt x="0" y="21600"/>
                </a:lnTo>
                <a:lnTo>
                  <a:pt x="3886" y="17714"/>
                </a:lnTo>
                <a:lnTo>
                  <a:pt x="24465" y="17714"/>
                </a:lnTo>
                <a:close/>
              </a:path>
              <a:path fill="lighten" w="28350" h="21600">
                <a:moveTo>
                  <a:pt x="0" y="21600"/>
                </a:moveTo>
                <a:lnTo>
                  <a:pt x="0" y="0"/>
                </a:lnTo>
                <a:lnTo>
                  <a:pt x="3886" y="3886"/>
                </a:lnTo>
                <a:lnTo>
                  <a:pt x="3886" y="17714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8800" spc="-1" strike="noStrike">
                <a:solidFill>
                  <a:srgbClr val="fc0000"/>
                </a:solidFill>
                <a:latin typeface="Arial"/>
              </a:rPr>
              <a:t>N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676520" y="1752480"/>
            <a:ext cx="6076800" cy="32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Arial"/>
              </a:rPr>
              <a:t>DAN BEN JE OFFICIEEL ..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1295280"/>
          <a:ext cx="9144000" cy="41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14400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895840" y="2057400"/>
            <a:ext cx="1969200" cy="2284920"/>
            <a:chOff x="2895840" y="2057400"/>
            <a:chExt cx="1969200" cy="228492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3015720" y="2213640"/>
              <a:ext cx="1849320" cy="21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2895840" y="2057400"/>
              <a:ext cx="1837800" cy="2109960"/>
              <a:chOff x="2895840" y="2057400"/>
              <a:chExt cx="1837800" cy="210996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2895480" y="2057400"/>
                <a:ext cx="1837800" cy="2109960"/>
              </a:xfrm>
              <a:custGeom>
                <a:avLst/>
                <a:gdLst/>
                <a:ahLst/>
                <a:rect l="l" t="t" r="r" b="b"/>
                <a:pathLst>
                  <a:path w="1012" h="1163">
                    <a:moveTo>
                      <a:pt x="250" y="1163"/>
                    </a:moveTo>
                    <a:lnTo>
                      <a:pt x="266" y="1163"/>
                    </a:lnTo>
                    <a:lnTo>
                      <a:pt x="281" y="1161"/>
                    </a:lnTo>
                    <a:lnTo>
                      <a:pt x="297" y="1159"/>
                    </a:lnTo>
                    <a:lnTo>
                      <a:pt x="313" y="1156"/>
                    </a:lnTo>
                    <a:lnTo>
                      <a:pt x="329" y="1152"/>
                    </a:lnTo>
                    <a:lnTo>
                      <a:pt x="344" y="1146"/>
                    </a:lnTo>
                    <a:lnTo>
                      <a:pt x="359" y="1142"/>
                    </a:lnTo>
                    <a:lnTo>
                      <a:pt x="373" y="1136"/>
                    </a:lnTo>
                    <a:lnTo>
                      <a:pt x="374" y="1136"/>
                    </a:lnTo>
                    <a:lnTo>
                      <a:pt x="375" y="1136"/>
                    </a:lnTo>
                    <a:lnTo>
                      <a:pt x="376" y="1138"/>
                    </a:lnTo>
                    <a:lnTo>
                      <a:pt x="377" y="1140"/>
                    </a:lnTo>
                    <a:lnTo>
                      <a:pt x="383" y="1140"/>
                    </a:lnTo>
                    <a:lnTo>
                      <a:pt x="390" y="1140"/>
                    </a:lnTo>
                    <a:lnTo>
                      <a:pt x="396" y="1137"/>
                    </a:lnTo>
                    <a:lnTo>
                      <a:pt x="402" y="1134"/>
                    </a:lnTo>
                    <a:lnTo>
                      <a:pt x="429" y="1077"/>
                    </a:lnTo>
                    <a:lnTo>
                      <a:pt x="458" y="1021"/>
                    </a:lnTo>
                    <a:lnTo>
                      <a:pt x="487" y="967"/>
                    </a:lnTo>
                    <a:lnTo>
                      <a:pt x="518" y="912"/>
                    </a:lnTo>
                    <a:lnTo>
                      <a:pt x="550" y="859"/>
                    </a:lnTo>
                    <a:lnTo>
                      <a:pt x="584" y="806"/>
                    </a:lnTo>
                    <a:lnTo>
                      <a:pt x="618" y="754"/>
                    </a:lnTo>
                    <a:lnTo>
                      <a:pt x="655" y="702"/>
                    </a:lnTo>
                    <a:lnTo>
                      <a:pt x="693" y="653"/>
                    </a:lnTo>
                    <a:lnTo>
                      <a:pt x="732" y="604"/>
                    </a:lnTo>
                    <a:lnTo>
                      <a:pt x="774" y="555"/>
                    </a:lnTo>
                    <a:lnTo>
                      <a:pt x="817" y="508"/>
                    </a:lnTo>
                    <a:lnTo>
                      <a:pt x="862" y="462"/>
                    </a:lnTo>
                    <a:lnTo>
                      <a:pt x="911" y="417"/>
                    </a:lnTo>
                    <a:lnTo>
                      <a:pt x="960" y="372"/>
                    </a:lnTo>
                    <a:lnTo>
                      <a:pt x="1012" y="330"/>
                    </a:lnTo>
                    <a:lnTo>
                      <a:pt x="1010" y="299"/>
                    </a:lnTo>
                    <a:lnTo>
                      <a:pt x="1005" y="267"/>
                    </a:lnTo>
                    <a:lnTo>
                      <a:pt x="997" y="237"/>
                    </a:lnTo>
                    <a:lnTo>
                      <a:pt x="988" y="206"/>
                    </a:lnTo>
                    <a:lnTo>
                      <a:pt x="975" y="177"/>
                    </a:lnTo>
                    <a:lnTo>
                      <a:pt x="962" y="148"/>
                    </a:lnTo>
                    <a:lnTo>
                      <a:pt x="949" y="122"/>
                    </a:lnTo>
                    <a:lnTo>
                      <a:pt x="934" y="98"/>
                    </a:lnTo>
                    <a:lnTo>
                      <a:pt x="915" y="79"/>
                    </a:lnTo>
                    <a:lnTo>
                      <a:pt x="897" y="64"/>
                    </a:lnTo>
                    <a:lnTo>
                      <a:pt x="876" y="50"/>
                    </a:lnTo>
                    <a:lnTo>
                      <a:pt x="855" y="39"/>
                    </a:lnTo>
                    <a:lnTo>
                      <a:pt x="834" y="29"/>
                    </a:lnTo>
                    <a:lnTo>
                      <a:pt x="812" y="19"/>
                    </a:lnTo>
                    <a:lnTo>
                      <a:pt x="790" y="12"/>
                    </a:lnTo>
                    <a:lnTo>
                      <a:pt x="767" y="4"/>
                    </a:lnTo>
                    <a:lnTo>
                      <a:pt x="749" y="1"/>
                    </a:lnTo>
                    <a:lnTo>
                      <a:pt x="730" y="0"/>
                    </a:lnTo>
                    <a:lnTo>
                      <a:pt x="711" y="0"/>
                    </a:lnTo>
                    <a:lnTo>
                      <a:pt x="692" y="2"/>
                    </a:lnTo>
                    <a:lnTo>
                      <a:pt x="672" y="7"/>
                    </a:lnTo>
                    <a:lnTo>
                      <a:pt x="655" y="12"/>
                    </a:lnTo>
                    <a:lnTo>
                      <a:pt x="638" y="20"/>
                    </a:lnTo>
                    <a:lnTo>
                      <a:pt x="624" y="30"/>
                    </a:lnTo>
                    <a:lnTo>
                      <a:pt x="600" y="54"/>
                    </a:lnTo>
                    <a:lnTo>
                      <a:pt x="576" y="78"/>
                    </a:lnTo>
                    <a:lnTo>
                      <a:pt x="551" y="102"/>
                    </a:lnTo>
                    <a:lnTo>
                      <a:pt x="527" y="127"/>
                    </a:lnTo>
                    <a:lnTo>
                      <a:pt x="504" y="153"/>
                    </a:lnTo>
                    <a:lnTo>
                      <a:pt x="482" y="178"/>
                    </a:lnTo>
                    <a:lnTo>
                      <a:pt x="463" y="204"/>
                    </a:lnTo>
                    <a:lnTo>
                      <a:pt x="445" y="230"/>
                    </a:lnTo>
                    <a:lnTo>
                      <a:pt x="435" y="246"/>
                    </a:lnTo>
                    <a:lnTo>
                      <a:pt x="421" y="259"/>
                    </a:lnTo>
                    <a:lnTo>
                      <a:pt x="405" y="269"/>
                    </a:lnTo>
                    <a:lnTo>
                      <a:pt x="388" y="278"/>
                    </a:lnTo>
                    <a:lnTo>
                      <a:pt x="371" y="286"/>
                    </a:lnTo>
                    <a:lnTo>
                      <a:pt x="353" y="295"/>
                    </a:lnTo>
                    <a:lnTo>
                      <a:pt x="337" y="307"/>
                    </a:lnTo>
                    <a:lnTo>
                      <a:pt x="325" y="321"/>
                    </a:lnTo>
                    <a:lnTo>
                      <a:pt x="320" y="324"/>
                    </a:lnTo>
                    <a:lnTo>
                      <a:pt x="314" y="329"/>
                    </a:lnTo>
                    <a:lnTo>
                      <a:pt x="311" y="332"/>
                    </a:lnTo>
                    <a:lnTo>
                      <a:pt x="306" y="337"/>
                    </a:lnTo>
                    <a:lnTo>
                      <a:pt x="301" y="341"/>
                    </a:lnTo>
                    <a:lnTo>
                      <a:pt x="297" y="346"/>
                    </a:lnTo>
                    <a:lnTo>
                      <a:pt x="292" y="349"/>
                    </a:lnTo>
                    <a:lnTo>
                      <a:pt x="288" y="354"/>
                    </a:lnTo>
                    <a:lnTo>
                      <a:pt x="261" y="386"/>
                    </a:lnTo>
                    <a:lnTo>
                      <a:pt x="236" y="417"/>
                    </a:lnTo>
                    <a:lnTo>
                      <a:pt x="212" y="448"/>
                    </a:lnTo>
                    <a:lnTo>
                      <a:pt x="190" y="481"/>
                    </a:lnTo>
                    <a:lnTo>
                      <a:pt x="169" y="513"/>
                    </a:lnTo>
                    <a:lnTo>
                      <a:pt x="151" y="547"/>
                    </a:lnTo>
                    <a:lnTo>
                      <a:pt x="134" y="583"/>
                    </a:lnTo>
                    <a:lnTo>
                      <a:pt x="122" y="622"/>
                    </a:lnTo>
                    <a:lnTo>
                      <a:pt x="124" y="627"/>
                    </a:lnTo>
                    <a:lnTo>
                      <a:pt x="125" y="630"/>
                    </a:lnTo>
                    <a:lnTo>
                      <a:pt x="128" y="635"/>
                    </a:lnTo>
                    <a:lnTo>
                      <a:pt x="129" y="639"/>
                    </a:lnTo>
                    <a:lnTo>
                      <a:pt x="129" y="640"/>
                    </a:lnTo>
                    <a:lnTo>
                      <a:pt x="129" y="640"/>
                    </a:lnTo>
                    <a:lnTo>
                      <a:pt x="129" y="642"/>
                    </a:lnTo>
                    <a:lnTo>
                      <a:pt x="128" y="643"/>
                    </a:lnTo>
                    <a:lnTo>
                      <a:pt x="121" y="646"/>
                    </a:lnTo>
                    <a:lnTo>
                      <a:pt x="107" y="668"/>
                    </a:lnTo>
                    <a:lnTo>
                      <a:pt x="93" y="691"/>
                    </a:lnTo>
                    <a:lnTo>
                      <a:pt x="79" y="715"/>
                    </a:lnTo>
                    <a:lnTo>
                      <a:pt x="67" y="739"/>
                    </a:lnTo>
                    <a:lnTo>
                      <a:pt x="55" y="765"/>
                    </a:lnTo>
                    <a:lnTo>
                      <a:pt x="42" y="790"/>
                    </a:lnTo>
                    <a:lnTo>
                      <a:pt x="30" y="815"/>
                    </a:lnTo>
                    <a:lnTo>
                      <a:pt x="18" y="841"/>
                    </a:lnTo>
                    <a:lnTo>
                      <a:pt x="11" y="860"/>
                    </a:lnTo>
                    <a:lnTo>
                      <a:pt x="4" y="880"/>
                    </a:lnTo>
                    <a:lnTo>
                      <a:pt x="0" y="899"/>
                    </a:lnTo>
                    <a:lnTo>
                      <a:pt x="2" y="918"/>
                    </a:lnTo>
                    <a:lnTo>
                      <a:pt x="3" y="919"/>
                    </a:lnTo>
                    <a:lnTo>
                      <a:pt x="4" y="920"/>
                    </a:lnTo>
                    <a:lnTo>
                      <a:pt x="6" y="922"/>
                    </a:lnTo>
                    <a:lnTo>
                      <a:pt x="7" y="923"/>
                    </a:lnTo>
                    <a:lnTo>
                      <a:pt x="8" y="943"/>
                    </a:lnTo>
                    <a:lnTo>
                      <a:pt x="11" y="962"/>
                    </a:lnTo>
                    <a:lnTo>
                      <a:pt x="16" y="982"/>
                    </a:lnTo>
                    <a:lnTo>
                      <a:pt x="22" y="1000"/>
                    </a:lnTo>
                    <a:lnTo>
                      <a:pt x="29" y="1019"/>
                    </a:lnTo>
                    <a:lnTo>
                      <a:pt x="37" y="1037"/>
                    </a:lnTo>
                    <a:lnTo>
                      <a:pt x="45" y="1054"/>
                    </a:lnTo>
                    <a:lnTo>
                      <a:pt x="54" y="1071"/>
                    </a:lnTo>
                    <a:lnTo>
                      <a:pt x="67" y="1088"/>
                    </a:lnTo>
                    <a:lnTo>
                      <a:pt x="82" y="1104"/>
                    </a:lnTo>
                    <a:lnTo>
                      <a:pt x="98" y="1117"/>
                    </a:lnTo>
                    <a:lnTo>
                      <a:pt x="115" y="1128"/>
                    </a:lnTo>
                    <a:lnTo>
                      <a:pt x="133" y="1137"/>
                    </a:lnTo>
                    <a:lnTo>
                      <a:pt x="153" y="1145"/>
                    </a:lnTo>
                    <a:lnTo>
                      <a:pt x="174" y="1152"/>
                    </a:lnTo>
                    <a:lnTo>
                      <a:pt x="196" y="1158"/>
                    </a:lnTo>
                    <a:lnTo>
                      <a:pt x="202" y="1159"/>
                    </a:lnTo>
                    <a:lnTo>
                      <a:pt x="209" y="1160"/>
                    </a:lnTo>
                    <a:lnTo>
                      <a:pt x="216" y="1161"/>
                    </a:lnTo>
                    <a:lnTo>
                      <a:pt x="223" y="1161"/>
                    </a:lnTo>
                    <a:lnTo>
                      <a:pt x="229" y="1161"/>
                    </a:lnTo>
                    <a:lnTo>
                      <a:pt x="236" y="1161"/>
                    </a:lnTo>
                    <a:lnTo>
                      <a:pt x="243" y="1161"/>
                    </a:lnTo>
                    <a:lnTo>
                      <a:pt x="250" y="1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957400" y="2111760"/>
                <a:ext cx="1711080" cy="2001240"/>
              </a:xfrm>
              <a:custGeom>
                <a:avLst/>
                <a:gdLst/>
                <a:ahLst/>
                <a:rect l="l" t="t" r="r" b="b"/>
                <a:pathLst>
                  <a:path w="940" h="1100">
                    <a:moveTo>
                      <a:pt x="218" y="1100"/>
                    </a:moveTo>
                    <a:lnTo>
                      <a:pt x="230" y="1100"/>
                    </a:lnTo>
                    <a:lnTo>
                      <a:pt x="240" y="1098"/>
                    </a:lnTo>
                    <a:lnTo>
                      <a:pt x="252" y="1096"/>
                    </a:lnTo>
                    <a:lnTo>
                      <a:pt x="263" y="1094"/>
                    </a:lnTo>
                    <a:lnTo>
                      <a:pt x="274" y="1090"/>
                    </a:lnTo>
                    <a:lnTo>
                      <a:pt x="285" y="1087"/>
                    </a:lnTo>
                    <a:lnTo>
                      <a:pt x="296" y="1083"/>
                    </a:lnTo>
                    <a:lnTo>
                      <a:pt x="307" y="1081"/>
                    </a:lnTo>
                    <a:lnTo>
                      <a:pt x="314" y="1079"/>
                    </a:lnTo>
                    <a:lnTo>
                      <a:pt x="321" y="1079"/>
                    </a:lnTo>
                    <a:lnTo>
                      <a:pt x="327" y="1079"/>
                    </a:lnTo>
                    <a:lnTo>
                      <a:pt x="334" y="1077"/>
                    </a:lnTo>
                    <a:lnTo>
                      <a:pt x="346" y="1046"/>
                    </a:lnTo>
                    <a:lnTo>
                      <a:pt x="361" y="1018"/>
                    </a:lnTo>
                    <a:lnTo>
                      <a:pt x="376" y="990"/>
                    </a:lnTo>
                    <a:lnTo>
                      <a:pt x="392" y="962"/>
                    </a:lnTo>
                    <a:lnTo>
                      <a:pt x="408" y="937"/>
                    </a:lnTo>
                    <a:lnTo>
                      <a:pt x="426" y="911"/>
                    </a:lnTo>
                    <a:lnTo>
                      <a:pt x="442" y="884"/>
                    </a:lnTo>
                    <a:lnTo>
                      <a:pt x="458" y="858"/>
                    </a:lnTo>
                    <a:lnTo>
                      <a:pt x="466" y="843"/>
                    </a:lnTo>
                    <a:lnTo>
                      <a:pt x="474" y="829"/>
                    </a:lnTo>
                    <a:lnTo>
                      <a:pt x="483" y="814"/>
                    </a:lnTo>
                    <a:lnTo>
                      <a:pt x="491" y="800"/>
                    </a:lnTo>
                    <a:lnTo>
                      <a:pt x="509" y="774"/>
                    </a:lnTo>
                    <a:lnTo>
                      <a:pt x="525" y="747"/>
                    </a:lnTo>
                    <a:lnTo>
                      <a:pt x="542" y="722"/>
                    </a:lnTo>
                    <a:lnTo>
                      <a:pt x="560" y="697"/>
                    </a:lnTo>
                    <a:lnTo>
                      <a:pt x="578" y="671"/>
                    </a:lnTo>
                    <a:lnTo>
                      <a:pt x="596" y="646"/>
                    </a:lnTo>
                    <a:lnTo>
                      <a:pt x="615" y="622"/>
                    </a:lnTo>
                    <a:lnTo>
                      <a:pt x="634" y="597"/>
                    </a:lnTo>
                    <a:lnTo>
                      <a:pt x="654" y="573"/>
                    </a:lnTo>
                    <a:lnTo>
                      <a:pt x="674" y="548"/>
                    </a:lnTo>
                    <a:lnTo>
                      <a:pt x="694" y="523"/>
                    </a:lnTo>
                    <a:lnTo>
                      <a:pt x="716" y="499"/>
                    </a:lnTo>
                    <a:lnTo>
                      <a:pt x="738" y="475"/>
                    </a:lnTo>
                    <a:lnTo>
                      <a:pt x="760" y="450"/>
                    </a:lnTo>
                    <a:lnTo>
                      <a:pt x="783" y="425"/>
                    </a:lnTo>
                    <a:lnTo>
                      <a:pt x="806" y="400"/>
                    </a:lnTo>
                    <a:lnTo>
                      <a:pt x="820" y="389"/>
                    </a:lnTo>
                    <a:lnTo>
                      <a:pt x="832" y="378"/>
                    </a:lnTo>
                    <a:lnTo>
                      <a:pt x="845" y="367"/>
                    </a:lnTo>
                    <a:lnTo>
                      <a:pt x="859" y="355"/>
                    </a:lnTo>
                    <a:lnTo>
                      <a:pt x="870" y="344"/>
                    </a:lnTo>
                    <a:lnTo>
                      <a:pt x="883" y="333"/>
                    </a:lnTo>
                    <a:lnTo>
                      <a:pt x="896" y="322"/>
                    </a:lnTo>
                    <a:lnTo>
                      <a:pt x="907" y="311"/>
                    </a:lnTo>
                    <a:lnTo>
                      <a:pt x="909" y="309"/>
                    </a:lnTo>
                    <a:lnTo>
                      <a:pt x="912" y="307"/>
                    </a:lnTo>
                    <a:lnTo>
                      <a:pt x="914" y="306"/>
                    </a:lnTo>
                    <a:lnTo>
                      <a:pt x="916" y="305"/>
                    </a:lnTo>
                    <a:lnTo>
                      <a:pt x="917" y="303"/>
                    </a:lnTo>
                    <a:lnTo>
                      <a:pt x="919" y="302"/>
                    </a:lnTo>
                    <a:lnTo>
                      <a:pt x="920" y="300"/>
                    </a:lnTo>
                    <a:lnTo>
                      <a:pt x="921" y="299"/>
                    </a:lnTo>
                    <a:lnTo>
                      <a:pt x="935" y="288"/>
                    </a:lnTo>
                    <a:lnTo>
                      <a:pt x="936" y="287"/>
                    </a:lnTo>
                    <a:lnTo>
                      <a:pt x="938" y="286"/>
                    </a:lnTo>
                    <a:lnTo>
                      <a:pt x="939" y="285"/>
                    </a:lnTo>
                    <a:lnTo>
                      <a:pt x="940" y="283"/>
                    </a:lnTo>
                    <a:lnTo>
                      <a:pt x="928" y="249"/>
                    </a:lnTo>
                    <a:lnTo>
                      <a:pt x="917" y="215"/>
                    </a:lnTo>
                    <a:lnTo>
                      <a:pt x="906" y="182"/>
                    </a:lnTo>
                    <a:lnTo>
                      <a:pt x="894" y="147"/>
                    </a:lnTo>
                    <a:lnTo>
                      <a:pt x="881" y="116"/>
                    </a:lnTo>
                    <a:lnTo>
                      <a:pt x="863" y="86"/>
                    </a:lnTo>
                    <a:lnTo>
                      <a:pt x="843" y="60"/>
                    </a:lnTo>
                    <a:lnTo>
                      <a:pt x="816" y="37"/>
                    </a:lnTo>
                    <a:lnTo>
                      <a:pt x="798" y="27"/>
                    </a:lnTo>
                    <a:lnTo>
                      <a:pt x="777" y="21"/>
                    </a:lnTo>
                    <a:lnTo>
                      <a:pt x="756" y="15"/>
                    </a:lnTo>
                    <a:lnTo>
                      <a:pt x="734" y="10"/>
                    </a:lnTo>
                    <a:lnTo>
                      <a:pt x="711" y="7"/>
                    </a:lnTo>
                    <a:lnTo>
                      <a:pt x="689" y="3"/>
                    </a:lnTo>
                    <a:lnTo>
                      <a:pt x="666" y="2"/>
                    </a:lnTo>
                    <a:lnTo>
                      <a:pt x="644" y="0"/>
                    </a:lnTo>
                    <a:lnTo>
                      <a:pt x="631" y="11"/>
                    </a:lnTo>
                    <a:lnTo>
                      <a:pt x="616" y="24"/>
                    </a:lnTo>
                    <a:lnTo>
                      <a:pt x="600" y="38"/>
                    </a:lnTo>
                    <a:lnTo>
                      <a:pt x="583" y="53"/>
                    </a:lnTo>
                    <a:lnTo>
                      <a:pt x="567" y="68"/>
                    </a:lnTo>
                    <a:lnTo>
                      <a:pt x="551" y="83"/>
                    </a:lnTo>
                    <a:lnTo>
                      <a:pt x="535" y="98"/>
                    </a:lnTo>
                    <a:lnTo>
                      <a:pt x="521" y="110"/>
                    </a:lnTo>
                    <a:lnTo>
                      <a:pt x="509" y="125"/>
                    </a:lnTo>
                    <a:lnTo>
                      <a:pt x="496" y="140"/>
                    </a:lnTo>
                    <a:lnTo>
                      <a:pt x="484" y="155"/>
                    </a:lnTo>
                    <a:lnTo>
                      <a:pt x="473" y="169"/>
                    </a:lnTo>
                    <a:lnTo>
                      <a:pt x="463" y="184"/>
                    </a:lnTo>
                    <a:lnTo>
                      <a:pt x="453" y="199"/>
                    </a:lnTo>
                    <a:lnTo>
                      <a:pt x="444" y="215"/>
                    </a:lnTo>
                    <a:lnTo>
                      <a:pt x="437" y="231"/>
                    </a:lnTo>
                    <a:lnTo>
                      <a:pt x="559" y="320"/>
                    </a:lnTo>
                    <a:lnTo>
                      <a:pt x="571" y="329"/>
                    </a:lnTo>
                    <a:lnTo>
                      <a:pt x="583" y="337"/>
                    </a:lnTo>
                    <a:lnTo>
                      <a:pt x="595" y="346"/>
                    </a:lnTo>
                    <a:lnTo>
                      <a:pt x="606" y="354"/>
                    </a:lnTo>
                    <a:lnTo>
                      <a:pt x="618" y="363"/>
                    </a:lnTo>
                    <a:lnTo>
                      <a:pt x="630" y="372"/>
                    </a:lnTo>
                    <a:lnTo>
                      <a:pt x="641" y="383"/>
                    </a:lnTo>
                    <a:lnTo>
                      <a:pt x="653" y="393"/>
                    </a:lnTo>
                    <a:lnTo>
                      <a:pt x="659" y="401"/>
                    </a:lnTo>
                    <a:lnTo>
                      <a:pt x="665" y="409"/>
                    </a:lnTo>
                    <a:lnTo>
                      <a:pt x="672" y="417"/>
                    </a:lnTo>
                    <a:lnTo>
                      <a:pt x="679" y="424"/>
                    </a:lnTo>
                    <a:lnTo>
                      <a:pt x="685" y="432"/>
                    </a:lnTo>
                    <a:lnTo>
                      <a:pt x="692" y="440"/>
                    </a:lnTo>
                    <a:lnTo>
                      <a:pt x="697" y="447"/>
                    </a:lnTo>
                    <a:lnTo>
                      <a:pt x="703" y="455"/>
                    </a:lnTo>
                    <a:lnTo>
                      <a:pt x="700" y="467"/>
                    </a:lnTo>
                    <a:lnTo>
                      <a:pt x="699" y="468"/>
                    </a:lnTo>
                    <a:lnTo>
                      <a:pt x="696" y="469"/>
                    </a:lnTo>
                    <a:lnTo>
                      <a:pt x="695" y="471"/>
                    </a:lnTo>
                    <a:lnTo>
                      <a:pt x="693" y="473"/>
                    </a:lnTo>
                    <a:lnTo>
                      <a:pt x="685" y="482"/>
                    </a:lnTo>
                    <a:lnTo>
                      <a:pt x="677" y="476"/>
                    </a:lnTo>
                    <a:lnTo>
                      <a:pt x="670" y="470"/>
                    </a:lnTo>
                    <a:lnTo>
                      <a:pt x="664" y="464"/>
                    </a:lnTo>
                    <a:lnTo>
                      <a:pt x="659" y="456"/>
                    </a:lnTo>
                    <a:lnTo>
                      <a:pt x="644" y="440"/>
                    </a:lnTo>
                    <a:lnTo>
                      <a:pt x="631" y="425"/>
                    </a:lnTo>
                    <a:lnTo>
                      <a:pt x="616" y="412"/>
                    </a:lnTo>
                    <a:lnTo>
                      <a:pt x="601" y="398"/>
                    </a:lnTo>
                    <a:lnTo>
                      <a:pt x="585" y="385"/>
                    </a:lnTo>
                    <a:lnTo>
                      <a:pt x="570" y="372"/>
                    </a:lnTo>
                    <a:lnTo>
                      <a:pt x="554" y="360"/>
                    </a:lnTo>
                    <a:lnTo>
                      <a:pt x="537" y="347"/>
                    </a:lnTo>
                    <a:lnTo>
                      <a:pt x="521" y="336"/>
                    </a:lnTo>
                    <a:lnTo>
                      <a:pt x="505" y="325"/>
                    </a:lnTo>
                    <a:lnTo>
                      <a:pt x="489" y="314"/>
                    </a:lnTo>
                    <a:lnTo>
                      <a:pt x="473" y="302"/>
                    </a:lnTo>
                    <a:lnTo>
                      <a:pt x="457" y="292"/>
                    </a:lnTo>
                    <a:lnTo>
                      <a:pt x="441" y="282"/>
                    </a:lnTo>
                    <a:lnTo>
                      <a:pt x="425" y="270"/>
                    </a:lnTo>
                    <a:lnTo>
                      <a:pt x="408" y="260"/>
                    </a:lnTo>
                    <a:lnTo>
                      <a:pt x="407" y="260"/>
                    </a:lnTo>
                    <a:lnTo>
                      <a:pt x="407" y="260"/>
                    </a:lnTo>
                    <a:lnTo>
                      <a:pt x="406" y="260"/>
                    </a:lnTo>
                    <a:lnTo>
                      <a:pt x="405" y="260"/>
                    </a:lnTo>
                    <a:lnTo>
                      <a:pt x="389" y="265"/>
                    </a:lnTo>
                    <a:lnTo>
                      <a:pt x="373" y="274"/>
                    </a:lnTo>
                    <a:lnTo>
                      <a:pt x="357" y="282"/>
                    </a:lnTo>
                    <a:lnTo>
                      <a:pt x="342" y="291"/>
                    </a:lnTo>
                    <a:lnTo>
                      <a:pt x="327" y="301"/>
                    </a:lnTo>
                    <a:lnTo>
                      <a:pt x="313" y="313"/>
                    </a:lnTo>
                    <a:lnTo>
                      <a:pt x="299" y="324"/>
                    </a:lnTo>
                    <a:lnTo>
                      <a:pt x="285" y="337"/>
                    </a:lnTo>
                    <a:lnTo>
                      <a:pt x="273" y="351"/>
                    </a:lnTo>
                    <a:lnTo>
                      <a:pt x="260" y="364"/>
                    </a:lnTo>
                    <a:lnTo>
                      <a:pt x="247" y="378"/>
                    </a:lnTo>
                    <a:lnTo>
                      <a:pt x="236" y="392"/>
                    </a:lnTo>
                    <a:lnTo>
                      <a:pt x="224" y="406"/>
                    </a:lnTo>
                    <a:lnTo>
                      <a:pt x="214" y="421"/>
                    </a:lnTo>
                    <a:lnTo>
                      <a:pt x="202" y="435"/>
                    </a:lnTo>
                    <a:lnTo>
                      <a:pt x="192" y="448"/>
                    </a:lnTo>
                    <a:lnTo>
                      <a:pt x="183" y="466"/>
                    </a:lnTo>
                    <a:lnTo>
                      <a:pt x="170" y="484"/>
                    </a:lnTo>
                    <a:lnTo>
                      <a:pt x="157" y="502"/>
                    </a:lnTo>
                    <a:lnTo>
                      <a:pt x="145" y="521"/>
                    </a:lnTo>
                    <a:lnTo>
                      <a:pt x="134" y="539"/>
                    </a:lnTo>
                    <a:lnTo>
                      <a:pt x="127" y="559"/>
                    </a:lnTo>
                    <a:lnTo>
                      <a:pt x="125" y="578"/>
                    </a:lnTo>
                    <a:lnTo>
                      <a:pt x="129" y="598"/>
                    </a:lnTo>
                    <a:lnTo>
                      <a:pt x="133" y="605"/>
                    </a:lnTo>
                    <a:lnTo>
                      <a:pt x="139" y="611"/>
                    </a:lnTo>
                    <a:lnTo>
                      <a:pt x="145" y="617"/>
                    </a:lnTo>
                    <a:lnTo>
                      <a:pt x="150" y="623"/>
                    </a:lnTo>
                    <a:lnTo>
                      <a:pt x="156" y="629"/>
                    </a:lnTo>
                    <a:lnTo>
                      <a:pt x="162" y="635"/>
                    </a:lnTo>
                    <a:lnTo>
                      <a:pt x="168" y="642"/>
                    </a:lnTo>
                    <a:lnTo>
                      <a:pt x="172" y="647"/>
                    </a:lnTo>
                    <a:lnTo>
                      <a:pt x="187" y="661"/>
                    </a:lnTo>
                    <a:lnTo>
                      <a:pt x="202" y="675"/>
                    </a:lnTo>
                    <a:lnTo>
                      <a:pt x="217" y="688"/>
                    </a:lnTo>
                    <a:lnTo>
                      <a:pt x="231" y="701"/>
                    </a:lnTo>
                    <a:lnTo>
                      <a:pt x="245" y="714"/>
                    </a:lnTo>
                    <a:lnTo>
                      <a:pt x="260" y="727"/>
                    </a:lnTo>
                    <a:lnTo>
                      <a:pt x="274" y="738"/>
                    </a:lnTo>
                    <a:lnTo>
                      <a:pt x="289" y="750"/>
                    </a:lnTo>
                    <a:lnTo>
                      <a:pt x="304" y="761"/>
                    </a:lnTo>
                    <a:lnTo>
                      <a:pt x="319" y="772"/>
                    </a:lnTo>
                    <a:lnTo>
                      <a:pt x="334" y="782"/>
                    </a:lnTo>
                    <a:lnTo>
                      <a:pt x="350" y="791"/>
                    </a:lnTo>
                    <a:lnTo>
                      <a:pt x="367" y="800"/>
                    </a:lnTo>
                    <a:lnTo>
                      <a:pt x="384" y="808"/>
                    </a:lnTo>
                    <a:lnTo>
                      <a:pt x="403" y="816"/>
                    </a:lnTo>
                    <a:lnTo>
                      <a:pt x="421" y="823"/>
                    </a:lnTo>
                    <a:lnTo>
                      <a:pt x="423" y="826"/>
                    </a:lnTo>
                    <a:lnTo>
                      <a:pt x="427" y="828"/>
                    </a:lnTo>
                    <a:lnTo>
                      <a:pt x="428" y="831"/>
                    </a:lnTo>
                    <a:lnTo>
                      <a:pt x="428" y="836"/>
                    </a:lnTo>
                    <a:lnTo>
                      <a:pt x="425" y="842"/>
                    </a:lnTo>
                    <a:lnTo>
                      <a:pt x="420" y="846"/>
                    </a:lnTo>
                    <a:lnTo>
                      <a:pt x="414" y="851"/>
                    </a:lnTo>
                    <a:lnTo>
                      <a:pt x="408" y="854"/>
                    </a:lnTo>
                    <a:lnTo>
                      <a:pt x="395" y="850"/>
                    </a:lnTo>
                    <a:lnTo>
                      <a:pt x="381" y="845"/>
                    </a:lnTo>
                    <a:lnTo>
                      <a:pt x="368" y="839"/>
                    </a:lnTo>
                    <a:lnTo>
                      <a:pt x="355" y="833"/>
                    </a:lnTo>
                    <a:lnTo>
                      <a:pt x="343" y="827"/>
                    </a:lnTo>
                    <a:lnTo>
                      <a:pt x="331" y="820"/>
                    </a:lnTo>
                    <a:lnTo>
                      <a:pt x="320" y="813"/>
                    </a:lnTo>
                    <a:lnTo>
                      <a:pt x="309" y="805"/>
                    </a:lnTo>
                    <a:lnTo>
                      <a:pt x="298" y="798"/>
                    </a:lnTo>
                    <a:lnTo>
                      <a:pt x="288" y="790"/>
                    </a:lnTo>
                    <a:lnTo>
                      <a:pt x="276" y="782"/>
                    </a:lnTo>
                    <a:lnTo>
                      <a:pt x="266" y="774"/>
                    </a:lnTo>
                    <a:lnTo>
                      <a:pt x="255" y="766"/>
                    </a:lnTo>
                    <a:lnTo>
                      <a:pt x="245" y="757"/>
                    </a:lnTo>
                    <a:lnTo>
                      <a:pt x="233" y="749"/>
                    </a:lnTo>
                    <a:lnTo>
                      <a:pt x="223" y="740"/>
                    </a:lnTo>
                    <a:lnTo>
                      <a:pt x="221" y="739"/>
                    </a:lnTo>
                    <a:lnTo>
                      <a:pt x="218" y="738"/>
                    </a:lnTo>
                    <a:lnTo>
                      <a:pt x="217" y="738"/>
                    </a:lnTo>
                    <a:lnTo>
                      <a:pt x="215" y="737"/>
                    </a:lnTo>
                    <a:lnTo>
                      <a:pt x="114" y="638"/>
                    </a:lnTo>
                    <a:lnTo>
                      <a:pt x="100" y="658"/>
                    </a:lnTo>
                    <a:lnTo>
                      <a:pt x="86" y="677"/>
                    </a:lnTo>
                    <a:lnTo>
                      <a:pt x="74" y="698"/>
                    </a:lnTo>
                    <a:lnTo>
                      <a:pt x="63" y="720"/>
                    </a:lnTo>
                    <a:lnTo>
                      <a:pt x="51" y="742"/>
                    </a:lnTo>
                    <a:lnTo>
                      <a:pt x="41" y="765"/>
                    </a:lnTo>
                    <a:lnTo>
                      <a:pt x="31" y="788"/>
                    </a:lnTo>
                    <a:lnTo>
                      <a:pt x="20" y="812"/>
                    </a:lnTo>
                    <a:lnTo>
                      <a:pt x="0" y="869"/>
                    </a:lnTo>
                    <a:lnTo>
                      <a:pt x="4" y="892"/>
                    </a:lnTo>
                    <a:lnTo>
                      <a:pt x="10" y="916"/>
                    </a:lnTo>
                    <a:lnTo>
                      <a:pt x="15" y="941"/>
                    </a:lnTo>
                    <a:lnTo>
                      <a:pt x="21" y="965"/>
                    </a:lnTo>
                    <a:lnTo>
                      <a:pt x="30" y="989"/>
                    </a:lnTo>
                    <a:lnTo>
                      <a:pt x="40" y="1011"/>
                    </a:lnTo>
                    <a:lnTo>
                      <a:pt x="53" y="1030"/>
                    </a:lnTo>
                    <a:lnTo>
                      <a:pt x="69" y="1048"/>
                    </a:lnTo>
                    <a:lnTo>
                      <a:pt x="84" y="1060"/>
                    </a:lnTo>
                    <a:lnTo>
                      <a:pt x="100" y="1071"/>
                    </a:lnTo>
                    <a:lnTo>
                      <a:pt x="118" y="1080"/>
                    </a:lnTo>
                    <a:lnTo>
                      <a:pt x="138" y="1088"/>
                    </a:lnTo>
                    <a:lnTo>
                      <a:pt x="157" y="1094"/>
                    </a:lnTo>
                    <a:lnTo>
                      <a:pt x="178" y="1097"/>
                    </a:lnTo>
                    <a:lnTo>
                      <a:pt x="199" y="1099"/>
                    </a:lnTo>
                    <a:lnTo>
                      <a:pt x="218" y="1100"/>
                    </a:lnTo>
                    <a:close/>
                  </a:path>
                </a:pathLst>
              </a:custGeom>
              <a:solidFill>
                <a:srgbClr val="d39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4269240" y="3092400"/>
                <a:ext cx="86400" cy="1191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3"/>
                    </a:lnTo>
                    <a:lnTo>
                      <a:pt x="41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1" y="55"/>
                    </a:lnTo>
                    <a:lnTo>
                      <a:pt x="34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4105080" y="3231000"/>
                <a:ext cx="83880" cy="1191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3"/>
                    </a:lnTo>
                    <a:lnTo>
                      <a:pt x="23" y="66"/>
                    </a:lnTo>
                    <a:lnTo>
                      <a:pt x="14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3953160" y="3360960"/>
                <a:ext cx="87120" cy="1234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3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3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4119840" y="2892240"/>
                <a:ext cx="83160" cy="12024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7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3974040" y="3038040"/>
                <a:ext cx="83880" cy="1159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4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2"/>
                    </a:lnTo>
                    <a:lnTo>
                      <a:pt x="23" y="65"/>
                    </a:lnTo>
                    <a:lnTo>
                      <a:pt x="14" y="62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3803760" y="3161880"/>
                <a:ext cx="87120" cy="11916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4" y="0"/>
                    </a:moveTo>
                    <a:lnTo>
                      <a:pt x="32" y="2"/>
                    </a:lnTo>
                    <a:lnTo>
                      <a:pt x="39" y="9"/>
                    </a:lnTo>
                    <a:lnTo>
                      <a:pt x="44" y="20"/>
                    </a:lnTo>
                    <a:lnTo>
                      <a:pt x="46" y="32"/>
                    </a:lnTo>
                    <a:lnTo>
                      <a:pt x="44" y="45"/>
                    </a:lnTo>
                    <a:lnTo>
                      <a:pt x="39" y="55"/>
                    </a:lnTo>
                    <a:lnTo>
                      <a:pt x="32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967200" y="2750760"/>
                <a:ext cx="83160" cy="1234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3803400" y="2860200"/>
                <a:ext cx="83880" cy="11916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23" y="0"/>
                    </a:moveTo>
                    <a:lnTo>
                      <a:pt x="32" y="3"/>
                    </a:lnTo>
                    <a:lnTo>
                      <a:pt x="39" y="10"/>
                    </a:lnTo>
                    <a:lnTo>
                      <a:pt x="44" y="21"/>
                    </a:lnTo>
                    <a:lnTo>
                      <a:pt x="45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5"/>
                    </a:lnTo>
                    <a:lnTo>
                      <a:pt x="23" y="67"/>
                    </a:lnTo>
                    <a:lnTo>
                      <a:pt x="14" y="65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10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654360" y="3023280"/>
                <a:ext cx="83880" cy="12024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3" y="0"/>
                    </a:moveTo>
                    <a:lnTo>
                      <a:pt x="32" y="3"/>
                    </a:lnTo>
                    <a:lnTo>
                      <a:pt x="39" y="9"/>
                    </a:lnTo>
                    <a:lnTo>
                      <a:pt x="44" y="21"/>
                    </a:lnTo>
                    <a:lnTo>
                      <a:pt x="46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4"/>
                    </a:lnTo>
                    <a:lnTo>
                      <a:pt x="23" y="66"/>
                    </a:lnTo>
                    <a:lnTo>
                      <a:pt x="14" y="64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Kleine snijwonden bij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38080" y="4343400"/>
            <a:ext cx="2667240" cy="1219320"/>
          </a:xfrm>
          <a:custGeom>
            <a:avLst/>
            <a:gdLst>
              <a:gd name="textAreaLeft" fmla="*/ 78840 w 2667240"/>
              <a:gd name="textAreaRight" fmla="*/ 2588400 w 26672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7242" h="21600">
                <a:moveTo>
                  <a:pt x="0" y="0"/>
                </a:moveTo>
                <a:lnTo>
                  <a:pt x="47242" y="0"/>
                </a:lnTo>
                <a:lnTo>
                  <a:pt x="47242" y="21600"/>
                </a:lnTo>
                <a:lnTo>
                  <a:pt x="0" y="21600"/>
                </a:lnTo>
                <a:close/>
              </a:path>
              <a:path fill="lightenLess" w="47242" h="21600">
                <a:moveTo>
                  <a:pt x="0" y="0"/>
                </a:moveTo>
                <a:lnTo>
                  <a:pt x="47242" y="0"/>
                </a:lnTo>
                <a:lnTo>
                  <a:pt x="45842" y="1400"/>
                </a:lnTo>
                <a:lnTo>
                  <a:pt x="1400" y="1400"/>
                </a:lnTo>
                <a:close/>
              </a:path>
              <a:path fill="darken" w="47242" h="21600">
                <a:moveTo>
                  <a:pt x="47242" y="0"/>
                </a:moveTo>
                <a:lnTo>
                  <a:pt x="47242" y="21600"/>
                </a:lnTo>
                <a:lnTo>
                  <a:pt x="45842" y="20200"/>
                </a:lnTo>
                <a:lnTo>
                  <a:pt x="45842" y="1400"/>
                </a:lnTo>
                <a:close/>
              </a:path>
              <a:path fill="darkenLess" w="47242" h="21600">
                <a:moveTo>
                  <a:pt x="47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42" y="20200"/>
                </a:lnTo>
                <a:close/>
              </a:path>
              <a:path fill="lighten" w="47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0000"/>
                </a:solidFill>
                <a:latin typeface="Comic Sans MS"/>
              </a:rPr>
              <a:t>Vrouw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5181480" y="4343400"/>
            <a:ext cx="2667240" cy="1219320"/>
          </a:xfrm>
          <a:custGeom>
            <a:avLst/>
            <a:gdLst>
              <a:gd name="textAreaLeft" fmla="*/ 78840 w 2667240"/>
              <a:gd name="textAreaRight" fmla="*/ 2588400 w 26672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7242" h="21600">
                <a:moveTo>
                  <a:pt x="0" y="0"/>
                </a:moveTo>
                <a:lnTo>
                  <a:pt x="47242" y="0"/>
                </a:lnTo>
                <a:lnTo>
                  <a:pt x="47242" y="21600"/>
                </a:lnTo>
                <a:lnTo>
                  <a:pt x="0" y="21600"/>
                </a:lnTo>
                <a:close/>
              </a:path>
              <a:path fill="lightenLess" w="47242" h="21600">
                <a:moveTo>
                  <a:pt x="0" y="0"/>
                </a:moveTo>
                <a:lnTo>
                  <a:pt x="47242" y="0"/>
                </a:lnTo>
                <a:lnTo>
                  <a:pt x="45842" y="1400"/>
                </a:lnTo>
                <a:lnTo>
                  <a:pt x="1400" y="1400"/>
                </a:lnTo>
                <a:close/>
              </a:path>
              <a:path fill="darken" w="47242" h="21600">
                <a:moveTo>
                  <a:pt x="47242" y="0"/>
                </a:moveTo>
                <a:lnTo>
                  <a:pt x="47242" y="21600"/>
                </a:lnTo>
                <a:lnTo>
                  <a:pt x="45842" y="20200"/>
                </a:lnTo>
                <a:lnTo>
                  <a:pt x="45842" y="1400"/>
                </a:lnTo>
                <a:close/>
              </a:path>
              <a:path fill="darkenLess" w="47242" h="21600">
                <a:moveTo>
                  <a:pt x="47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42" y="20200"/>
                </a:lnTo>
                <a:close/>
              </a:path>
              <a:path fill="lighten" w="47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0000"/>
                </a:solidFill>
                <a:latin typeface="Comic Sans MS"/>
              </a:rPr>
              <a:t>Man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5105880" y="1828800"/>
            <a:ext cx="1181520" cy="1370880"/>
            <a:chOff x="5105880" y="1828800"/>
            <a:chExt cx="1181520" cy="137088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5177520" y="1922400"/>
              <a:ext cx="1109880" cy="127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5105880" y="1828800"/>
              <a:ext cx="1103400" cy="1266120"/>
              <a:chOff x="5105880" y="1828800"/>
              <a:chExt cx="1103400" cy="1266120"/>
            </a:xfrm>
          </p:grpSpPr>
          <p:sp>
            <p:nvSpPr>
              <p:cNvPr id="121" name=""/>
              <p:cNvSpPr/>
              <p:nvPr/>
            </p:nvSpPr>
            <p:spPr>
              <a:xfrm flipH="1">
                <a:off x="5105520" y="1828800"/>
                <a:ext cx="1103400" cy="1266120"/>
              </a:xfrm>
              <a:custGeom>
                <a:avLst/>
                <a:gdLst/>
                <a:ahLst/>
                <a:rect l="l" t="t" r="r" b="b"/>
                <a:pathLst>
                  <a:path w="1012" h="1163">
                    <a:moveTo>
                      <a:pt x="250" y="1163"/>
                    </a:moveTo>
                    <a:lnTo>
                      <a:pt x="266" y="1163"/>
                    </a:lnTo>
                    <a:lnTo>
                      <a:pt x="281" y="1161"/>
                    </a:lnTo>
                    <a:lnTo>
                      <a:pt x="297" y="1159"/>
                    </a:lnTo>
                    <a:lnTo>
                      <a:pt x="313" y="1156"/>
                    </a:lnTo>
                    <a:lnTo>
                      <a:pt x="329" y="1152"/>
                    </a:lnTo>
                    <a:lnTo>
                      <a:pt x="344" y="1146"/>
                    </a:lnTo>
                    <a:lnTo>
                      <a:pt x="359" y="1142"/>
                    </a:lnTo>
                    <a:lnTo>
                      <a:pt x="373" y="1136"/>
                    </a:lnTo>
                    <a:lnTo>
                      <a:pt x="374" y="1136"/>
                    </a:lnTo>
                    <a:lnTo>
                      <a:pt x="375" y="1136"/>
                    </a:lnTo>
                    <a:lnTo>
                      <a:pt x="376" y="1138"/>
                    </a:lnTo>
                    <a:lnTo>
                      <a:pt x="377" y="1140"/>
                    </a:lnTo>
                    <a:lnTo>
                      <a:pt x="383" y="1140"/>
                    </a:lnTo>
                    <a:lnTo>
                      <a:pt x="390" y="1140"/>
                    </a:lnTo>
                    <a:lnTo>
                      <a:pt x="396" y="1137"/>
                    </a:lnTo>
                    <a:lnTo>
                      <a:pt x="402" y="1134"/>
                    </a:lnTo>
                    <a:lnTo>
                      <a:pt x="429" y="1077"/>
                    </a:lnTo>
                    <a:lnTo>
                      <a:pt x="458" y="1021"/>
                    </a:lnTo>
                    <a:lnTo>
                      <a:pt x="487" y="967"/>
                    </a:lnTo>
                    <a:lnTo>
                      <a:pt x="518" y="912"/>
                    </a:lnTo>
                    <a:lnTo>
                      <a:pt x="550" y="859"/>
                    </a:lnTo>
                    <a:lnTo>
                      <a:pt x="584" y="806"/>
                    </a:lnTo>
                    <a:lnTo>
                      <a:pt x="618" y="754"/>
                    </a:lnTo>
                    <a:lnTo>
                      <a:pt x="655" y="702"/>
                    </a:lnTo>
                    <a:lnTo>
                      <a:pt x="693" y="653"/>
                    </a:lnTo>
                    <a:lnTo>
                      <a:pt x="732" y="604"/>
                    </a:lnTo>
                    <a:lnTo>
                      <a:pt x="774" y="555"/>
                    </a:lnTo>
                    <a:lnTo>
                      <a:pt x="817" y="508"/>
                    </a:lnTo>
                    <a:lnTo>
                      <a:pt x="862" y="462"/>
                    </a:lnTo>
                    <a:lnTo>
                      <a:pt x="911" y="417"/>
                    </a:lnTo>
                    <a:lnTo>
                      <a:pt x="960" y="372"/>
                    </a:lnTo>
                    <a:lnTo>
                      <a:pt x="1012" y="330"/>
                    </a:lnTo>
                    <a:lnTo>
                      <a:pt x="1010" y="299"/>
                    </a:lnTo>
                    <a:lnTo>
                      <a:pt x="1005" y="267"/>
                    </a:lnTo>
                    <a:lnTo>
                      <a:pt x="997" y="237"/>
                    </a:lnTo>
                    <a:lnTo>
                      <a:pt x="988" y="206"/>
                    </a:lnTo>
                    <a:lnTo>
                      <a:pt x="975" y="177"/>
                    </a:lnTo>
                    <a:lnTo>
                      <a:pt x="962" y="148"/>
                    </a:lnTo>
                    <a:lnTo>
                      <a:pt x="949" y="122"/>
                    </a:lnTo>
                    <a:lnTo>
                      <a:pt x="934" y="98"/>
                    </a:lnTo>
                    <a:lnTo>
                      <a:pt x="915" y="79"/>
                    </a:lnTo>
                    <a:lnTo>
                      <a:pt x="897" y="64"/>
                    </a:lnTo>
                    <a:lnTo>
                      <a:pt x="876" y="50"/>
                    </a:lnTo>
                    <a:lnTo>
                      <a:pt x="855" y="39"/>
                    </a:lnTo>
                    <a:lnTo>
                      <a:pt x="834" y="29"/>
                    </a:lnTo>
                    <a:lnTo>
                      <a:pt x="812" y="19"/>
                    </a:lnTo>
                    <a:lnTo>
                      <a:pt x="790" y="12"/>
                    </a:lnTo>
                    <a:lnTo>
                      <a:pt x="767" y="4"/>
                    </a:lnTo>
                    <a:lnTo>
                      <a:pt x="749" y="1"/>
                    </a:lnTo>
                    <a:lnTo>
                      <a:pt x="730" y="0"/>
                    </a:lnTo>
                    <a:lnTo>
                      <a:pt x="711" y="0"/>
                    </a:lnTo>
                    <a:lnTo>
                      <a:pt x="692" y="2"/>
                    </a:lnTo>
                    <a:lnTo>
                      <a:pt x="672" y="7"/>
                    </a:lnTo>
                    <a:lnTo>
                      <a:pt x="655" y="12"/>
                    </a:lnTo>
                    <a:lnTo>
                      <a:pt x="638" y="20"/>
                    </a:lnTo>
                    <a:lnTo>
                      <a:pt x="624" y="30"/>
                    </a:lnTo>
                    <a:lnTo>
                      <a:pt x="600" y="54"/>
                    </a:lnTo>
                    <a:lnTo>
                      <a:pt x="576" y="78"/>
                    </a:lnTo>
                    <a:lnTo>
                      <a:pt x="551" y="102"/>
                    </a:lnTo>
                    <a:lnTo>
                      <a:pt x="527" y="127"/>
                    </a:lnTo>
                    <a:lnTo>
                      <a:pt x="504" y="153"/>
                    </a:lnTo>
                    <a:lnTo>
                      <a:pt x="482" y="178"/>
                    </a:lnTo>
                    <a:lnTo>
                      <a:pt x="463" y="204"/>
                    </a:lnTo>
                    <a:lnTo>
                      <a:pt x="445" y="230"/>
                    </a:lnTo>
                    <a:lnTo>
                      <a:pt x="435" y="246"/>
                    </a:lnTo>
                    <a:lnTo>
                      <a:pt x="421" y="259"/>
                    </a:lnTo>
                    <a:lnTo>
                      <a:pt x="405" y="269"/>
                    </a:lnTo>
                    <a:lnTo>
                      <a:pt x="388" y="278"/>
                    </a:lnTo>
                    <a:lnTo>
                      <a:pt x="371" y="286"/>
                    </a:lnTo>
                    <a:lnTo>
                      <a:pt x="353" y="295"/>
                    </a:lnTo>
                    <a:lnTo>
                      <a:pt x="337" y="307"/>
                    </a:lnTo>
                    <a:lnTo>
                      <a:pt x="325" y="321"/>
                    </a:lnTo>
                    <a:lnTo>
                      <a:pt x="320" y="324"/>
                    </a:lnTo>
                    <a:lnTo>
                      <a:pt x="314" y="329"/>
                    </a:lnTo>
                    <a:lnTo>
                      <a:pt x="311" y="332"/>
                    </a:lnTo>
                    <a:lnTo>
                      <a:pt x="306" y="337"/>
                    </a:lnTo>
                    <a:lnTo>
                      <a:pt x="301" y="341"/>
                    </a:lnTo>
                    <a:lnTo>
                      <a:pt x="297" y="346"/>
                    </a:lnTo>
                    <a:lnTo>
                      <a:pt x="292" y="349"/>
                    </a:lnTo>
                    <a:lnTo>
                      <a:pt x="288" y="354"/>
                    </a:lnTo>
                    <a:lnTo>
                      <a:pt x="261" y="386"/>
                    </a:lnTo>
                    <a:lnTo>
                      <a:pt x="236" y="417"/>
                    </a:lnTo>
                    <a:lnTo>
                      <a:pt x="212" y="448"/>
                    </a:lnTo>
                    <a:lnTo>
                      <a:pt x="190" y="481"/>
                    </a:lnTo>
                    <a:lnTo>
                      <a:pt x="169" y="513"/>
                    </a:lnTo>
                    <a:lnTo>
                      <a:pt x="151" y="547"/>
                    </a:lnTo>
                    <a:lnTo>
                      <a:pt x="134" y="583"/>
                    </a:lnTo>
                    <a:lnTo>
                      <a:pt x="122" y="622"/>
                    </a:lnTo>
                    <a:lnTo>
                      <a:pt x="124" y="627"/>
                    </a:lnTo>
                    <a:lnTo>
                      <a:pt x="125" y="630"/>
                    </a:lnTo>
                    <a:lnTo>
                      <a:pt x="128" y="635"/>
                    </a:lnTo>
                    <a:lnTo>
                      <a:pt x="129" y="639"/>
                    </a:lnTo>
                    <a:lnTo>
                      <a:pt x="129" y="640"/>
                    </a:lnTo>
                    <a:lnTo>
                      <a:pt x="129" y="640"/>
                    </a:lnTo>
                    <a:lnTo>
                      <a:pt x="129" y="642"/>
                    </a:lnTo>
                    <a:lnTo>
                      <a:pt x="128" y="643"/>
                    </a:lnTo>
                    <a:lnTo>
                      <a:pt x="121" y="646"/>
                    </a:lnTo>
                    <a:lnTo>
                      <a:pt x="107" y="668"/>
                    </a:lnTo>
                    <a:lnTo>
                      <a:pt x="93" y="691"/>
                    </a:lnTo>
                    <a:lnTo>
                      <a:pt x="79" y="715"/>
                    </a:lnTo>
                    <a:lnTo>
                      <a:pt x="67" y="739"/>
                    </a:lnTo>
                    <a:lnTo>
                      <a:pt x="55" y="765"/>
                    </a:lnTo>
                    <a:lnTo>
                      <a:pt x="42" y="790"/>
                    </a:lnTo>
                    <a:lnTo>
                      <a:pt x="30" y="815"/>
                    </a:lnTo>
                    <a:lnTo>
                      <a:pt x="18" y="841"/>
                    </a:lnTo>
                    <a:lnTo>
                      <a:pt x="11" y="860"/>
                    </a:lnTo>
                    <a:lnTo>
                      <a:pt x="4" y="880"/>
                    </a:lnTo>
                    <a:lnTo>
                      <a:pt x="0" y="899"/>
                    </a:lnTo>
                    <a:lnTo>
                      <a:pt x="2" y="918"/>
                    </a:lnTo>
                    <a:lnTo>
                      <a:pt x="3" y="919"/>
                    </a:lnTo>
                    <a:lnTo>
                      <a:pt x="4" y="920"/>
                    </a:lnTo>
                    <a:lnTo>
                      <a:pt x="6" y="922"/>
                    </a:lnTo>
                    <a:lnTo>
                      <a:pt x="7" y="923"/>
                    </a:lnTo>
                    <a:lnTo>
                      <a:pt x="8" y="943"/>
                    </a:lnTo>
                    <a:lnTo>
                      <a:pt x="11" y="962"/>
                    </a:lnTo>
                    <a:lnTo>
                      <a:pt x="16" y="982"/>
                    </a:lnTo>
                    <a:lnTo>
                      <a:pt x="22" y="1000"/>
                    </a:lnTo>
                    <a:lnTo>
                      <a:pt x="29" y="1019"/>
                    </a:lnTo>
                    <a:lnTo>
                      <a:pt x="37" y="1037"/>
                    </a:lnTo>
                    <a:lnTo>
                      <a:pt x="45" y="1054"/>
                    </a:lnTo>
                    <a:lnTo>
                      <a:pt x="54" y="1071"/>
                    </a:lnTo>
                    <a:lnTo>
                      <a:pt x="67" y="1088"/>
                    </a:lnTo>
                    <a:lnTo>
                      <a:pt x="82" y="1104"/>
                    </a:lnTo>
                    <a:lnTo>
                      <a:pt x="98" y="1117"/>
                    </a:lnTo>
                    <a:lnTo>
                      <a:pt x="115" y="1128"/>
                    </a:lnTo>
                    <a:lnTo>
                      <a:pt x="133" y="1137"/>
                    </a:lnTo>
                    <a:lnTo>
                      <a:pt x="153" y="1145"/>
                    </a:lnTo>
                    <a:lnTo>
                      <a:pt x="174" y="1152"/>
                    </a:lnTo>
                    <a:lnTo>
                      <a:pt x="196" y="1158"/>
                    </a:lnTo>
                    <a:lnTo>
                      <a:pt x="202" y="1159"/>
                    </a:lnTo>
                    <a:lnTo>
                      <a:pt x="209" y="1160"/>
                    </a:lnTo>
                    <a:lnTo>
                      <a:pt x="216" y="1161"/>
                    </a:lnTo>
                    <a:lnTo>
                      <a:pt x="223" y="1161"/>
                    </a:lnTo>
                    <a:lnTo>
                      <a:pt x="229" y="1161"/>
                    </a:lnTo>
                    <a:lnTo>
                      <a:pt x="236" y="1161"/>
                    </a:lnTo>
                    <a:lnTo>
                      <a:pt x="243" y="1161"/>
                    </a:lnTo>
                    <a:lnTo>
                      <a:pt x="250" y="1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5142960" y="1861200"/>
                <a:ext cx="1027440" cy="1200960"/>
              </a:xfrm>
              <a:custGeom>
                <a:avLst/>
                <a:gdLst/>
                <a:ahLst/>
                <a:rect l="l" t="t" r="r" b="b"/>
                <a:pathLst>
                  <a:path w="940" h="1100">
                    <a:moveTo>
                      <a:pt x="218" y="1100"/>
                    </a:moveTo>
                    <a:lnTo>
                      <a:pt x="230" y="1100"/>
                    </a:lnTo>
                    <a:lnTo>
                      <a:pt x="240" y="1098"/>
                    </a:lnTo>
                    <a:lnTo>
                      <a:pt x="252" y="1096"/>
                    </a:lnTo>
                    <a:lnTo>
                      <a:pt x="263" y="1094"/>
                    </a:lnTo>
                    <a:lnTo>
                      <a:pt x="274" y="1090"/>
                    </a:lnTo>
                    <a:lnTo>
                      <a:pt x="285" y="1087"/>
                    </a:lnTo>
                    <a:lnTo>
                      <a:pt x="296" y="1083"/>
                    </a:lnTo>
                    <a:lnTo>
                      <a:pt x="307" y="1081"/>
                    </a:lnTo>
                    <a:lnTo>
                      <a:pt x="314" y="1079"/>
                    </a:lnTo>
                    <a:lnTo>
                      <a:pt x="321" y="1079"/>
                    </a:lnTo>
                    <a:lnTo>
                      <a:pt x="327" y="1079"/>
                    </a:lnTo>
                    <a:lnTo>
                      <a:pt x="334" y="1077"/>
                    </a:lnTo>
                    <a:lnTo>
                      <a:pt x="346" y="1046"/>
                    </a:lnTo>
                    <a:lnTo>
                      <a:pt x="361" y="1018"/>
                    </a:lnTo>
                    <a:lnTo>
                      <a:pt x="376" y="990"/>
                    </a:lnTo>
                    <a:lnTo>
                      <a:pt x="392" y="962"/>
                    </a:lnTo>
                    <a:lnTo>
                      <a:pt x="408" y="937"/>
                    </a:lnTo>
                    <a:lnTo>
                      <a:pt x="426" y="911"/>
                    </a:lnTo>
                    <a:lnTo>
                      <a:pt x="442" y="884"/>
                    </a:lnTo>
                    <a:lnTo>
                      <a:pt x="458" y="858"/>
                    </a:lnTo>
                    <a:lnTo>
                      <a:pt x="466" y="843"/>
                    </a:lnTo>
                    <a:lnTo>
                      <a:pt x="474" y="829"/>
                    </a:lnTo>
                    <a:lnTo>
                      <a:pt x="483" y="814"/>
                    </a:lnTo>
                    <a:lnTo>
                      <a:pt x="491" y="800"/>
                    </a:lnTo>
                    <a:lnTo>
                      <a:pt x="509" y="774"/>
                    </a:lnTo>
                    <a:lnTo>
                      <a:pt x="525" y="747"/>
                    </a:lnTo>
                    <a:lnTo>
                      <a:pt x="542" y="722"/>
                    </a:lnTo>
                    <a:lnTo>
                      <a:pt x="560" y="697"/>
                    </a:lnTo>
                    <a:lnTo>
                      <a:pt x="578" y="671"/>
                    </a:lnTo>
                    <a:lnTo>
                      <a:pt x="596" y="646"/>
                    </a:lnTo>
                    <a:lnTo>
                      <a:pt x="615" y="622"/>
                    </a:lnTo>
                    <a:lnTo>
                      <a:pt x="634" y="597"/>
                    </a:lnTo>
                    <a:lnTo>
                      <a:pt x="654" y="573"/>
                    </a:lnTo>
                    <a:lnTo>
                      <a:pt x="674" y="548"/>
                    </a:lnTo>
                    <a:lnTo>
                      <a:pt x="694" y="523"/>
                    </a:lnTo>
                    <a:lnTo>
                      <a:pt x="716" y="499"/>
                    </a:lnTo>
                    <a:lnTo>
                      <a:pt x="738" y="475"/>
                    </a:lnTo>
                    <a:lnTo>
                      <a:pt x="760" y="450"/>
                    </a:lnTo>
                    <a:lnTo>
                      <a:pt x="783" y="425"/>
                    </a:lnTo>
                    <a:lnTo>
                      <a:pt x="806" y="400"/>
                    </a:lnTo>
                    <a:lnTo>
                      <a:pt x="820" y="389"/>
                    </a:lnTo>
                    <a:lnTo>
                      <a:pt x="832" y="378"/>
                    </a:lnTo>
                    <a:lnTo>
                      <a:pt x="845" y="367"/>
                    </a:lnTo>
                    <a:lnTo>
                      <a:pt x="859" y="355"/>
                    </a:lnTo>
                    <a:lnTo>
                      <a:pt x="870" y="344"/>
                    </a:lnTo>
                    <a:lnTo>
                      <a:pt x="883" y="333"/>
                    </a:lnTo>
                    <a:lnTo>
                      <a:pt x="896" y="322"/>
                    </a:lnTo>
                    <a:lnTo>
                      <a:pt x="907" y="311"/>
                    </a:lnTo>
                    <a:lnTo>
                      <a:pt x="909" y="309"/>
                    </a:lnTo>
                    <a:lnTo>
                      <a:pt x="912" y="307"/>
                    </a:lnTo>
                    <a:lnTo>
                      <a:pt x="914" y="306"/>
                    </a:lnTo>
                    <a:lnTo>
                      <a:pt x="916" y="305"/>
                    </a:lnTo>
                    <a:lnTo>
                      <a:pt x="917" y="303"/>
                    </a:lnTo>
                    <a:lnTo>
                      <a:pt x="919" y="302"/>
                    </a:lnTo>
                    <a:lnTo>
                      <a:pt x="920" y="300"/>
                    </a:lnTo>
                    <a:lnTo>
                      <a:pt x="921" y="299"/>
                    </a:lnTo>
                    <a:lnTo>
                      <a:pt x="935" y="288"/>
                    </a:lnTo>
                    <a:lnTo>
                      <a:pt x="936" y="287"/>
                    </a:lnTo>
                    <a:lnTo>
                      <a:pt x="938" y="286"/>
                    </a:lnTo>
                    <a:lnTo>
                      <a:pt x="939" y="285"/>
                    </a:lnTo>
                    <a:lnTo>
                      <a:pt x="940" y="283"/>
                    </a:lnTo>
                    <a:lnTo>
                      <a:pt x="928" y="249"/>
                    </a:lnTo>
                    <a:lnTo>
                      <a:pt x="917" y="215"/>
                    </a:lnTo>
                    <a:lnTo>
                      <a:pt x="906" y="182"/>
                    </a:lnTo>
                    <a:lnTo>
                      <a:pt x="894" y="147"/>
                    </a:lnTo>
                    <a:lnTo>
                      <a:pt x="881" y="116"/>
                    </a:lnTo>
                    <a:lnTo>
                      <a:pt x="863" y="86"/>
                    </a:lnTo>
                    <a:lnTo>
                      <a:pt x="843" y="60"/>
                    </a:lnTo>
                    <a:lnTo>
                      <a:pt x="816" y="37"/>
                    </a:lnTo>
                    <a:lnTo>
                      <a:pt x="798" y="27"/>
                    </a:lnTo>
                    <a:lnTo>
                      <a:pt x="777" y="21"/>
                    </a:lnTo>
                    <a:lnTo>
                      <a:pt x="756" y="15"/>
                    </a:lnTo>
                    <a:lnTo>
                      <a:pt x="734" y="10"/>
                    </a:lnTo>
                    <a:lnTo>
                      <a:pt x="711" y="7"/>
                    </a:lnTo>
                    <a:lnTo>
                      <a:pt x="689" y="3"/>
                    </a:lnTo>
                    <a:lnTo>
                      <a:pt x="666" y="2"/>
                    </a:lnTo>
                    <a:lnTo>
                      <a:pt x="644" y="0"/>
                    </a:lnTo>
                    <a:lnTo>
                      <a:pt x="631" y="11"/>
                    </a:lnTo>
                    <a:lnTo>
                      <a:pt x="616" y="24"/>
                    </a:lnTo>
                    <a:lnTo>
                      <a:pt x="600" y="38"/>
                    </a:lnTo>
                    <a:lnTo>
                      <a:pt x="583" y="53"/>
                    </a:lnTo>
                    <a:lnTo>
                      <a:pt x="567" y="68"/>
                    </a:lnTo>
                    <a:lnTo>
                      <a:pt x="551" y="83"/>
                    </a:lnTo>
                    <a:lnTo>
                      <a:pt x="535" y="98"/>
                    </a:lnTo>
                    <a:lnTo>
                      <a:pt x="521" y="110"/>
                    </a:lnTo>
                    <a:lnTo>
                      <a:pt x="509" y="125"/>
                    </a:lnTo>
                    <a:lnTo>
                      <a:pt x="496" y="140"/>
                    </a:lnTo>
                    <a:lnTo>
                      <a:pt x="484" y="155"/>
                    </a:lnTo>
                    <a:lnTo>
                      <a:pt x="473" y="169"/>
                    </a:lnTo>
                    <a:lnTo>
                      <a:pt x="463" y="184"/>
                    </a:lnTo>
                    <a:lnTo>
                      <a:pt x="453" y="199"/>
                    </a:lnTo>
                    <a:lnTo>
                      <a:pt x="444" y="215"/>
                    </a:lnTo>
                    <a:lnTo>
                      <a:pt x="437" y="231"/>
                    </a:lnTo>
                    <a:lnTo>
                      <a:pt x="559" y="320"/>
                    </a:lnTo>
                    <a:lnTo>
                      <a:pt x="571" y="329"/>
                    </a:lnTo>
                    <a:lnTo>
                      <a:pt x="583" y="337"/>
                    </a:lnTo>
                    <a:lnTo>
                      <a:pt x="595" y="346"/>
                    </a:lnTo>
                    <a:lnTo>
                      <a:pt x="606" y="354"/>
                    </a:lnTo>
                    <a:lnTo>
                      <a:pt x="618" y="363"/>
                    </a:lnTo>
                    <a:lnTo>
                      <a:pt x="630" y="372"/>
                    </a:lnTo>
                    <a:lnTo>
                      <a:pt x="641" y="383"/>
                    </a:lnTo>
                    <a:lnTo>
                      <a:pt x="653" y="393"/>
                    </a:lnTo>
                    <a:lnTo>
                      <a:pt x="659" y="401"/>
                    </a:lnTo>
                    <a:lnTo>
                      <a:pt x="665" y="409"/>
                    </a:lnTo>
                    <a:lnTo>
                      <a:pt x="672" y="417"/>
                    </a:lnTo>
                    <a:lnTo>
                      <a:pt x="679" y="424"/>
                    </a:lnTo>
                    <a:lnTo>
                      <a:pt x="685" y="432"/>
                    </a:lnTo>
                    <a:lnTo>
                      <a:pt x="692" y="440"/>
                    </a:lnTo>
                    <a:lnTo>
                      <a:pt x="697" y="447"/>
                    </a:lnTo>
                    <a:lnTo>
                      <a:pt x="703" y="455"/>
                    </a:lnTo>
                    <a:lnTo>
                      <a:pt x="700" y="467"/>
                    </a:lnTo>
                    <a:lnTo>
                      <a:pt x="699" y="468"/>
                    </a:lnTo>
                    <a:lnTo>
                      <a:pt x="696" y="469"/>
                    </a:lnTo>
                    <a:lnTo>
                      <a:pt x="695" y="471"/>
                    </a:lnTo>
                    <a:lnTo>
                      <a:pt x="693" y="473"/>
                    </a:lnTo>
                    <a:lnTo>
                      <a:pt x="685" y="482"/>
                    </a:lnTo>
                    <a:lnTo>
                      <a:pt x="677" y="476"/>
                    </a:lnTo>
                    <a:lnTo>
                      <a:pt x="670" y="470"/>
                    </a:lnTo>
                    <a:lnTo>
                      <a:pt x="664" y="464"/>
                    </a:lnTo>
                    <a:lnTo>
                      <a:pt x="659" y="456"/>
                    </a:lnTo>
                    <a:lnTo>
                      <a:pt x="644" y="440"/>
                    </a:lnTo>
                    <a:lnTo>
                      <a:pt x="631" y="425"/>
                    </a:lnTo>
                    <a:lnTo>
                      <a:pt x="616" y="412"/>
                    </a:lnTo>
                    <a:lnTo>
                      <a:pt x="601" y="398"/>
                    </a:lnTo>
                    <a:lnTo>
                      <a:pt x="585" y="385"/>
                    </a:lnTo>
                    <a:lnTo>
                      <a:pt x="570" y="372"/>
                    </a:lnTo>
                    <a:lnTo>
                      <a:pt x="554" y="360"/>
                    </a:lnTo>
                    <a:lnTo>
                      <a:pt x="537" y="347"/>
                    </a:lnTo>
                    <a:lnTo>
                      <a:pt x="521" y="336"/>
                    </a:lnTo>
                    <a:lnTo>
                      <a:pt x="505" y="325"/>
                    </a:lnTo>
                    <a:lnTo>
                      <a:pt x="489" y="314"/>
                    </a:lnTo>
                    <a:lnTo>
                      <a:pt x="473" y="302"/>
                    </a:lnTo>
                    <a:lnTo>
                      <a:pt x="457" y="292"/>
                    </a:lnTo>
                    <a:lnTo>
                      <a:pt x="441" y="282"/>
                    </a:lnTo>
                    <a:lnTo>
                      <a:pt x="425" y="270"/>
                    </a:lnTo>
                    <a:lnTo>
                      <a:pt x="408" y="260"/>
                    </a:lnTo>
                    <a:lnTo>
                      <a:pt x="407" y="260"/>
                    </a:lnTo>
                    <a:lnTo>
                      <a:pt x="407" y="260"/>
                    </a:lnTo>
                    <a:lnTo>
                      <a:pt x="406" y="260"/>
                    </a:lnTo>
                    <a:lnTo>
                      <a:pt x="405" y="260"/>
                    </a:lnTo>
                    <a:lnTo>
                      <a:pt x="389" y="265"/>
                    </a:lnTo>
                    <a:lnTo>
                      <a:pt x="373" y="274"/>
                    </a:lnTo>
                    <a:lnTo>
                      <a:pt x="357" y="282"/>
                    </a:lnTo>
                    <a:lnTo>
                      <a:pt x="342" y="291"/>
                    </a:lnTo>
                    <a:lnTo>
                      <a:pt x="327" y="301"/>
                    </a:lnTo>
                    <a:lnTo>
                      <a:pt x="313" y="313"/>
                    </a:lnTo>
                    <a:lnTo>
                      <a:pt x="299" y="324"/>
                    </a:lnTo>
                    <a:lnTo>
                      <a:pt x="285" y="337"/>
                    </a:lnTo>
                    <a:lnTo>
                      <a:pt x="273" y="351"/>
                    </a:lnTo>
                    <a:lnTo>
                      <a:pt x="260" y="364"/>
                    </a:lnTo>
                    <a:lnTo>
                      <a:pt x="247" y="378"/>
                    </a:lnTo>
                    <a:lnTo>
                      <a:pt x="236" y="392"/>
                    </a:lnTo>
                    <a:lnTo>
                      <a:pt x="224" y="406"/>
                    </a:lnTo>
                    <a:lnTo>
                      <a:pt x="214" y="421"/>
                    </a:lnTo>
                    <a:lnTo>
                      <a:pt x="202" y="435"/>
                    </a:lnTo>
                    <a:lnTo>
                      <a:pt x="192" y="448"/>
                    </a:lnTo>
                    <a:lnTo>
                      <a:pt x="183" y="466"/>
                    </a:lnTo>
                    <a:lnTo>
                      <a:pt x="170" y="484"/>
                    </a:lnTo>
                    <a:lnTo>
                      <a:pt x="157" y="502"/>
                    </a:lnTo>
                    <a:lnTo>
                      <a:pt x="145" y="521"/>
                    </a:lnTo>
                    <a:lnTo>
                      <a:pt x="134" y="539"/>
                    </a:lnTo>
                    <a:lnTo>
                      <a:pt x="127" y="559"/>
                    </a:lnTo>
                    <a:lnTo>
                      <a:pt x="125" y="578"/>
                    </a:lnTo>
                    <a:lnTo>
                      <a:pt x="129" y="598"/>
                    </a:lnTo>
                    <a:lnTo>
                      <a:pt x="133" y="605"/>
                    </a:lnTo>
                    <a:lnTo>
                      <a:pt x="139" y="611"/>
                    </a:lnTo>
                    <a:lnTo>
                      <a:pt x="145" y="617"/>
                    </a:lnTo>
                    <a:lnTo>
                      <a:pt x="150" y="623"/>
                    </a:lnTo>
                    <a:lnTo>
                      <a:pt x="156" y="629"/>
                    </a:lnTo>
                    <a:lnTo>
                      <a:pt x="162" y="635"/>
                    </a:lnTo>
                    <a:lnTo>
                      <a:pt x="168" y="642"/>
                    </a:lnTo>
                    <a:lnTo>
                      <a:pt x="172" y="647"/>
                    </a:lnTo>
                    <a:lnTo>
                      <a:pt x="187" y="661"/>
                    </a:lnTo>
                    <a:lnTo>
                      <a:pt x="202" y="675"/>
                    </a:lnTo>
                    <a:lnTo>
                      <a:pt x="217" y="688"/>
                    </a:lnTo>
                    <a:lnTo>
                      <a:pt x="231" y="701"/>
                    </a:lnTo>
                    <a:lnTo>
                      <a:pt x="245" y="714"/>
                    </a:lnTo>
                    <a:lnTo>
                      <a:pt x="260" y="727"/>
                    </a:lnTo>
                    <a:lnTo>
                      <a:pt x="274" y="738"/>
                    </a:lnTo>
                    <a:lnTo>
                      <a:pt x="289" y="750"/>
                    </a:lnTo>
                    <a:lnTo>
                      <a:pt x="304" y="761"/>
                    </a:lnTo>
                    <a:lnTo>
                      <a:pt x="319" y="772"/>
                    </a:lnTo>
                    <a:lnTo>
                      <a:pt x="334" y="782"/>
                    </a:lnTo>
                    <a:lnTo>
                      <a:pt x="350" y="791"/>
                    </a:lnTo>
                    <a:lnTo>
                      <a:pt x="367" y="800"/>
                    </a:lnTo>
                    <a:lnTo>
                      <a:pt x="384" y="808"/>
                    </a:lnTo>
                    <a:lnTo>
                      <a:pt x="403" y="816"/>
                    </a:lnTo>
                    <a:lnTo>
                      <a:pt x="421" y="823"/>
                    </a:lnTo>
                    <a:lnTo>
                      <a:pt x="423" y="826"/>
                    </a:lnTo>
                    <a:lnTo>
                      <a:pt x="427" y="828"/>
                    </a:lnTo>
                    <a:lnTo>
                      <a:pt x="428" y="831"/>
                    </a:lnTo>
                    <a:lnTo>
                      <a:pt x="428" y="836"/>
                    </a:lnTo>
                    <a:lnTo>
                      <a:pt x="425" y="842"/>
                    </a:lnTo>
                    <a:lnTo>
                      <a:pt x="420" y="846"/>
                    </a:lnTo>
                    <a:lnTo>
                      <a:pt x="414" y="851"/>
                    </a:lnTo>
                    <a:lnTo>
                      <a:pt x="408" y="854"/>
                    </a:lnTo>
                    <a:lnTo>
                      <a:pt x="395" y="850"/>
                    </a:lnTo>
                    <a:lnTo>
                      <a:pt x="381" y="845"/>
                    </a:lnTo>
                    <a:lnTo>
                      <a:pt x="368" y="839"/>
                    </a:lnTo>
                    <a:lnTo>
                      <a:pt x="355" y="833"/>
                    </a:lnTo>
                    <a:lnTo>
                      <a:pt x="343" y="827"/>
                    </a:lnTo>
                    <a:lnTo>
                      <a:pt x="331" y="820"/>
                    </a:lnTo>
                    <a:lnTo>
                      <a:pt x="320" y="813"/>
                    </a:lnTo>
                    <a:lnTo>
                      <a:pt x="309" y="805"/>
                    </a:lnTo>
                    <a:lnTo>
                      <a:pt x="298" y="798"/>
                    </a:lnTo>
                    <a:lnTo>
                      <a:pt x="288" y="790"/>
                    </a:lnTo>
                    <a:lnTo>
                      <a:pt x="276" y="782"/>
                    </a:lnTo>
                    <a:lnTo>
                      <a:pt x="266" y="774"/>
                    </a:lnTo>
                    <a:lnTo>
                      <a:pt x="255" y="766"/>
                    </a:lnTo>
                    <a:lnTo>
                      <a:pt x="245" y="757"/>
                    </a:lnTo>
                    <a:lnTo>
                      <a:pt x="233" y="749"/>
                    </a:lnTo>
                    <a:lnTo>
                      <a:pt x="223" y="740"/>
                    </a:lnTo>
                    <a:lnTo>
                      <a:pt x="221" y="739"/>
                    </a:lnTo>
                    <a:lnTo>
                      <a:pt x="218" y="738"/>
                    </a:lnTo>
                    <a:lnTo>
                      <a:pt x="217" y="738"/>
                    </a:lnTo>
                    <a:lnTo>
                      <a:pt x="215" y="737"/>
                    </a:lnTo>
                    <a:lnTo>
                      <a:pt x="114" y="638"/>
                    </a:lnTo>
                    <a:lnTo>
                      <a:pt x="100" y="658"/>
                    </a:lnTo>
                    <a:lnTo>
                      <a:pt x="86" y="677"/>
                    </a:lnTo>
                    <a:lnTo>
                      <a:pt x="74" y="698"/>
                    </a:lnTo>
                    <a:lnTo>
                      <a:pt x="63" y="720"/>
                    </a:lnTo>
                    <a:lnTo>
                      <a:pt x="51" y="742"/>
                    </a:lnTo>
                    <a:lnTo>
                      <a:pt x="41" y="765"/>
                    </a:lnTo>
                    <a:lnTo>
                      <a:pt x="31" y="788"/>
                    </a:lnTo>
                    <a:lnTo>
                      <a:pt x="20" y="812"/>
                    </a:lnTo>
                    <a:lnTo>
                      <a:pt x="0" y="869"/>
                    </a:lnTo>
                    <a:lnTo>
                      <a:pt x="4" y="892"/>
                    </a:lnTo>
                    <a:lnTo>
                      <a:pt x="10" y="916"/>
                    </a:lnTo>
                    <a:lnTo>
                      <a:pt x="15" y="941"/>
                    </a:lnTo>
                    <a:lnTo>
                      <a:pt x="21" y="965"/>
                    </a:lnTo>
                    <a:lnTo>
                      <a:pt x="30" y="989"/>
                    </a:lnTo>
                    <a:lnTo>
                      <a:pt x="40" y="1011"/>
                    </a:lnTo>
                    <a:lnTo>
                      <a:pt x="53" y="1030"/>
                    </a:lnTo>
                    <a:lnTo>
                      <a:pt x="69" y="1048"/>
                    </a:lnTo>
                    <a:lnTo>
                      <a:pt x="84" y="1060"/>
                    </a:lnTo>
                    <a:lnTo>
                      <a:pt x="100" y="1071"/>
                    </a:lnTo>
                    <a:lnTo>
                      <a:pt x="118" y="1080"/>
                    </a:lnTo>
                    <a:lnTo>
                      <a:pt x="138" y="1088"/>
                    </a:lnTo>
                    <a:lnTo>
                      <a:pt x="157" y="1094"/>
                    </a:lnTo>
                    <a:lnTo>
                      <a:pt x="178" y="1097"/>
                    </a:lnTo>
                    <a:lnTo>
                      <a:pt x="199" y="1099"/>
                    </a:lnTo>
                    <a:lnTo>
                      <a:pt x="218" y="1100"/>
                    </a:lnTo>
                    <a:close/>
                  </a:path>
                </a:pathLst>
              </a:custGeom>
              <a:solidFill>
                <a:srgbClr val="d39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5930640" y="2449800"/>
                <a:ext cx="51840" cy="7164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3"/>
                    </a:lnTo>
                    <a:lnTo>
                      <a:pt x="41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1" y="55"/>
                    </a:lnTo>
                    <a:lnTo>
                      <a:pt x="34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5832000" y="2532960"/>
                <a:ext cx="50400" cy="7164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3"/>
                    </a:lnTo>
                    <a:lnTo>
                      <a:pt x="23" y="66"/>
                    </a:lnTo>
                    <a:lnTo>
                      <a:pt x="14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5740560" y="261108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3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3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5841360" y="2329920"/>
                <a:ext cx="49680" cy="7200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7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753520" y="2417400"/>
                <a:ext cx="50400" cy="6948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4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2"/>
                    </a:lnTo>
                    <a:lnTo>
                      <a:pt x="23" y="65"/>
                    </a:lnTo>
                    <a:lnTo>
                      <a:pt x="14" y="62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5650920" y="2491560"/>
                <a:ext cx="52200" cy="7164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4" y="0"/>
                    </a:moveTo>
                    <a:lnTo>
                      <a:pt x="32" y="2"/>
                    </a:lnTo>
                    <a:lnTo>
                      <a:pt x="39" y="9"/>
                    </a:lnTo>
                    <a:lnTo>
                      <a:pt x="44" y="20"/>
                    </a:lnTo>
                    <a:lnTo>
                      <a:pt x="46" y="32"/>
                    </a:lnTo>
                    <a:lnTo>
                      <a:pt x="44" y="45"/>
                    </a:lnTo>
                    <a:lnTo>
                      <a:pt x="39" y="55"/>
                    </a:lnTo>
                    <a:lnTo>
                      <a:pt x="32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5749560" y="2244960"/>
                <a:ext cx="49680" cy="738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5650920" y="2310480"/>
                <a:ext cx="50400" cy="7164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23" y="0"/>
                    </a:moveTo>
                    <a:lnTo>
                      <a:pt x="32" y="3"/>
                    </a:lnTo>
                    <a:lnTo>
                      <a:pt x="39" y="10"/>
                    </a:lnTo>
                    <a:lnTo>
                      <a:pt x="44" y="21"/>
                    </a:lnTo>
                    <a:lnTo>
                      <a:pt x="45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5"/>
                    </a:lnTo>
                    <a:lnTo>
                      <a:pt x="23" y="67"/>
                    </a:lnTo>
                    <a:lnTo>
                      <a:pt x="14" y="65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10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561640" y="2408400"/>
                <a:ext cx="50400" cy="7200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3" y="0"/>
                    </a:moveTo>
                    <a:lnTo>
                      <a:pt x="32" y="3"/>
                    </a:lnTo>
                    <a:lnTo>
                      <a:pt x="39" y="9"/>
                    </a:lnTo>
                    <a:lnTo>
                      <a:pt x="44" y="21"/>
                    </a:lnTo>
                    <a:lnTo>
                      <a:pt x="46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4"/>
                    </a:lnTo>
                    <a:lnTo>
                      <a:pt x="23" y="66"/>
                    </a:lnTo>
                    <a:lnTo>
                      <a:pt x="14" y="64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...denken: „Auw“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Vrouw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5410080" y="1828800"/>
            <a:ext cx="1050840" cy="1218600"/>
            <a:chOff x="5410080" y="1828800"/>
            <a:chExt cx="1050840" cy="12186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474160" y="1911960"/>
              <a:ext cx="986760" cy="113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5410080" y="1828800"/>
              <a:ext cx="980640" cy="1125360"/>
              <a:chOff x="5410080" y="1828800"/>
              <a:chExt cx="980640" cy="11253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5410080" y="1828800"/>
                <a:ext cx="980640" cy="1125360"/>
              </a:xfrm>
              <a:custGeom>
                <a:avLst/>
                <a:gdLst/>
                <a:ahLst/>
                <a:rect l="l" t="t" r="r" b="b"/>
                <a:pathLst>
                  <a:path w="1012" h="1163">
                    <a:moveTo>
                      <a:pt x="250" y="1163"/>
                    </a:moveTo>
                    <a:lnTo>
                      <a:pt x="266" y="1163"/>
                    </a:lnTo>
                    <a:lnTo>
                      <a:pt x="281" y="1161"/>
                    </a:lnTo>
                    <a:lnTo>
                      <a:pt x="297" y="1159"/>
                    </a:lnTo>
                    <a:lnTo>
                      <a:pt x="313" y="1156"/>
                    </a:lnTo>
                    <a:lnTo>
                      <a:pt x="329" y="1152"/>
                    </a:lnTo>
                    <a:lnTo>
                      <a:pt x="344" y="1146"/>
                    </a:lnTo>
                    <a:lnTo>
                      <a:pt x="359" y="1142"/>
                    </a:lnTo>
                    <a:lnTo>
                      <a:pt x="373" y="1136"/>
                    </a:lnTo>
                    <a:lnTo>
                      <a:pt x="374" y="1136"/>
                    </a:lnTo>
                    <a:lnTo>
                      <a:pt x="375" y="1136"/>
                    </a:lnTo>
                    <a:lnTo>
                      <a:pt x="376" y="1138"/>
                    </a:lnTo>
                    <a:lnTo>
                      <a:pt x="377" y="1140"/>
                    </a:lnTo>
                    <a:lnTo>
                      <a:pt x="383" y="1140"/>
                    </a:lnTo>
                    <a:lnTo>
                      <a:pt x="390" y="1140"/>
                    </a:lnTo>
                    <a:lnTo>
                      <a:pt x="396" y="1137"/>
                    </a:lnTo>
                    <a:lnTo>
                      <a:pt x="402" y="1134"/>
                    </a:lnTo>
                    <a:lnTo>
                      <a:pt x="429" y="1077"/>
                    </a:lnTo>
                    <a:lnTo>
                      <a:pt x="458" y="1021"/>
                    </a:lnTo>
                    <a:lnTo>
                      <a:pt x="487" y="967"/>
                    </a:lnTo>
                    <a:lnTo>
                      <a:pt x="518" y="912"/>
                    </a:lnTo>
                    <a:lnTo>
                      <a:pt x="550" y="859"/>
                    </a:lnTo>
                    <a:lnTo>
                      <a:pt x="584" y="806"/>
                    </a:lnTo>
                    <a:lnTo>
                      <a:pt x="618" y="754"/>
                    </a:lnTo>
                    <a:lnTo>
                      <a:pt x="655" y="702"/>
                    </a:lnTo>
                    <a:lnTo>
                      <a:pt x="693" y="653"/>
                    </a:lnTo>
                    <a:lnTo>
                      <a:pt x="732" y="604"/>
                    </a:lnTo>
                    <a:lnTo>
                      <a:pt x="774" y="555"/>
                    </a:lnTo>
                    <a:lnTo>
                      <a:pt x="817" y="508"/>
                    </a:lnTo>
                    <a:lnTo>
                      <a:pt x="862" y="462"/>
                    </a:lnTo>
                    <a:lnTo>
                      <a:pt x="911" y="417"/>
                    </a:lnTo>
                    <a:lnTo>
                      <a:pt x="960" y="372"/>
                    </a:lnTo>
                    <a:lnTo>
                      <a:pt x="1012" y="330"/>
                    </a:lnTo>
                    <a:lnTo>
                      <a:pt x="1010" y="299"/>
                    </a:lnTo>
                    <a:lnTo>
                      <a:pt x="1005" y="267"/>
                    </a:lnTo>
                    <a:lnTo>
                      <a:pt x="997" y="237"/>
                    </a:lnTo>
                    <a:lnTo>
                      <a:pt x="988" y="206"/>
                    </a:lnTo>
                    <a:lnTo>
                      <a:pt x="975" y="177"/>
                    </a:lnTo>
                    <a:lnTo>
                      <a:pt x="962" y="148"/>
                    </a:lnTo>
                    <a:lnTo>
                      <a:pt x="949" y="122"/>
                    </a:lnTo>
                    <a:lnTo>
                      <a:pt x="934" y="98"/>
                    </a:lnTo>
                    <a:lnTo>
                      <a:pt x="915" y="79"/>
                    </a:lnTo>
                    <a:lnTo>
                      <a:pt x="897" y="64"/>
                    </a:lnTo>
                    <a:lnTo>
                      <a:pt x="876" y="50"/>
                    </a:lnTo>
                    <a:lnTo>
                      <a:pt x="855" y="39"/>
                    </a:lnTo>
                    <a:lnTo>
                      <a:pt x="834" y="29"/>
                    </a:lnTo>
                    <a:lnTo>
                      <a:pt x="812" y="19"/>
                    </a:lnTo>
                    <a:lnTo>
                      <a:pt x="790" y="12"/>
                    </a:lnTo>
                    <a:lnTo>
                      <a:pt x="767" y="4"/>
                    </a:lnTo>
                    <a:lnTo>
                      <a:pt x="749" y="1"/>
                    </a:lnTo>
                    <a:lnTo>
                      <a:pt x="730" y="0"/>
                    </a:lnTo>
                    <a:lnTo>
                      <a:pt x="711" y="0"/>
                    </a:lnTo>
                    <a:lnTo>
                      <a:pt x="692" y="2"/>
                    </a:lnTo>
                    <a:lnTo>
                      <a:pt x="672" y="7"/>
                    </a:lnTo>
                    <a:lnTo>
                      <a:pt x="655" y="12"/>
                    </a:lnTo>
                    <a:lnTo>
                      <a:pt x="638" y="20"/>
                    </a:lnTo>
                    <a:lnTo>
                      <a:pt x="624" y="30"/>
                    </a:lnTo>
                    <a:lnTo>
                      <a:pt x="600" y="54"/>
                    </a:lnTo>
                    <a:lnTo>
                      <a:pt x="576" y="78"/>
                    </a:lnTo>
                    <a:lnTo>
                      <a:pt x="551" y="102"/>
                    </a:lnTo>
                    <a:lnTo>
                      <a:pt x="527" y="127"/>
                    </a:lnTo>
                    <a:lnTo>
                      <a:pt x="504" y="153"/>
                    </a:lnTo>
                    <a:lnTo>
                      <a:pt x="482" y="178"/>
                    </a:lnTo>
                    <a:lnTo>
                      <a:pt x="463" y="204"/>
                    </a:lnTo>
                    <a:lnTo>
                      <a:pt x="445" y="230"/>
                    </a:lnTo>
                    <a:lnTo>
                      <a:pt x="435" y="246"/>
                    </a:lnTo>
                    <a:lnTo>
                      <a:pt x="421" y="259"/>
                    </a:lnTo>
                    <a:lnTo>
                      <a:pt x="405" y="269"/>
                    </a:lnTo>
                    <a:lnTo>
                      <a:pt x="388" y="278"/>
                    </a:lnTo>
                    <a:lnTo>
                      <a:pt x="371" y="286"/>
                    </a:lnTo>
                    <a:lnTo>
                      <a:pt x="353" y="295"/>
                    </a:lnTo>
                    <a:lnTo>
                      <a:pt x="337" y="307"/>
                    </a:lnTo>
                    <a:lnTo>
                      <a:pt x="325" y="321"/>
                    </a:lnTo>
                    <a:lnTo>
                      <a:pt x="320" y="324"/>
                    </a:lnTo>
                    <a:lnTo>
                      <a:pt x="314" y="329"/>
                    </a:lnTo>
                    <a:lnTo>
                      <a:pt x="311" y="332"/>
                    </a:lnTo>
                    <a:lnTo>
                      <a:pt x="306" y="337"/>
                    </a:lnTo>
                    <a:lnTo>
                      <a:pt x="301" y="341"/>
                    </a:lnTo>
                    <a:lnTo>
                      <a:pt x="297" y="346"/>
                    </a:lnTo>
                    <a:lnTo>
                      <a:pt x="292" y="349"/>
                    </a:lnTo>
                    <a:lnTo>
                      <a:pt x="288" y="354"/>
                    </a:lnTo>
                    <a:lnTo>
                      <a:pt x="261" y="386"/>
                    </a:lnTo>
                    <a:lnTo>
                      <a:pt x="236" y="417"/>
                    </a:lnTo>
                    <a:lnTo>
                      <a:pt x="212" y="448"/>
                    </a:lnTo>
                    <a:lnTo>
                      <a:pt x="190" y="481"/>
                    </a:lnTo>
                    <a:lnTo>
                      <a:pt x="169" y="513"/>
                    </a:lnTo>
                    <a:lnTo>
                      <a:pt x="151" y="547"/>
                    </a:lnTo>
                    <a:lnTo>
                      <a:pt x="134" y="583"/>
                    </a:lnTo>
                    <a:lnTo>
                      <a:pt x="122" y="622"/>
                    </a:lnTo>
                    <a:lnTo>
                      <a:pt x="124" y="627"/>
                    </a:lnTo>
                    <a:lnTo>
                      <a:pt x="125" y="630"/>
                    </a:lnTo>
                    <a:lnTo>
                      <a:pt x="128" y="635"/>
                    </a:lnTo>
                    <a:lnTo>
                      <a:pt x="129" y="639"/>
                    </a:lnTo>
                    <a:lnTo>
                      <a:pt x="129" y="640"/>
                    </a:lnTo>
                    <a:lnTo>
                      <a:pt x="129" y="640"/>
                    </a:lnTo>
                    <a:lnTo>
                      <a:pt x="129" y="642"/>
                    </a:lnTo>
                    <a:lnTo>
                      <a:pt x="128" y="643"/>
                    </a:lnTo>
                    <a:lnTo>
                      <a:pt x="121" y="646"/>
                    </a:lnTo>
                    <a:lnTo>
                      <a:pt x="107" y="668"/>
                    </a:lnTo>
                    <a:lnTo>
                      <a:pt x="93" y="691"/>
                    </a:lnTo>
                    <a:lnTo>
                      <a:pt x="79" y="715"/>
                    </a:lnTo>
                    <a:lnTo>
                      <a:pt x="67" y="739"/>
                    </a:lnTo>
                    <a:lnTo>
                      <a:pt x="55" y="765"/>
                    </a:lnTo>
                    <a:lnTo>
                      <a:pt x="42" y="790"/>
                    </a:lnTo>
                    <a:lnTo>
                      <a:pt x="30" y="815"/>
                    </a:lnTo>
                    <a:lnTo>
                      <a:pt x="18" y="841"/>
                    </a:lnTo>
                    <a:lnTo>
                      <a:pt x="11" y="860"/>
                    </a:lnTo>
                    <a:lnTo>
                      <a:pt x="4" y="880"/>
                    </a:lnTo>
                    <a:lnTo>
                      <a:pt x="0" y="899"/>
                    </a:lnTo>
                    <a:lnTo>
                      <a:pt x="2" y="918"/>
                    </a:lnTo>
                    <a:lnTo>
                      <a:pt x="3" y="919"/>
                    </a:lnTo>
                    <a:lnTo>
                      <a:pt x="4" y="920"/>
                    </a:lnTo>
                    <a:lnTo>
                      <a:pt x="6" y="922"/>
                    </a:lnTo>
                    <a:lnTo>
                      <a:pt x="7" y="923"/>
                    </a:lnTo>
                    <a:lnTo>
                      <a:pt x="8" y="943"/>
                    </a:lnTo>
                    <a:lnTo>
                      <a:pt x="11" y="962"/>
                    </a:lnTo>
                    <a:lnTo>
                      <a:pt x="16" y="982"/>
                    </a:lnTo>
                    <a:lnTo>
                      <a:pt x="22" y="1000"/>
                    </a:lnTo>
                    <a:lnTo>
                      <a:pt x="29" y="1019"/>
                    </a:lnTo>
                    <a:lnTo>
                      <a:pt x="37" y="1037"/>
                    </a:lnTo>
                    <a:lnTo>
                      <a:pt x="45" y="1054"/>
                    </a:lnTo>
                    <a:lnTo>
                      <a:pt x="54" y="1071"/>
                    </a:lnTo>
                    <a:lnTo>
                      <a:pt x="67" y="1088"/>
                    </a:lnTo>
                    <a:lnTo>
                      <a:pt x="82" y="1104"/>
                    </a:lnTo>
                    <a:lnTo>
                      <a:pt x="98" y="1117"/>
                    </a:lnTo>
                    <a:lnTo>
                      <a:pt x="115" y="1128"/>
                    </a:lnTo>
                    <a:lnTo>
                      <a:pt x="133" y="1137"/>
                    </a:lnTo>
                    <a:lnTo>
                      <a:pt x="153" y="1145"/>
                    </a:lnTo>
                    <a:lnTo>
                      <a:pt x="174" y="1152"/>
                    </a:lnTo>
                    <a:lnTo>
                      <a:pt x="196" y="1158"/>
                    </a:lnTo>
                    <a:lnTo>
                      <a:pt x="202" y="1159"/>
                    </a:lnTo>
                    <a:lnTo>
                      <a:pt x="209" y="1160"/>
                    </a:lnTo>
                    <a:lnTo>
                      <a:pt x="216" y="1161"/>
                    </a:lnTo>
                    <a:lnTo>
                      <a:pt x="223" y="1161"/>
                    </a:lnTo>
                    <a:lnTo>
                      <a:pt x="229" y="1161"/>
                    </a:lnTo>
                    <a:lnTo>
                      <a:pt x="236" y="1161"/>
                    </a:lnTo>
                    <a:lnTo>
                      <a:pt x="243" y="1161"/>
                    </a:lnTo>
                    <a:lnTo>
                      <a:pt x="250" y="1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5443200" y="1857600"/>
                <a:ext cx="912960" cy="1067400"/>
              </a:xfrm>
              <a:custGeom>
                <a:avLst/>
                <a:gdLst/>
                <a:ahLst/>
                <a:rect l="l" t="t" r="r" b="b"/>
                <a:pathLst>
                  <a:path w="940" h="1100">
                    <a:moveTo>
                      <a:pt x="218" y="1100"/>
                    </a:moveTo>
                    <a:lnTo>
                      <a:pt x="230" y="1100"/>
                    </a:lnTo>
                    <a:lnTo>
                      <a:pt x="240" y="1098"/>
                    </a:lnTo>
                    <a:lnTo>
                      <a:pt x="252" y="1096"/>
                    </a:lnTo>
                    <a:lnTo>
                      <a:pt x="263" y="1094"/>
                    </a:lnTo>
                    <a:lnTo>
                      <a:pt x="274" y="1090"/>
                    </a:lnTo>
                    <a:lnTo>
                      <a:pt x="285" y="1087"/>
                    </a:lnTo>
                    <a:lnTo>
                      <a:pt x="296" y="1083"/>
                    </a:lnTo>
                    <a:lnTo>
                      <a:pt x="307" y="1081"/>
                    </a:lnTo>
                    <a:lnTo>
                      <a:pt x="314" y="1079"/>
                    </a:lnTo>
                    <a:lnTo>
                      <a:pt x="321" y="1079"/>
                    </a:lnTo>
                    <a:lnTo>
                      <a:pt x="327" y="1079"/>
                    </a:lnTo>
                    <a:lnTo>
                      <a:pt x="334" y="1077"/>
                    </a:lnTo>
                    <a:lnTo>
                      <a:pt x="346" y="1046"/>
                    </a:lnTo>
                    <a:lnTo>
                      <a:pt x="361" y="1018"/>
                    </a:lnTo>
                    <a:lnTo>
                      <a:pt x="376" y="990"/>
                    </a:lnTo>
                    <a:lnTo>
                      <a:pt x="392" y="962"/>
                    </a:lnTo>
                    <a:lnTo>
                      <a:pt x="408" y="937"/>
                    </a:lnTo>
                    <a:lnTo>
                      <a:pt x="426" y="911"/>
                    </a:lnTo>
                    <a:lnTo>
                      <a:pt x="442" y="884"/>
                    </a:lnTo>
                    <a:lnTo>
                      <a:pt x="458" y="858"/>
                    </a:lnTo>
                    <a:lnTo>
                      <a:pt x="466" y="843"/>
                    </a:lnTo>
                    <a:lnTo>
                      <a:pt x="474" y="829"/>
                    </a:lnTo>
                    <a:lnTo>
                      <a:pt x="483" y="814"/>
                    </a:lnTo>
                    <a:lnTo>
                      <a:pt x="491" y="800"/>
                    </a:lnTo>
                    <a:lnTo>
                      <a:pt x="509" y="774"/>
                    </a:lnTo>
                    <a:lnTo>
                      <a:pt x="525" y="747"/>
                    </a:lnTo>
                    <a:lnTo>
                      <a:pt x="542" y="722"/>
                    </a:lnTo>
                    <a:lnTo>
                      <a:pt x="560" y="697"/>
                    </a:lnTo>
                    <a:lnTo>
                      <a:pt x="578" y="671"/>
                    </a:lnTo>
                    <a:lnTo>
                      <a:pt x="596" y="646"/>
                    </a:lnTo>
                    <a:lnTo>
                      <a:pt x="615" y="622"/>
                    </a:lnTo>
                    <a:lnTo>
                      <a:pt x="634" y="597"/>
                    </a:lnTo>
                    <a:lnTo>
                      <a:pt x="654" y="573"/>
                    </a:lnTo>
                    <a:lnTo>
                      <a:pt x="674" y="548"/>
                    </a:lnTo>
                    <a:lnTo>
                      <a:pt x="694" y="523"/>
                    </a:lnTo>
                    <a:lnTo>
                      <a:pt x="716" y="499"/>
                    </a:lnTo>
                    <a:lnTo>
                      <a:pt x="738" y="475"/>
                    </a:lnTo>
                    <a:lnTo>
                      <a:pt x="760" y="450"/>
                    </a:lnTo>
                    <a:lnTo>
                      <a:pt x="783" y="425"/>
                    </a:lnTo>
                    <a:lnTo>
                      <a:pt x="806" y="400"/>
                    </a:lnTo>
                    <a:lnTo>
                      <a:pt x="820" y="389"/>
                    </a:lnTo>
                    <a:lnTo>
                      <a:pt x="832" y="378"/>
                    </a:lnTo>
                    <a:lnTo>
                      <a:pt x="845" y="367"/>
                    </a:lnTo>
                    <a:lnTo>
                      <a:pt x="859" y="355"/>
                    </a:lnTo>
                    <a:lnTo>
                      <a:pt x="870" y="344"/>
                    </a:lnTo>
                    <a:lnTo>
                      <a:pt x="883" y="333"/>
                    </a:lnTo>
                    <a:lnTo>
                      <a:pt x="896" y="322"/>
                    </a:lnTo>
                    <a:lnTo>
                      <a:pt x="907" y="311"/>
                    </a:lnTo>
                    <a:lnTo>
                      <a:pt x="909" y="309"/>
                    </a:lnTo>
                    <a:lnTo>
                      <a:pt x="912" y="307"/>
                    </a:lnTo>
                    <a:lnTo>
                      <a:pt x="914" y="306"/>
                    </a:lnTo>
                    <a:lnTo>
                      <a:pt x="916" y="305"/>
                    </a:lnTo>
                    <a:lnTo>
                      <a:pt x="917" y="303"/>
                    </a:lnTo>
                    <a:lnTo>
                      <a:pt x="919" y="302"/>
                    </a:lnTo>
                    <a:lnTo>
                      <a:pt x="920" y="300"/>
                    </a:lnTo>
                    <a:lnTo>
                      <a:pt x="921" y="299"/>
                    </a:lnTo>
                    <a:lnTo>
                      <a:pt x="935" y="288"/>
                    </a:lnTo>
                    <a:lnTo>
                      <a:pt x="936" y="287"/>
                    </a:lnTo>
                    <a:lnTo>
                      <a:pt x="938" y="286"/>
                    </a:lnTo>
                    <a:lnTo>
                      <a:pt x="939" y="285"/>
                    </a:lnTo>
                    <a:lnTo>
                      <a:pt x="940" y="283"/>
                    </a:lnTo>
                    <a:lnTo>
                      <a:pt x="928" y="249"/>
                    </a:lnTo>
                    <a:lnTo>
                      <a:pt x="917" y="215"/>
                    </a:lnTo>
                    <a:lnTo>
                      <a:pt x="906" y="182"/>
                    </a:lnTo>
                    <a:lnTo>
                      <a:pt x="894" y="147"/>
                    </a:lnTo>
                    <a:lnTo>
                      <a:pt x="881" y="116"/>
                    </a:lnTo>
                    <a:lnTo>
                      <a:pt x="863" y="86"/>
                    </a:lnTo>
                    <a:lnTo>
                      <a:pt x="843" y="60"/>
                    </a:lnTo>
                    <a:lnTo>
                      <a:pt x="816" y="37"/>
                    </a:lnTo>
                    <a:lnTo>
                      <a:pt x="798" y="27"/>
                    </a:lnTo>
                    <a:lnTo>
                      <a:pt x="777" y="21"/>
                    </a:lnTo>
                    <a:lnTo>
                      <a:pt x="756" y="15"/>
                    </a:lnTo>
                    <a:lnTo>
                      <a:pt x="734" y="10"/>
                    </a:lnTo>
                    <a:lnTo>
                      <a:pt x="711" y="7"/>
                    </a:lnTo>
                    <a:lnTo>
                      <a:pt x="689" y="3"/>
                    </a:lnTo>
                    <a:lnTo>
                      <a:pt x="666" y="2"/>
                    </a:lnTo>
                    <a:lnTo>
                      <a:pt x="644" y="0"/>
                    </a:lnTo>
                    <a:lnTo>
                      <a:pt x="631" y="11"/>
                    </a:lnTo>
                    <a:lnTo>
                      <a:pt x="616" y="24"/>
                    </a:lnTo>
                    <a:lnTo>
                      <a:pt x="600" y="38"/>
                    </a:lnTo>
                    <a:lnTo>
                      <a:pt x="583" y="53"/>
                    </a:lnTo>
                    <a:lnTo>
                      <a:pt x="567" y="68"/>
                    </a:lnTo>
                    <a:lnTo>
                      <a:pt x="551" y="83"/>
                    </a:lnTo>
                    <a:lnTo>
                      <a:pt x="535" y="98"/>
                    </a:lnTo>
                    <a:lnTo>
                      <a:pt x="521" y="110"/>
                    </a:lnTo>
                    <a:lnTo>
                      <a:pt x="509" y="125"/>
                    </a:lnTo>
                    <a:lnTo>
                      <a:pt x="496" y="140"/>
                    </a:lnTo>
                    <a:lnTo>
                      <a:pt x="484" y="155"/>
                    </a:lnTo>
                    <a:lnTo>
                      <a:pt x="473" y="169"/>
                    </a:lnTo>
                    <a:lnTo>
                      <a:pt x="463" y="184"/>
                    </a:lnTo>
                    <a:lnTo>
                      <a:pt x="453" y="199"/>
                    </a:lnTo>
                    <a:lnTo>
                      <a:pt x="444" y="215"/>
                    </a:lnTo>
                    <a:lnTo>
                      <a:pt x="437" y="231"/>
                    </a:lnTo>
                    <a:lnTo>
                      <a:pt x="559" y="320"/>
                    </a:lnTo>
                    <a:lnTo>
                      <a:pt x="571" y="329"/>
                    </a:lnTo>
                    <a:lnTo>
                      <a:pt x="583" y="337"/>
                    </a:lnTo>
                    <a:lnTo>
                      <a:pt x="595" y="346"/>
                    </a:lnTo>
                    <a:lnTo>
                      <a:pt x="606" y="354"/>
                    </a:lnTo>
                    <a:lnTo>
                      <a:pt x="618" y="363"/>
                    </a:lnTo>
                    <a:lnTo>
                      <a:pt x="630" y="372"/>
                    </a:lnTo>
                    <a:lnTo>
                      <a:pt x="641" y="383"/>
                    </a:lnTo>
                    <a:lnTo>
                      <a:pt x="653" y="393"/>
                    </a:lnTo>
                    <a:lnTo>
                      <a:pt x="659" y="401"/>
                    </a:lnTo>
                    <a:lnTo>
                      <a:pt x="665" y="409"/>
                    </a:lnTo>
                    <a:lnTo>
                      <a:pt x="672" y="417"/>
                    </a:lnTo>
                    <a:lnTo>
                      <a:pt x="679" y="424"/>
                    </a:lnTo>
                    <a:lnTo>
                      <a:pt x="685" y="432"/>
                    </a:lnTo>
                    <a:lnTo>
                      <a:pt x="692" y="440"/>
                    </a:lnTo>
                    <a:lnTo>
                      <a:pt x="697" y="447"/>
                    </a:lnTo>
                    <a:lnTo>
                      <a:pt x="703" y="455"/>
                    </a:lnTo>
                    <a:lnTo>
                      <a:pt x="700" y="467"/>
                    </a:lnTo>
                    <a:lnTo>
                      <a:pt x="699" y="468"/>
                    </a:lnTo>
                    <a:lnTo>
                      <a:pt x="696" y="469"/>
                    </a:lnTo>
                    <a:lnTo>
                      <a:pt x="695" y="471"/>
                    </a:lnTo>
                    <a:lnTo>
                      <a:pt x="693" y="473"/>
                    </a:lnTo>
                    <a:lnTo>
                      <a:pt x="685" y="482"/>
                    </a:lnTo>
                    <a:lnTo>
                      <a:pt x="677" y="476"/>
                    </a:lnTo>
                    <a:lnTo>
                      <a:pt x="670" y="470"/>
                    </a:lnTo>
                    <a:lnTo>
                      <a:pt x="664" y="464"/>
                    </a:lnTo>
                    <a:lnTo>
                      <a:pt x="659" y="456"/>
                    </a:lnTo>
                    <a:lnTo>
                      <a:pt x="644" y="440"/>
                    </a:lnTo>
                    <a:lnTo>
                      <a:pt x="631" y="425"/>
                    </a:lnTo>
                    <a:lnTo>
                      <a:pt x="616" y="412"/>
                    </a:lnTo>
                    <a:lnTo>
                      <a:pt x="601" y="398"/>
                    </a:lnTo>
                    <a:lnTo>
                      <a:pt x="585" y="385"/>
                    </a:lnTo>
                    <a:lnTo>
                      <a:pt x="570" y="372"/>
                    </a:lnTo>
                    <a:lnTo>
                      <a:pt x="554" y="360"/>
                    </a:lnTo>
                    <a:lnTo>
                      <a:pt x="537" y="347"/>
                    </a:lnTo>
                    <a:lnTo>
                      <a:pt x="521" y="336"/>
                    </a:lnTo>
                    <a:lnTo>
                      <a:pt x="505" y="325"/>
                    </a:lnTo>
                    <a:lnTo>
                      <a:pt x="489" y="314"/>
                    </a:lnTo>
                    <a:lnTo>
                      <a:pt x="473" y="302"/>
                    </a:lnTo>
                    <a:lnTo>
                      <a:pt x="457" y="292"/>
                    </a:lnTo>
                    <a:lnTo>
                      <a:pt x="441" y="282"/>
                    </a:lnTo>
                    <a:lnTo>
                      <a:pt x="425" y="270"/>
                    </a:lnTo>
                    <a:lnTo>
                      <a:pt x="408" y="260"/>
                    </a:lnTo>
                    <a:lnTo>
                      <a:pt x="407" y="260"/>
                    </a:lnTo>
                    <a:lnTo>
                      <a:pt x="407" y="260"/>
                    </a:lnTo>
                    <a:lnTo>
                      <a:pt x="406" y="260"/>
                    </a:lnTo>
                    <a:lnTo>
                      <a:pt x="405" y="260"/>
                    </a:lnTo>
                    <a:lnTo>
                      <a:pt x="389" y="265"/>
                    </a:lnTo>
                    <a:lnTo>
                      <a:pt x="373" y="274"/>
                    </a:lnTo>
                    <a:lnTo>
                      <a:pt x="357" y="282"/>
                    </a:lnTo>
                    <a:lnTo>
                      <a:pt x="342" y="291"/>
                    </a:lnTo>
                    <a:lnTo>
                      <a:pt x="327" y="301"/>
                    </a:lnTo>
                    <a:lnTo>
                      <a:pt x="313" y="313"/>
                    </a:lnTo>
                    <a:lnTo>
                      <a:pt x="299" y="324"/>
                    </a:lnTo>
                    <a:lnTo>
                      <a:pt x="285" y="337"/>
                    </a:lnTo>
                    <a:lnTo>
                      <a:pt x="273" y="351"/>
                    </a:lnTo>
                    <a:lnTo>
                      <a:pt x="260" y="364"/>
                    </a:lnTo>
                    <a:lnTo>
                      <a:pt x="247" y="378"/>
                    </a:lnTo>
                    <a:lnTo>
                      <a:pt x="236" y="392"/>
                    </a:lnTo>
                    <a:lnTo>
                      <a:pt x="224" y="406"/>
                    </a:lnTo>
                    <a:lnTo>
                      <a:pt x="214" y="421"/>
                    </a:lnTo>
                    <a:lnTo>
                      <a:pt x="202" y="435"/>
                    </a:lnTo>
                    <a:lnTo>
                      <a:pt x="192" y="448"/>
                    </a:lnTo>
                    <a:lnTo>
                      <a:pt x="183" y="466"/>
                    </a:lnTo>
                    <a:lnTo>
                      <a:pt x="170" y="484"/>
                    </a:lnTo>
                    <a:lnTo>
                      <a:pt x="157" y="502"/>
                    </a:lnTo>
                    <a:lnTo>
                      <a:pt x="145" y="521"/>
                    </a:lnTo>
                    <a:lnTo>
                      <a:pt x="134" y="539"/>
                    </a:lnTo>
                    <a:lnTo>
                      <a:pt x="127" y="559"/>
                    </a:lnTo>
                    <a:lnTo>
                      <a:pt x="125" y="578"/>
                    </a:lnTo>
                    <a:lnTo>
                      <a:pt x="129" y="598"/>
                    </a:lnTo>
                    <a:lnTo>
                      <a:pt x="133" y="605"/>
                    </a:lnTo>
                    <a:lnTo>
                      <a:pt x="139" y="611"/>
                    </a:lnTo>
                    <a:lnTo>
                      <a:pt x="145" y="617"/>
                    </a:lnTo>
                    <a:lnTo>
                      <a:pt x="150" y="623"/>
                    </a:lnTo>
                    <a:lnTo>
                      <a:pt x="156" y="629"/>
                    </a:lnTo>
                    <a:lnTo>
                      <a:pt x="162" y="635"/>
                    </a:lnTo>
                    <a:lnTo>
                      <a:pt x="168" y="642"/>
                    </a:lnTo>
                    <a:lnTo>
                      <a:pt x="172" y="647"/>
                    </a:lnTo>
                    <a:lnTo>
                      <a:pt x="187" y="661"/>
                    </a:lnTo>
                    <a:lnTo>
                      <a:pt x="202" y="675"/>
                    </a:lnTo>
                    <a:lnTo>
                      <a:pt x="217" y="688"/>
                    </a:lnTo>
                    <a:lnTo>
                      <a:pt x="231" y="701"/>
                    </a:lnTo>
                    <a:lnTo>
                      <a:pt x="245" y="714"/>
                    </a:lnTo>
                    <a:lnTo>
                      <a:pt x="260" y="727"/>
                    </a:lnTo>
                    <a:lnTo>
                      <a:pt x="274" y="738"/>
                    </a:lnTo>
                    <a:lnTo>
                      <a:pt x="289" y="750"/>
                    </a:lnTo>
                    <a:lnTo>
                      <a:pt x="304" y="761"/>
                    </a:lnTo>
                    <a:lnTo>
                      <a:pt x="319" y="772"/>
                    </a:lnTo>
                    <a:lnTo>
                      <a:pt x="334" y="782"/>
                    </a:lnTo>
                    <a:lnTo>
                      <a:pt x="350" y="791"/>
                    </a:lnTo>
                    <a:lnTo>
                      <a:pt x="367" y="800"/>
                    </a:lnTo>
                    <a:lnTo>
                      <a:pt x="384" y="808"/>
                    </a:lnTo>
                    <a:lnTo>
                      <a:pt x="403" y="816"/>
                    </a:lnTo>
                    <a:lnTo>
                      <a:pt x="421" y="823"/>
                    </a:lnTo>
                    <a:lnTo>
                      <a:pt x="423" y="826"/>
                    </a:lnTo>
                    <a:lnTo>
                      <a:pt x="427" y="828"/>
                    </a:lnTo>
                    <a:lnTo>
                      <a:pt x="428" y="831"/>
                    </a:lnTo>
                    <a:lnTo>
                      <a:pt x="428" y="836"/>
                    </a:lnTo>
                    <a:lnTo>
                      <a:pt x="425" y="842"/>
                    </a:lnTo>
                    <a:lnTo>
                      <a:pt x="420" y="846"/>
                    </a:lnTo>
                    <a:lnTo>
                      <a:pt x="414" y="851"/>
                    </a:lnTo>
                    <a:lnTo>
                      <a:pt x="408" y="854"/>
                    </a:lnTo>
                    <a:lnTo>
                      <a:pt x="395" y="850"/>
                    </a:lnTo>
                    <a:lnTo>
                      <a:pt x="381" y="845"/>
                    </a:lnTo>
                    <a:lnTo>
                      <a:pt x="368" y="839"/>
                    </a:lnTo>
                    <a:lnTo>
                      <a:pt x="355" y="833"/>
                    </a:lnTo>
                    <a:lnTo>
                      <a:pt x="343" y="827"/>
                    </a:lnTo>
                    <a:lnTo>
                      <a:pt x="331" y="820"/>
                    </a:lnTo>
                    <a:lnTo>
                      <a:pt x="320" y="813"/>
                    </a:lnTo>
                    <a:lnTo>
                      <a:pt x="309" y="805"/>
                    </a:lnTo>
                    <a:lnTo>
                      <a:pt x="298" y="798"/>
                    </a:lnTo>
                    <a:lnTo>
                      <a:pt x="288" y="790"/>
                    </a:lnTo>
                    <a:lnTo>
                      <a:pt x="276" y="782"/>
                    </a:lnTo>
                    <a:lnTo>
                      <a:pt x="266" y="774"/>
                    </a:lnTo>
                    <a:lnTo>
                      <a:pt x="255" y="766"/>
                    </a:lnTo>
                    <a:lnTo>
                      <a:pt x="245" y="757"/>
                    </a:lnTo>
                    <a:lnTo>
                      <a:pt x="233" y="749"/>
                    </a:lnTo>
                    <a:lnTo>
                      <a:pt x="223" y="740"/>
                    </a:lnTo>
                    <a:lnTo>
                      <a:pt x="221" y="739"/>
                    </a:lnTo>
                    <a:lnTo>
                      <a:pt x="218" y="738"/>
                    </a:lnTo>
                    <a:lnTo>
                      <a:pt x="217" y="738"/>
                    </a:lnTo>
                    <a:lnTo>
                      <a:pt x="215" y="737"/>
                    </a:lnTo>
                    <a:lnTo>
                      <a:pt x="114" y="638"/>
                    </a:lnTo>
                    <a:lnTo>
                      <a:pt x="100" y="658"/>
                    </a:lnTo>
                    <a:lnTo>
                      <a:pt x="86" y="677"/>
                    </a:lnTo>
                    <a:lnTo>
                      <a:pt x="74" y="698"/>
                    </a:lnTo>
                    <a:lnTo>
                      <a:pt x="63" y="720"/>
                    </a:lnTo>
                    <a:lnTo>
                      <a:pt x="51" y="742"/>
                    </a:lnTo>
                    <a:lnTo>
                      <a:pt x="41" y="765"/>
                    </a:lnTo>
                    <a:lnTo>
                      <a:pt x="31" y="788"/>
                    </a:lnTo>
                    <a:lnTo>
                      <a:pt x="20" y="812"/>
                    </a:lnTo>
                    <a:lnTo>
                      <a:pt x="0" y="869"/>
                    </a:lnTo>
                    <a:lnTo>
                      <a:pt x="4" y="892"/>
                    </a:lnTo>
                    <a:lnTo>
                      <a:pt x="10" y="916"/>
                    </a:lnTo>
                    <a:lnTo>
                      <a:pt x="15" y="941"/>
                    </a:lnTo>
                    <a:lnTo>
                      <a:pt x="21" y="965"/>
                    </a:lnTo>
                    <a:lnTo>
                      <a:pt x="30" y="989"/>
                    </a:lnTo>
                    <a:lnTo>
                      <a:pt x="40" y="1011"/>
                    </a:lnTo>
                    <a:lnTo>
                      <a:pt x="53" y="1030"/>
                    </a:lnTo>
                    <a:lnTo>
                      <a:pt x="69" y="1048"/>
                    </a:lnTo>
                    <a:lnTo>
                      <a:pt x="84" y="1060"/>
                    </a:lnTo>
                    <a:lnTo>
                      <a:pt x="100" y="1071"/>
                    </a:lnTo>
                    <a:lnTo>
                      <a:pt x="118" y="1080"/>
                    </a:lnTo>
                    <a:lnTo>
                      <a:pt x="138" y="1088"/>
                    </a:lnTo>
                    <a:lnTo>
                      <a:pt x="157" y="1094"/>
                    </a:lnTo>
                    <a:lnTo>
                      <a:pt x="178" y="1097"/>
                    </a:lnTo>
                    <a:lnTo>
                      <a:pt x="199" y="1099"/>
                    </a:lnTo>
                    <a:lnTo>
                      <a:pt x="218" y="1100"/>
                    </a:lnTo>
                    <a:close/>
                  </a:path>
                </a:pathLst>
              </a:custGeom>
              <a:solidFill>
                <a:srgbClr val="d39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6143040" y="2381040"/>
                <a:ext cx="46080" cy="633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3"/>
                    </a:lnTo>
                    <a:lnTo>
                      <a:pt x="41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1" y="55"/>
                    </a:lnTo>
                    <a:lnTo>
                      <a:pt x="34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6055560" y="245484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3"/>
                    </a:lnTo>
                    <a:lnTo>
                      <a:pt x="23" y="66"/>
                    </a:lnTo>
                    <a:lnTo>
                      <a:pt x="14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5973840" y="2523960"/>
                <a:ext cx="46440" cy="658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3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3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6063120" y="2274120"/>
                <a:ext cx="44280" cy="6408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7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5985720" y="2351880"/>
                <a:ext cx="44640" cy="619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4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2"/>
                    </a:lnTo>
                    <a:lnTo>
                      <a:pt x="23" y="65"/>
                    </a:lnTo>
                    <a:lnTo>
                      <a:pt x="14" y="62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5894280" y="2417760"/>
                <a:ext cx="46440" cy="6336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4" y="0"/>
                    </a:moveTo>
                    <a:lnTo>
                      <a:pt x="32" y="2"/>
                    </a:lnTo>
                    <a:lnTo>
                      <a:pt x="39" y="9"/>
                    </a:lnTo>
                    <a:lnTo>
                      <a:pt x="44" y="20"/>
                    </a:lnTo>
                    <a:lnTo>
                      <a:pt x="46" y="32"/>
                    </a:lnTo>
                    <a:lnTo>
                      <a:pt x="44" y="45"/>
                    </a:lnTo>
                    <a:lnTo>
                      <a:pt x="39" y="55"/>
                    </a:lnTo>
                    <a:lnTo>
                      <a:pt x="32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5981760" y="219852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5894640" y="225684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23" y="0"/>
                    </a:moveTo>
                    <a:lnTo>
                      <a:pt x="32" y="3"/>
                    </a:lnTo>
                    <a:lnTo>
                      <a:pt x="39" y="10"/>
                    </a:lnTo>
                    <a:lnTo>
                      <a:pt x="44" y="21"/>
                    </a:lnTo>
                    <a:lnTo>
                      <a:pt x="45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5"/>
                    </a:lnTo>
                    <a:lnTo>
                      <a:pt x="23" y="67"/>
                    </a:lnTo>
                    <a:lnTo>
                      <a:pt x="14" y="65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10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815080" y="2343960"/>
                <a:ext cx="44640" cy="6408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3" y="0"/>
                    </a:moveTo>
                    <a:lnTo>
                      <a:pt x="32" y="3"/>
                    </a:lnTo>
                    <a:lnTo>
                      <a:pt x="39" y="9"/>
                    </a:lnTo>
                    <a:lnTo>
                      <a:pt x="44" y="21"/>
                    </a:lnTo>
                    <a:lnTo>
                      <a:pt x="46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4"/>
                    </a:lnTo>
                    <a:lnTo>
                      <a:pt x="23" y="66"/>
                    </a:lnTo>
                    <a:lnTo>
                      <a:pt x="14" y="64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429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... steken hun vinger in de mond, zodat het bloed niet overal rondruppelt !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Vrouw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086600" y="5715000"/>
            <a:ext cx="609480" cy="60948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480"/>
              <a:gd name="textAreaBottom" fmla="*/ 522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506" y="18506"/>
                </a:lnTo>
                <a:lnTo>
                  <a:pt x="18506" y="309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094" y="18506"/>
                </a:lnTo>
                <a:lnTo>
                  <a:pt x="18506" y="1850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06"/>
                </a:lnTo>
                <a:close/>
              </a:path>
              <a:path fill="darken" w="21600" h="21600">
                <a:moveTo>
                  <a:pt x="5056" y="5056"/>
                </a:moveTo>
                <a:lnTo>
                  <a:pt x="16544" y="10800"/>
                </a:lnTo>
                <a:lnTo>
                  <a:pt x="5056" y="1654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4643640" y="981000"/>
            <a:ext cx="1246680" cy="1447560"/>
            <a:chOff x="4643640" y="981000"/>
            <a:chExt cx="1246680" cy="14475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4719240" y="1080000"/>
              <a:ext cx="1171080" cy="134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4643640" y="981000"/>
              <a:ext cx="1163880" cy="1336680"/>
              <a:chOff x="4643640" y="981000"/>
              <a:chExt cx="1163880" cy="133668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643280" y="981000"/>
                <a:ext cx="1163880" cy="1336680"/>
              </a:xfrm>
              <a:custGeom>
                <a:avLst/>
                <a:gdLst/>
                <a:ahLst/>
                <a:rect l="l" t="t" r="r" b="b"/>
                <a:pathLst>
                  <a:path w="1012" h="1163">
                    <a:moveTo>
                      <a:pt x="250" y="1163"/>
                    </a:moveTo>
                    <a:lnTo>
                      <a:pt x="266" y="1163"/>
                    </a:lnTo>
                    <a:lnTo>
                      <a:pt x="281" y="1161"/>
                    </a:lnTo>
                    <a:lnTo>
                      <a:pt x="297" y="1159"/>
                    </a:lnTo>
                    <a:lnTo>
                      <a:pt x="313" y="1156"/>
                    </a:lnTo>
                    <a:lnTo>
                      <a:pt x="329" y="1152"/>
                    </a:lnTo>
                    <a:lnTo>
                      <a:pt x="344" y="1146"/>
                    </a:lnTo>
                    <a:lnTo>
                      <a:pt x="359" y="1142"/>
                    </a:lnTo>
                    <a:lnTo>
                      <a:pt x="373" y="1136"/>
                    </a:lnTo>
                    <a:lnTo>
                      <a:pt x="374" y="1136"/>
                    </a:lnTo>
                    <a:lnTo>
                      <a:pt x="375" y="1136"/>
                    </a:lnTo>
                    <a:lnTo>
                      <a:pt x="376" y="1138"/>
                    </a:lnTo>
                    <a:lnTo>
                      <a:pt x="377" y="1140"/>
                    </a:lnTo>
                    <a:lnTo>
                      <a:pt x="383" y="1140"/>
                    </a:lnTo>
                    <a:lnTo>
                      <a:pt x="390" y="1140"/>
                    </a:lnTo>
                    <a:lnTo>
                      <a:pt x="396" y="1137"/>
                    </a:lnTo>
                    <a:lnTo>
                      <a:pt x="402" y="1134"/>
                    </a:lnTo>
                    <a:lnTo>
                      <a:pt x="429" y="1077"/>
                    </a:lnTo>
                    <a:lnTo>
                      <a:pt x="458" y="1021"/>
                    </a:lnTo>
                    <a:lnTo>
                      <a:pt x="487" y="967"/>
                    </a:lnTo>
                    <a:lnTo>
                      <a:pt x="518" y="912"/>
                    </a:lnTo>
                    <a:lnTo>
                      <a:pt x="550" y="859"/>
                    </a:lnTo>
                    <a:lnTo>
                      <a:pt x="584" y="806"/>
                    </a:lnTo>
                    <a:lnTo>
                      <a:pt x="618" y="754"/>
                    </a:lnTo>
                    <a:lnTo>
                      <a:pt x="655" y="702"/>
                    </a:lnTo>
                    <a:lnTo>
                      <a:pt x="693" y="653"/>
                    </a:lnTo>
                    <a:lnTo>
                      <a:pt x="732" y="604"/>
                    </a:lnTo>
                    <a:lnTo>
                      <a:pt x="774" y="555"/>
                    </a:lnTo>
                    <a:lnTo>
                      <a:pt x="817" y="508"/>
                    </a:lnTo>
                    <a:lnTo>
                      <a:pt x="862" y="462"/>
                    </a:lnTo>
                    <a:lnTo>
                      <a:pt x="911" y="417"/>
                    </a:lnTo>
                    <a:lnTo>
                      <a:pt x="960" y="372"/>
                    </a:lnTo>
                    <a:lnTo>
                      <a:pt x="1012" y="330"/>
                    </a:lnTo>
                    <a:lnTo>
                      <a:pt x="1010" y="299"/>
                    </a:lnTo>
                    <a:lnTo>
                      <a:pt x="1005" y="267"/>
                    </a:lnTo>
                    <a:lnTo>
                      <a:pt x="997" y="237"/>
                    </a:lnTo>
                    <a:lnTo>
                      <a:pt x="988" y="206"/>
                    </a:lnTo>
                    <a:lnTo>
                      <a:pt x="975" y="177"/>
                    </a:lnTo>
                    <a:lnTo>
                      <a:pt x="962" y="148"/>
                    </a:lnTo>
                    <a:lnTo>
                      <a:pt x="949" y="122"/>
                    </a:lnTo>
                    <a:lnTo>
                      <a:pt x="934" y="98"/>
                    </a:lnTo>
                    <a:lnTo>
                      <a:pt x="915" y="79"/>
                    </a:lnTo>
                    <a:lnTo>
                      <a:pt x="897" y="64"/>
                    </a:lnTo>
                    <a:lnTo>
                      <a:pt x="876" y="50"/>
                    </a:lnTo>
                    <a:lnTo>
                      <a:pt x="855" y="39"/>
                    </a:lnTo>
                    <a:lnTo>
                      <a:pt x="834" y="29"/>
                    </a:lnTo>
                    <a:lnTo>
                      <a:pt x="812" y="19"/>
                    </a:lnTo>
                    <a:lnTo>
                      <a:pt x="790" y="12"/>
                    </a:lnTo>
                    <a:lnTo>
                      <a:pt x="767" y="4"/>
                    </a:lnTo>
                    <a:lnTo>
                      <a:pt x="749" y="1"/>
                    </a:lnTo>
                    <a:lnTo>
                      <a:pt x="730" y="0"/>
                    </a:lnTo>
                    <a:lnTo>
                      <a:pt x="711" y="0"/>
                    </a:lnTo>
                    <a:lnTo>
                      <a:pt x="692" y="2"/>
                    </a:lnTo>
                    <a:lnTo>
                      <a:pt x="672" y="7"/>
                    </a:lnTo>
                    <a:lnTo>
                      <a:pt x="655" y="12"/>
                    </a:lnTo>
                    <a:lnTo>
                      <a:pt x="638" y="20"/>
                    </a:lnTo>
                    <a:lnTo>
                      <a:pt x="624" y="30"/>
                    </a:lnTo>
                    <a:lnTo>
                      <a:pt x="600" y="54"/>
                    </a:lnTo>
                    <a:lnTo>
                      <a:pt x="576" y="78"/>
                    </a:lnTo>
                    <a:lnTo>
                      <a:pt x="551" y="102"/>
                    </a:lnTo>
                    <a:lnTo>
                      <a:pt x="527" y="127"/>
                    </a:lnTo>
                    <a:lnTo>
                      <a:pt x="504" y="153"/>
                    </a:lnTo>
                    <a:lnTo>
                      <a:pt x="482" y="178"/>
                    </a:lnTo>
                    <a:lnTo>
                      <a:pt x="463" y="204"/>
                    </a:lnTo>
                    <a:lnTo>
                      <a:pt x="445" y="230"/>
                    </a:lnTo>
                    <a:lnTo>
                      <a:pt x="435" y="246"/>
                    </a:lnTo>
                    <a:lnTo>
                      <a:pt x="421" y="259"/>
                    </a:lnTo>
                    <a:lnTo>
                      <a:pt x="405" y="269"/>
                    </a:lnTo>
                    <a:lnTo>
                      <a:pt x="388" y="278"/>
                    </a:lnTo>
                    <a:lnTo>
                      <a:pt x="371" y="286"/>
                    </a:lnTo>
                    <a:lnTo>
                      <a:pt x="353" y="295"/>
                    </a:lnTo>
                    <a:lnTo>
                      <a:pt x="337" y="307"/>
                    </a:lnTo>
                    <a:lnTo>
                      <a:pt x="325" y="321"/>
                    </a:lnTo>
                    <a:lnTo>
                      <a:pt x="320" y="324"/>
                    </a:lnTo>
                    <a:lnTo>
                      <a:pt x="314" y="329"/>
                    </a:lnTo>
                    <a:lnTo>
                      <a:pt x="311" y="332"/>
                    </a:lnTo>
                    <a:lnTo>
                      <a:pt x="306" y="337"/>
                    </a:lnTo>
                    <a:lnTo>
                      <a:pt x="301" y="341"/>
                    </a:lnTo>
                    <a:lnTo>
                      <a:pt x="297" y="346"/>
                    </a:lnTo>
                    <a:lnTo>
                      <a:pt x="292" y="349"/>
                    </a:lnTo>
                    <a:lnTo>
                      <a:pt x="288" y="354"/>
                    </a:lnTo>
                    <a:lnTo>
                      <a:pt x="261" y="386"/>
                    </a:lnTo>
                    <a:lnTo>
                      <a:pt x="236" y="417"/>
                    </a:lnTo>
                    <a:lnTo>
                      <a:pt x="212" y="448"/>
                    </a:lnTo>
                    <a:lnTo>
                      <a:pt x="190" y="481"/>
                    </a:lnTo>
                    <a:lnTo>
                      <a:pt x="169" y="513"/>
                    </a:lnTo>
                    <a:lnTo>
                      <a:pt x="151" y="547"/>
                    </a:lnTo>
                    <a:lnTo>
                      <a:pt x="134" y="583"/>
                    </a:lnTo>
                    <a:lnTo>
                      <a:pt x="122" y="622"/>
                    </a:lnTo>
                    <a:lnTo>
                      <a:pt x="124" y="627"/>
                    </a:lnTo>
                    <a:lnTo>
                      <a:pt x="125" y="630"/>
                    </a:lnTo>
                    <a:lnTo>
                      <a:pt x="128" y="635"/>
                    </a:lnTo>
                    <a:lnTo>
                      <a:pt x="129" y="639"/>
                    </a:lnTo>
                    <a:lnTo>
                      <a:pt x="129" y="640"/>
                    </a:lnTo>
                    <a:lnTo>
                      <a:pt x="129" y="640"/>
                    </a:lnTo>
                    <a:lnTo>
                      <a:pt x="129" y="642"/>
                    </a:lnTo>
                    <a:lnTo>
                      <a:pt x="128" y="643"/>
                    </a:lnTo>
                    <a:lnTo>
                      <a:pt x="121" y="646"/>
                    </a:lnTo>
                    <a:lnTo>
                      <a:pt x="107" y="668"/>
                    </a:lnTo>
                    <a:lnTo>
                      <a:pt x="93" y="691"/>
                    </a:lnTo>
                    <a:lnTo>
                      <a:pt x="79" y="715"/>
                    </a:lnTo>
                    <a:lnTo>
                      <a:pt x="67" y="739"/>
                    </a:lnTo>
                    <a:lnTo>
                      <a:pt x="55" y="765"/>
                    </a:lnTo>
                    <a:lnTo>
                      <a:pt x="42" y="790"/>
                    </a:lnTo>
                    <a:lnTo>
                      <a:pt x="30" y="815"/>
                    </a:lnTo>
                    <a:lnTo>
                      <a:pt x="18" y="841"/>
                    </a:lnTo>
                    <a:lnTo>
                      <a:pt x="11" y="860"/>
                    </a:lnTo>
                    <a:lnTo>
                      <a:pt x="4" y="880"/>
                    </a:lnTo>
                    <a:lnTo>
                      <a:pt x="0" y="899"/>
                    </a:lnTo>
                    <a:lnTo>
                      <a:pt x="2" y="918"/>
                    </a:lnTo>
                    <a:lnTo>
                      <a:pt x="3" y="919"/>
                    </a:lnTo>
                    <a:lnTo>
                      <a:pt x="4" y="920"/>
                    </a:lnTo>
                    <a:lnTo>
                      <a:pt x="6" y="922"/>
                    </a:lnTo>
                    <a:lnTo>
                      <a:pt x="7" y="923"/>
                    </a:lnTo>
                    <a:lnTo>
                      <a:pt x="8" y="943"/>
                    </a:lnTo>
                    <a:lnTo>
                      <a:pt x="11" y="962"/>
                    </a:lnTo>
                    <a:lnTo>
                      <a:pt x="16" y="982"/>
                    </a:lnTo>
                    <a:lnTo>
                      <a:pt x="22" y="1000"/>
                    </a:lnTo>
                    <a:lnTo>
                      <a:pt x="29" y="1019"/>
                    </a:lnTo>
                    <a:lnTo>
                      <a:pt x="37" y="1037"/>
                    </a:lnTo>
                    <a:lnTo>
                      <a:pt x="45" y="1054"/>
                    </a:lnTo>
                    <a:lnTo>
                      <a:pt x="54" y="1071"/>
                    </a:lnTo>
                    <a:lnTo>
                      <a:pt x="67" y="1088"/>
                    </a:lnTo>
                    <a:lnTo>
                      <a:pt x="82" y="1104"/>
                    </a:lnTo>
                    <a:lnTo>
                      <a:pt x="98" y="1117"/>
                    </a:lnTo>
                    <a:lnTo>
                      <a:pt x="115" y="1128"/>
                    </a:lnTo>
                    <a:lnTo>
                      <a:pt x="133" y="1137"/>
                    </a:lnTo>
                    <a:lnTo>
                      <a:pt x="153" y="1145"/>
                    </a:lnTo>
                    <a:lnTo>
                      <a:pt x="174" y="1152"/>
                    </a:lnTo>
                    <a:lnTo>
                      <a:pt x="196" y="1158"/>
                    </a:lnTo>
                    <a:lnTo>
                      <a:pt x="202" y="1159"/>
                    </a:lnTo>
                    <a:lnTo>
                      <a:pt x="209" y="1160"/>
                    </a:lnTo>
                    <a:lnTo>
                      <a:pt x="216" y="1161"/>
                    </a:lnTo>
                    <a:lnTo>
                      <a:pt x="223" y="1161"/>
                    </a:lnTo>
                    <a:lnTo>
                      <a:pt x="229" y="1161"/>
                    </a:lnTo>
                    <a:lnTo>
                      <a:pt x="236" y="1161"/>
                    </a:lnTo>
                    <a:lnTo>
                      <a:pt x="243" y="1161"/>
                    </a:lnTo>
                    <a:lnTo>
                      <a:pt x="250" y="1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4682880" y="1015200"/>
                <a:ext cx="1083600" cy="1267920"/>
              </a:xfrm>
              <a:custGeom>
                <a:avLst/>
                <a:gdLst/>
                <a:ahLst/>
                <a:rect l="l" t="t" r="r" b="b"/>
                <a:pathLst>
                  <a:path w="940" h="1100">
                    <a:moveTo>
                      <a:pt x="218" y="1100"/>
                    </a:moveTo>
                    <a:lnTo>
                      <a:pt x="230" y="1100"/>
                    </a:lnTo>
                    <a:lnTo>
                      <a:pt x="240" y="1098"/>
                    </a:lnTo>
                    <a:lnTo>
                      <a:pt x="252" y="1096"/>
                    </a:lnTo>
                    <a:lnTo>
                      <a:pt x="263" y="1094"/>
                    </a:lnTo>
                    <a:lnTo>
                      <a:pt x="274" y="1090"/>
                    </a:lnTo>
                    <a:lnTo>
                      <a:pt x="285" y="1087"/>
                    </a:lnTo>
                    <a:lnTo>
                      <a:pt x="296" y="1083"/>
                    </a:lnTo>
                    <a:lnTo>
                      <a:pt x="307" y="1081"/>
                    </a:lnTo>
                    <a:lnTo>
                      <a:pt x="314" y="1079"/>
                    </a:lnTo>
                    <a:lnTo>
                      <a:pt x="321" y="1079"/>
                    </a:lnTo>
                    <a:lnTo>
                      <a:pt x="327" y="1079"/>
                    </a:lnTo>
                    <a:lnTo>
                      <a:pt x="334" y="1077"/>
                    </a:lnTo>
                    <a:lnTo>
                      <a:pt x="346" y="1046"/>
                    </a:lnTo>
                    <a:lnTo>
                      <a:pt x="361" y="1018"/>
                    </a:lnTo>
                    <a:lnTo>
                      <a:pt x="376" y="990"/>
                    </a:lnTo>
                    <a:lnTo>
                      <a:pt x="392" y="962"/>
                    </a:lnTo>
                    <a:lnTo>
                      <a:pt x="408" y="937"/>
                    </a:lnTo>
                    <a:lnTo>
                      <a:pt x="426" y="911"/>
                    </a:lnTo>
                    <a:lnTo>
                      <a:pt x="442" y="884"/>
                    </a:lnTo>
                    <a:lnTo>
                      <a:pt x="458" y="858"/>
                    </a:lnTo>
                    <a:lnTo>
                      <a:pt x="466" y="843"/>
                    </a:lnTo>
                    <a:lnTo>
                      <a:pt x="474" y="829"/>
                    </a:lnTo>
                    <a:lnTo>
                      <a:pt x="483" y="814"/>
                    </a:lnTo>
                    <a:lnTo>
                      <a:pt x="491" y="800"/>
                    </a:lnTo>
                    <a:lnTo>
                      <a:pt x="509" y="774"/>
                    </a:lnTo>
                    <a:lnTo>
                      <a:pt x="525" y="747"/>
                    </a:lnTo>
                    <a:lnTo>
                      <a:pt x="542" y="722"/>
                    </a:lnTo>
                    <a:lnTo>
                      <a:pt x="560" y="697"/>
                    </a:lnTo>
                    <a:lnTo>
                      <a:pt x="578" y="671"/>
                    </a:lnTo>
                    <a:lnTo>
                      <a:pt x="596" y="646"/>
                    </a:lnTo>
                    <a:lnTo>
                      <a:pt x="615" y="622"/>
                    </a:lnTo>
                    <a:lnTo>
                      <a:pt x="634" y="597"/>
                    </a:lnTo>
                    <a:lnTo>
                      <a:pt x="654" y="573"/>
                    </a:lnTo>
                    <a:lnTo>
                      <a:pt x="674" y="548"/>
                    </a:lnTo>
                    <a:lnTo>
                      <a:pt x="694" y="523"/>
                    </a:lnTo>
                    <a:lnTo>
                      <a:pt x="716" y="499"/>
                    </a:lnTo>
                    <a:lnTo>
                      <a:pt x="738" y="475"/>
                    </a:lnTo>
                    <a:lnTo>
                      <a:pt x="760" y="450"/>
                    </a:lnTo>
                    <a:lnTo>
                      <a:pt x="783" y="425"/>
                    </a:lnTo>
                    <a:lnTo>
                      <a:pt x="806" y="400"/>
                    </a:lnTo>
                    <a:lnTo>
                      <a:pt x="820" y="389"/>
                    </a:lnTo>
                    <a:lnTo>
                      <a:pt x="832" y="378"/>
                    </a:lnTo>
                    <a:lnTo>
                      <a:pt x="845" y="367"/>
                    </a:lnTo>
                    <a:lnTo>
                      <a:pt x="859" y="355"/>
                    </a:lnTo>
                    <a:lnTo>
                      <a:pt x="870" y="344"/>
                    </a:lnTo>
                    <a:lnTo>
                      <a:pt x="883" y="333"/>
                    </a:lnTo>
                    <a:lnTo>
                      <a:pt x="896" y="322"/>
                    </a:lnTo>
                    <a:lnTo>
                      <a:pt x="907" y="311"/>
                    </a:lnTo>
                    <a:lnTo>
                      <a:pt x="909" y="309"/>
                    </a:lnTo>
                    <a:lnTo>
                      <a:pt x="912" y="307"/>
                    </a:lnTo>
                    <a:lnTo>
                      <a:pt x="914" y="306"/>
                    </a:lnTo>
                    <a:lnTo>
                      <a:pt x="916" y="305"/>
                    </a:lnTo>
                    <a:lnTo>
                      <a:pt x="917" y="303"/>
                    </a:lnTo>
                    <a:lnTo>
                      <a:pt x="919" y="302"/>
                    </a:lnTo>
                    <a:lnTo>
                      <a:pt x="920" y="300"/>
                    </a:lnTo>
                    <a:lnTo>
                      <a:pt x="921" y="299"/>
                    </a:lnTo>
                    <a:lnTo>
                      <a:pt x="935" y="288"/>
                    </a:lnTo>
                    <a:lnTo>
                      <a:pt x="936" y="287"/>
                    </a:lnTo>
                    <a:lnTo>
                      <a:pt x="938" y="286"/>
                    </a:lnTo>
                    <a:lnTo>
                      <a:pt x="939" y="285"/>
                    </a:lnTo>
                    <a:lnTo>
                      <a:pt x="940" y="283"/>
                    </a:lnTo>
                    <a:lnTo>
                      <a:pt x="928" y="249"/>
                    </a:lnTo>
                    <a:lnTo>
                      <a:pt x="917" y="215"/>
                    </a:lnTo>
                    <a:lnTo>
                      <a:pt x="906" y="182"/>
                    </a:lnTo>
                    <a:lnTo>
                      <a:pt x="894" y="147"/>
                    </a:lnTo>
                    <a:lnTo>
                      <a:pt x="881" y="116"/>
                    </a:lnTo>
                    <a:lnTo>
                      <a:pt x="863" y="86"/>
                    </a:lnTo>
                    <a:lnTo>
                      <a:pt x="843" y="60"/>
                    </a:lnTo>
                    <a:lnTo>
                      <a:pt x="816" y="37"/>
                    </a:lnTo>
                    <a:lnTo>
                      <a:pt x="798" y="27"/>
                    </a:lnTo>
                    <a:lnTo>
                      <a:pt x="777" y="21"/>
                    </a:lnTo>
                    <a:lnTo>
                      <a:pt x="756" y="15"/>
                    </a:lnTo>
                    <a:lnTo>
                      <a:pt x="734" y="10"/>
                    </a:lnTo>
                    <a:lnTo>
                      <a:pt x="711" y="7"/>
                    </a:lnTo>
                    <a:lnTo>
                      <a:pt x="689" y="3"/>
                    </a:lnTo>
                    <a:lnTo>
                      <a:pt x="666" y="2"/>
                    </a:lnTo>
                    <a:lnTo>
                      <a:pt x="644" y="0"/>
                    </a:lnTo>
                    <a:lnTo>
                      <a:pt x="631" y="11"/>
                    </a:lnTo>
                    <a:lnTo>
                      <a:pt x="616" y="24"/>
                    </a:lnTo>
                    <a:lnTo>
                      <a:pt x="600" y="38"/>
                    </a:lnTo>
                    <a:lnTo>
                      <a:pt x="583" y="53"/>
                    </a:lnTo>
                    <a:lnTo>
                      <a:pt x="567" y="68"/>
                    </a:lnTo>
                    <a:lnTo>
                      <a:pt x="551" y="83"/>
                    </a:lnTo>
                    <a:lnTo>
                      <a:pt x="535" y="98"/>
                    </a:lnTo>
                    <a:lnTo>
                      <a:pt x="521" y="110"/>
                    </a:lnTo>
                    <a:lnTo>
                      <a:pt x="509" y="125"/>
                    </a:lnTo>
                    <a:lnTo>
                      <a:pt x="496" y="140"/>
                    </a:lnTo>
                    <a:lnTo>
                      <a:pt x="484" y="155"/>
                    </a:lnTo>
                    <a:lnTo>
                      <a:pt x="473" y="169"/>
                    </a:lnTo>
                    <a:lnTo>
                      <a:pt x="463" y="184"/>
                    </a:lnTo>
                    <a:lnTo>
                      <a:pt x="453" y="199"/>
                    </a:lnTo>
                    <a:lnTo>
                      <a:pt x="444" y="215"/>
                    </a:lnTo>
                    <a:lnTo>
                      <a:pt x="437" y="231"/>
                    </a:lnTo>
                    <a:lnTo>
                      <a:pt x="559" y="320"/>
                    </a:lnTo>
                    <a:lnTo>
                      <a:pt x="571" y="329"/>
                    </a:lnTo>
                    <a:lnTo>
                      <a:pt x="583" y="337"/>
                    </a:lnTo>
                    <a:lnTo>
                      <a:pt x="595" y="346"/>
                    </a:lnTo>
                    <a:lnTo>
                      <a:pt x="606" y="354"/>
                    </a:lnTo>
                    <a:lnTo>
                      <a:pt x="618" y="363"/>
                    </a:lnTo>
                    <a:lnTo>
                      <a:pt x="630" y="372"/>
                    </a:lnTo>
                    <a:lnTo>
                      <a:pt x="641" y="383"/>
                    </a:lnTo>
                    <a:lnTo>
                      <a:pt x="653" y="393"/>
                    </a:lnTo>
                    <a:lnTo>
                      <a:pt x="659" y="401"/>
                    </a:lnTo>
                    <a:lnTo>
                      <a:pt x="665" y="409"/>
                    </a:lnTo>
                    <a:lnTo>
                      <a:pt x="672" y="417"/>
                    </a:lnTo>
                    <a:lnTo>
                      <a:pt x="679" y="424"/>
                    </a:lnTo>
                    <a:lnTo>
                      <a:pt x="685" y="432"/>
                    </a:lnTo>
                    <a:lnTo>
                      <a:pt x="692" y="440"/>
                    </a:lnTo>
                    <a:lnTo>
                      <a:pt x="697" y="447"/>
                    </a:lnTo>
                    <a:lnTo>
                      <a:pt x="703" y="455"/>
                    </a:lnTo>
                    <a:lnTo>
                      <a:pt x="700" y="467"/>
                    </a:lnTo>
                    <a:lnTo>
                      <a:pt x="699" y="468"/>
                    </a:lnTo>
                    <a:lnTo>
                      <a:pt x="696" y="469"/>
                    </a:lnTo>
                    <a:lnTo>
                      <a:pt x="695" y="471"/>
                    </a:lnTo>
                    <a:lnTo>
                      <a:pt x="693" y="473"/>
                    </a:lnTo>
                    <a:lnTo>
                      <a:pt x="685" y="482"/>
                    </a:lnTo>
                    <a:lnTo>
                      <a:pt x="677" y="476"/>
                    </a:lnTo>
                    <a:lnTo>
                      <a:pt x="670" y="470"/>
                    </a:lnTo>
                    <a:lnTo>
                      <a:pt x="664" y="464"/>
                    </a:lnTo>
                    <a:lnTo>
                      <a:pt x="659" y="456"/>
                    </a:lnTo>
                    <a:lnTo>
                      <a:pt x="644" y="440"/>
                    </a:lnTo>
                    <a:lnTo>
                      <a:pt x="631" y="425"/>
                    </a:lnTo>
                    <a:lnTo>
                      <a:pt x="616" y="412"/>
                    </a:lnTo>
                    <a:lnTo>
                      <a:pt x="601" y="398"/>
                    </a:lnTo>
                    <a:lnTo>
                      <a:pt x="585" y="385"/>
                    </a:lnTo>
                    <a:lnTo>
                      <a:pt x="570" y="372"/>
                    </a:lnTo>
                    <a:lnTo>
                      <a:pt x="554" y="360"/>
                    </a:lnTo>
                    <a:lnTo>
                      <a:pt x="537" y="347"/>
                    </a:lnTo>
                    <a:lnTo>
                      <a:pt x="521" y="336"/>
                    </a:lnTo>
                    <a:lnTo>
                      <a:pt x="505" y="325"/>
                    </a:lnTo>
                    <a:lnTo>
                      <a:pt x="489" y="314"/>
                    </a:lnTo>
                    <a:lnTo>
                      <a:pt x="473" y="302"/>
                    </a:lnTo>
                    <a:lnTo>
                      <a:pt x="457" y="292"/>
                    </a:lnTo>
                    <a:lnTo>
                      <a:pt x="441" y="282"/>
                    </a:lnTo>
                    <a:lnTo>
                      <a:pt x="425" y="270"/>
                    </a:lnTo>
                    <a:lnTo>
                      <a:pt x="408" y="260"/>
                    </a:lnTo>
                    <a:lnTo>
                      <a:pt x="407" y="260"/>
                    </a:lnTo>
                    <a:lnTo>
                      <a:pt x="407" y="260"/>
                    </a:lnTo>
                    <a:lnTo>
                      <a:pt x="406" y="260"/>
                    </a:lnTo>
                    <a:lnTo>
                      <a:pt x="405" y="260"/>
                    </a:lnTo>
                    <a:lnTo>
                      <a:pt x="389" y="265"/>
                    </a:lnTo>
                    <a:lnTo>
                      <a:pt x="373" y="274"/>
                    </a:lnTo>
                    <a:lnTo>
                      <a:pt x="357" y="282"/>
                    </a:lnTo>
                    <a:lnTo>
                      <a:pt x="342" y="291"/>
                    </a:lnTo>
                    <a:lnTo>
                      <a:pt x="327" y="301"/>
                    </a:lnTo>
                    <a:lnTo>
                      <a:pt x="313" y="313"/>
                    </a:lnTo>
                    <a:lnTo>
                      <a:pt x="299" y="324"/>
                    </a:lnTo>
                    <a:lnTo>
                      <a:pt x="285" y="337"/>
                    </a:lnTo>
                    <a:lnTo>
                      <a:pt x="273" y="351"/>
                    </a:lnTo>
                    <a:lnTo>
                      <a:pt x="260" y="364"/>
                    </a:lnTo>
                    <a:lnTo>
                      <a:pt x="247" y="378"/>
                    </a:lnTo>
                    <a:lnTo>
                      <a:pt x="236" y="392"/>
                    </a:lnTo>
                    <a:lnTo>
                      <a:pt x="224" y="406"/>
                    </a:lnTo>
                    <a:lnTo>
                      <a:pt x="214" y="421"/>
                    </a:lnTo>
                    <a:lnTo>
                      <a:pt x="202" y="435"/>
                    </a:lnTo>
                    <a:lnTo>
                      <a:pt x="192" y="448"/>
                    </a:lnTo>
                    <a:lnTo>
                      <a:pt x="183" y="466"/>
                    </a:lnTo>
                    <a:lnTo>
                      <a:pt x="170" y="484"/>
                    </a:lnTo>
                    <a:lnTo>
                      <a:pt x="157" y="502"/>
                    </a:lnTo>
                    <a:lnTo>
                      <a:pt x="145" y="521"/>
                    </a:lnTo>
                    <a:lnTo>
                      <a:pt x="134" y="539"/>
                    </a:lnTo>
                    <a:lnTo>
                      <a:pt x="127" y="559"/>
                    </a:lnTo>
                    <a:lnTo>
                      <a:pt x="125" y="578"/>
                    </a:lnTo>
                    <a:lnTo>
                      <a:pt x="129" y="598"/>
                    </a:lnTo>
                    <a:lnTo>
                      <a:pt x="133" y="605"/>
                    </a:lnTo>
                    <a:lnTo>
                      <a:pt x="139" y="611"/>
                    </a:lnTo>
                    <a:lnTo>
                      <a:pt x="145" y="617"/>
                    </a:lnTo>
                    <a:lnTo>
                      <a:pt x="150" y="623"/>
                    </a:lnTo>
                    <a:lnTo>
                      <a:pt x="156" y="629"/>
                    </a:lnTo>
                    <a:lnTo>
                      <a:pt x="162" y="635"/>
                    </a:lnTo>
                    <a:lnTo>
                      <a:pt x="168" y="642"/>
                    </a:lnTo>
                    <a:lnTo>
                      <a:pt x="172" y="647"/>
                    </a:lnTo>
                    <a:lnTo>
                      <a:pt x="187" y="661"/>
                    </a:lnTo>
                    <a:lnTo>
                      <a:pt x="202" y="675"/>
                    </a:lnTo>
                    <a:lnTo>
                      <a:pt x="217" y="688"/>
                    </a:lnTo>
                    <a:lnTo>
                      <a:pt x="231" y="701"/>
                    </a:lnTo>
                    <a:lnTo>
                      <a:pt x="245" y="714"/>
                    </a:lnTo>
                    <a:lnTo>
                      <a:pt x="260" y="727"/>
                    </a:lnTo>
                    <a:lnTo>
                      <a:pt x="274" y="738"/>
                    </a:lnTo>
                    <a:lnTo>
                      <a:pt x="289" y="750"/>
                    </a:lnTo>
                    <a:lnTo>
                      <a:pt x="304" y="761"/>
                    </a:lnTo>
                    <a:lnTo>
                      <a:pt x="319" y="772"/>
                    </a:lnTo>
                    <a:lnTo>
                      <a:pt x="334" y="782"/>
                    </a:lnTo>
                    <a:lnTo>
                      <a:pt x="350" y="791"/>
                    </a:lnTo>
                    <a:lnTo>
                      <a:pt x="367" y="800"/>
                    </a:lnTo>
                    <a:lnTo>
                      <a:pt x="384" y="808"/>
                    </a:lnTo>
                    <a:lnTo>
                      <a:pt x="403" y="816"/>
                    </a:lnTo>
                    <a:lnTo>
                      <a:pt x="421" y="823"/>
                    </a:lnTo>
                    <a:lnTo>
                      <a:pt x="423" y="826"/>
                    </a:lnTo>
                    <a:lnTo>
                      <a:pt x="427" y="828"/>
                    </a:lnTo>
                    <a:lnTo>
                      <a:pt x="428" y="831"/>
                    </a:lnTo>
                    <a:lnTo>
                      <a:pt x="428" y="836"/>
                    </a:lnTo>
                    <a:lnTo>
                      <a:pt x="425" y="842"/>
                    </a:lnTo>
                    <a:lnTo>
                      <a:pt x="420" y="846"/>
                    </a:lnTo>
                    <a:lnTo>
                      <a:pt x="414" y="851"/>
                    </a:lnTo>
                    <a:lnTo>
                      <a:pt x="408" y="854"/>
                    </a:lnTo>
                    <a:lnTo>
                      <a:pt x="395" y="850"/>
                    </a:lnTo>
                    <a:lnTo>
                      <a:pt x="381" y="845"/>
                    </a:lnTo>
                    <a:lnTo>
                      <a:pt x="368" y="839"/>
                    </a:lnTo>
                    <a:lnTo>
                      <a:pt x="355" y="833"/>
                    </a:lnTo>
                    <a:lnTo>
                      <a:pt x="343" y="827"/>
                    </a:lnTo>
                    <a:lnTo>
                      <a:pt x="331" y="820"/>
                    </a:lnTo>
                    <a:lnTo>
                      <a:pt x="320" y="813"/>
                    </a:lnTo>
                    <a:lnTo>
                      <a:pt x="309" y="805"/>
                    </a:lnTo>
                    <a:lnTo>
                      <a:pt x="298" y="798"/>
                    </a:lnTo>
                    <a:lnTo>
                      <a:pt x="288" y="790"/>
                    </a:lnTo>
                    <a:lnTo>
                      <a:pt x="276" y="782"/>
                    </a:lnTo>
                    <a:lnTo>
                      <a:pt x="266" y="774"/>
                    </a:lnTo>
                    <a:lnTo>
                      <a:pt x="255" y="766"/>
                    </a:lnTo>
                    <a:lnTo>
                      <a:pt x="245" y="757"/>
                    </a:lnTo>
                    <a:lnTo>
                      <a:pt x="233" y="749"/>
                    </a:lnTo>
                    <a:lnTo>
                      <a:pt x="223" y="740"/>
                    </a:lnTo>
                    <a:lnTo>
                      <a:pt x="221" y="739"/>
                    </a:lnTo>
                    <a:lnTo>
                      <a:pt x="218" y="738"/>
                    </a:lnTo>
                    <a:lnTo>
                      <a:pt x="217" y="738"/>
                    </a:lnTo>
                    <a:lnTo>
                      <a:pt x="215" y="737"/>
                    </a:lnTo>
                    <a:lnTo>
                      <a:pt x="114" y="638"/>
                    </a:lnTo>
                    <a:lnTo>
                      <a:pt x="100" y="658"/>
                    </a:lnTo>
                    <a:lnTo>
                      <a:pt x="86" y="677"/>
                    </a:lnTo>
                    <a:lnTo>
                      <a:pt x="74" y="698"/>
                    </a:lnTo>
                    <a:lnTo>
                      <a:pt x="63" y="720"/>
                    </a:lnTo>
                    <a:lnTo>
                      <a:pt x="51" y="742"/>
                    </a:lnTo>
                    <a:lnTo>
                      <a:pt x="41" y="765"/>
                    </a:lnTo>
                    <a:lnTo>
                      <a:pt x="31" y="788"/>
                    </a:lnTo>
                    <a:lnTo>
                      <a:pt x="20" y="812"/>
                    </a:lnTo>
                    <a:lnTo>
                      <a:pt x="0" y="869"/>
                    </a:lnTo>
                    <a:lnTo>
                      <a:pt x="4" y="892"/>
                    </a:lnTo>
                    <a:lnTo>
                      <a:pt x="10" y="916"/>
                    </a:lnTo>
                    <a:lnTo>
                      <a:pt x="15" y="941"/>
                    </a:lnTo>
                    <a:lnTo>
                      <a:pt x="21" y="965"/>
                    </a:lnTo>
                    <a:lnTo>
                      <a:pt x="30" y="989"/>
                    </a:lnTo>
                    <a:lnTo>
                      <a:pt x="40" y="1011"/>
                    </a:lnTo>
                    <a:lnTo>
                      <a:pt x="53" y="1030"/>
                    </a:lnTo>
                    <a:lnTo>
                      <a:pt x="69" y="1048"/>
                    </a:lnTo>
                    <a:lnTo>
                      <a:pt x="84" y="1060"/>
                    </a:lnTo>
                    <a:lnTo>
                      <a:pt x="100" y="1071"/>
                    </a:lnTo>
                    <a:lnTo>
                      <a:pt x="118" y="1080"/>
                    </a:lnTo>
                    <a:lnTo>
                      <a:pt x="138" y="1088"/>
                    </a:lnTo>
                    <a:lnTo>
                      <a:pt x="157" y="1094"/>
                    </a:lnTo>
                    <a:lnTo>
                      <a:pt x="178" y="1097"/>
                    </a:lnTo>
                    <a:lnTo>
                      <a:pt x="199" y="1099"/>
                    </a:lnTo>
                    <a:lnTo>
                      <a:pt x="218" y="1100"/>
                    </a:lnTo>
                    <a:close/>
                  </a:path>
                </a:pathLst>
              </a:custGeom>
              <a:solidFill>
                <a:srgbClr val="d39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5513400" y="1636560"/>
                <a:ext cx="54720" cy="756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3"/>
                    </a:lnTo>
                    <a:lnTo>
                      <a:pt x="41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1" y="55"/>
                    </a:lnTo>
                    <a:lnTo>
                      <a:pt x="34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5409360" y="1724400"/>
                <a:ext cx="52920" cy="756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3"/>
                    </a:lnTo>
                    <a:lnTo>
                      <a:pt x="23" y="66"/>
                    </a:lnTo>
                    <a:lnTo>
                      <a:pt x="14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312880" y="1806840"/>
                <a:ext cx="55080" cy="7812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3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3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5419080" y="1509840"/>
                <a:ext cx="52560" cy="7596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7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326560" y="1602360"/>
                <a:ext cx="52920" cy="7344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4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2"/>
                    </a:lnTo>
                    <a:lnTo>
                      <a:pt x="23" y="65"/>
                    </a:lnTo>
                    <a:lnTo>
                      <a:pt x="14" y="62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218560" y="1680480"/>
                <a:ext cx="55080" cy="7560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4" y="0"/>
                    </a:moveTo>
                    <a:lnTo>
                      <a:pt x="32" y="2"/>
                    </a:lnTo>
                    <a:lnTo>
                      <a:pt x="39" y="9"/>
                    </a:lnTo>
                    <a:lnTo>
                      <a:pt x="44" y="20"/>
                    </a:lnTo>
                    <a:lnTo>
                      <a:pt x="46" y="32"/>
                    </a:lnTo>
                    <a:lnTo>
                      <a:pt x="44" y="45"/>
                    </a:lnTo>
                    <a:lnTo>
                      <a:pt x="39" y="55"/>
                    </a:lnTo>
                    <a:lnTo>
                      <a:pt x="32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22600" y="1420200"/>
                <a:ext cx="52560" cy="7812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5218560" y="1489680"/>
                <a:ext cx="52920" cy="7560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23" y="0"/>
                    </a:moveTo>
                    <a:lnTo>
                      <a:pt x="32" y="3"/>
                    </a:lnTo>
                    <a:lnTo>
                      <a:pt x="39" y="10"/>
                    </a:lnTo>
                    <a:lnTo>
                      <a:pt x="44" y="21"/>
                    </a:lnTo>
                    <a:lnTo>
                      <a:pt x="45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5"/>
                    </a:lnTo>
                    <a:lnTo>
                      <a:pt x="23" y="67"/>
                    </a:lnTo>
                    <a:lnTo>
                      <a:pt x="14" y="65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10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124240" y="1593000"/>
                <a:ext cx="52920" cy="7596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3" y="0"/>
                    </a:moveTo>
                    <a:lnTo>
                      <a:pt x="32" y="3"/>
                    </a:lnTo>
                    <a:lnTo>
                      <a:pt x="39" y="9"/>
                    </a:lnTo>
                    <a:lnTo>
                      <a:pt x="44" y="21"/>
                    </a:lnTo>
                    <a:lnTo>
                      <a:pt x="46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4"/>
                    </a:lnTo>
                    <a:lnTo>
                      <a:pt x="23" y="66"/>
                    </a:lnTo>
                    <a:lnTo>
                      <a:pt x="14" y="64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...Nemen met de ander hand een pleister uit de verpakking, Plakken het op de wond en gaan rustig door met het we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Vrouw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 rot="16200000">
            <a:off x="6858000" y="5714640"/>
            <a:ext cx="1066680" cy="609480"/>
          </a:xfrm>
          <a:custGeom>
            <a:avLst/>
            <a:gdLst>
              <a:gd name="textAreaLeft" fmla="*/ 87120 w 1066680"/>
              <a:gd name="textAreaRight" fmla="*/ 979560 w 1066680"/>
              <a:gd name="textAreaTop" fmla="*/ 87120 h 609480"/>
              <a:gd name="textAreaBottom" fmla="*/ 52236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700" y="3094"/>
                </a:lnTo>
                <a:lnTo>
                  <a:pt x="3094" y="3094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700" y="18506"/>
                </a:lnTo>
                <a:lnTo>
                  <a:pt x="34700" y="3094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094" y="18506"/>
                </a:lnTo>
                <a:lnTo>
                  <a:pt x="34700" y="18506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06"/>
                </a:lnTo>
                <a:close/>
              </a:path>
              <a:path fill="darken" w="37794" h="21600">
                <a:moveTo>
                  <a:pt x="13153" y="5056"/>
                </a:moveTo>
                <a:lnTo>
                  <a:pt x="24641" y="10800"/>
                </a:lnTo>
                <a:lnTo>
                  <a:pt x="13153" y="1654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Roepen hard: „AUWWW  @#%$&amp; Verdomme “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73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steken de hand ver voor zich ui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229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Kijken in een andere richting, omdat ze geen bloed kunnen verdragen, schreeuwen om hulp, terwijl ondertussen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285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71640" y="692280"/>
            <a:ext cx="237168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508720" y="1341360"/>
            <a:ext cx="2371680" cy="101916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743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een flinke bloedvlek op het tapijt ontwikkel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341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lopen eerst zenuwachtig door het huis, gaan dan pas zitten,en zien een bloedspoor achter zich aan druppelen – net als bij een vossenjacht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397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 Vertellen hun vrouw, met een kermend en zielig stemmetje dat hij zowat zijn hele hand heeft geamputeer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372720" y="404640"/>
            <a:ext cx="1503000" cy="1600200"/>
            <a:chOff x="6372720" y="404640"/>
            <a:chExt cx="1503000" cy="1600200"/>
          </a:xfrm>
        </p:grpSpPr>
        <p:sp>
          <p:nvSpPr>
            <p:cNvPr id="453" name=""/>
            <p:cNvSpPr/>
            <p:nvPr/>
          </p:nvSpPr>
          <p:spPr>
            <a:xfrm flipH="1">
              <a:off x="6397920" y="40464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474600" y="42408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710040" y="153684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148880" y="124920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689520" y="85896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034400" y="82116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6795360" y="82620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696360" y="107856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724080" y="53244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284240" y="84204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139160" y="53748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188120" y="88092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7166520" y="164160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7574400" y="107712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399440" y="108108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539480" y="96984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138080" y="144072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7272360" y="162576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7154280" y="162684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796440" y="145512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6679440" y="145764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574400" y="96876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336800" y="97380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667560" y="49248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888240" y="134064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454080" y="119916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647040" y="180396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505200" y="173412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7482960" y="115308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751080" y="155988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149960" y="157824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700320" y="136476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6678000" y="146016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025040" y="82116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097760" y="167580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372360" y="146016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40400" y="56664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7327080" y="63756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313760" y="70776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97560" y="77976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901200" y="113076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001640" y="109692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113600" y="105768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7617600" y="66276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462360" y="135288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250040" y="102348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56200" y="166968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795360" y="171000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937200" y="163656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014960" y="160272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7217280" y="174636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216920" y="171936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Wijzen de aangeboden pleister af, omdat het toch voor die grote wond veel te klein is !!!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509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...Kijken stiekum in een gezondheidsboek na hoeveel bloedverlies een doorsnee volwassene vedragen kan, terwijl zij naar de apotheek rend voor grotere plijsters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565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...Laten zich met een big </a:t>
            </a:r>
            <a:r>
              <a:rPr b="0" lang="de-DE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heldensmile een grotere plijster op de wond plakk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621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,Willen met het avondeten een flinke biefstuk te eten hebben om nieuwe rode bloedlichaampjes aan te mak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677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leggen voor de zekerheid de voeten hoog, terwijl zij het vlees voor hem braa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733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Snakken dringend naar een biertje voor de helse verschrikkleijke pijn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789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 Tillen voorzichtig de pleister omhoog, om te kijken, of de wond nog bloed, terwijl zij naar het tankstation rijd om bier voor hem te hal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5867640" y="692280"/>
            <a:ext cx="1503000" cy="1600200"/>
            <a:chOff x="5867640" y="692280"/>
            <a:chExt cx="1503000" cy="1600200"/>
          </a:xfrm>
        </p:grpSpPr>
        <p:sp>
          <p:nvSpPr>
            <p:cNvPr id="845" name=""/>
            <p:cNvSpPr/>
            <p:nvPr/>
          </p:nvSpPr>
          <p:spPr>
            <a:xfrm flipH="1">
              <a:off x="5892840" y="6922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969520" y="7117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204960" y="18244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643800" y="15368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184440" y="11466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529320" y="11088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290280" y="11138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191280" y="13662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219000" y="8200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779160" y="11296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34080" y="8251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6683040" y="11685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661440" y="19292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069320" y="13647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894360" y="13687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034400" y="12574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633000" y="17283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767280" y="19134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649200" y="19144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6291360" y="17427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6174360" y="17452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069320" y="12564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31720" y="12614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6162480" y="7801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383160" y="16282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949000" y="14868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6141960" y="20916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6000120" y="20217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977880" y="14407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46000" y="18475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6644880" y="18658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6195240" y="16524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6172920" y="17478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6519960" y="11088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592680" y="19634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17478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6835320" y="8542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822000" y="9252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6808680" y="9954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792480" y="10674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6396120" y="14184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496560" y="13845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6608520" y="13453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7112520" y="9504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5957280" y="16405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44960" y="13111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351120" y="19573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6290280" y="19976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6432120" y="19242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509880" y="18903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6712200" y="20340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711840" y="20070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95360" y="1219320"/>
          <a:ext cx="486756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5360" y="1219320"/>
                    <a:ext cx="48675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276720" y="5029200"/>
          <a:ext cx="2590560" cy="57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029200"/>
                    <a:ext cx="25905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95280" y="228600"/>
          <a:ext cx="6301080" cy="96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228600"/>
                    <a:ext cx="63010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,Drukken net zolang op de wond  zodat de wond weer bloe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901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Geven haar de schuld dat ze de plijster er niet vast genoeg heeft op geplak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957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Trekken pijnlijk gezicht en maken een kermend geluid, terwijl zij er een nieuwe plijster omheen plak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013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kunnen door de verwonding niet veel doen, gaan daarom maar voetbal kijken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069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77724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Terwijl zij de bloedvlekken uit het tapijt probeert te verwijder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125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Sluipen s‘nachts stiekum uit bed om verdachte tekens van bloedvergiftiging te ontdekk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181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zijn de volgende dag verschrikkelijk slecht uitgeslapen en slecht gehumeurt door dat verschrikkelijke ongeluk van de vorige dag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237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nemen de eerste 2 uur vrij voor een dokters bezoekje – alleen voor de zekerheid of het werkelijk geen bloedvergiftiging i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293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Laten zich door de jonge secretaresse op het werk een nieuw verbandje om doen en genieten van haar medelijdende blik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349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gaan s‘avonds naar hun stamkroeg en vertellen grootmoedig, dat dit „Kleinigheidje“ Echt niet veel voor stelde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404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309760" y="1143000"/>
          <a:ext cx="485316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9760" y="1143000"/>
                    <a:ext cx="4853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219320" y="228600"/>
          <a:ext cx="630072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28600"/>
                    <a:ext cx="630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581280" y="4724280"/>
            <a:ext cx="2133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ec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78920" y="213012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000000"/>
                </a:solidFill>
                <a:latin typeface="BlizzardD"/>
              </a:rPr>
              <a:t>Haaaatschiiie . . .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50560" y="299700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000000"/>
                </a:solidFill>
                <a:latin typeface="Orange LET"/>
              </a:rPr>
              <a:t>Gezondheid . . . 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" descr=""/>
          <p:cNvPicPr/>
          <p:nvPr/>
        </p:nvPicPr>
        <p:blipFill>
          <a:blip r:embed="rId2"/>
          <a:stretch/>
        </p:blipFill>
        <p:spPr>
          <a:xfrm>
            <a:off x="1776240" y="0"/>
            <a:ext cx="5591520" cy="685800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971640" y="170028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4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PLAATSNAMENPUZZEL</a:t>
            </a:r>
            <a:endParaRPr b="1" lang="en-US" sz="2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4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4572000" y="4221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amenstelling : 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e is er thuis in België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 de volgende pagina’s kom je cryptische omschrijvingen tegen van enkele plaatsn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eer achter de naam te komen door logisch te denken (de schrijfwijze is niet steeds van belang maar eerder hoe het klink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 je denkt het te weten, druk dan op de linker muisknop en de juiste plaatsnaam verschijnt op het sch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3067200" y="5867280"/>
            <a:ext cx="3068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UCC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6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67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69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ak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ij wil wel veel, hij haalt h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…………… 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naar zich to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2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73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4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75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Etterbee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en waterloop vol wondvo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8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79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81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Ganshor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e zijn bijna aan de vijve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kan de …………… horen kwa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85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87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Bever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9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it dier bouwt zij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oning met zijn staa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0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91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93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Drogenbos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5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Je wordt er niet n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tussen de bo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309760" y="1143000"/>
          <a:ext cx="485316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9760" y="1143000"/>
                    <a:ext cx="4853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219320" y="228600"/>
          <a:ext cx="630072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28600"/>
                    <a:ext cx="630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581280" y="4724280"/>
            <a:ext cx="2133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ec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97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99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inkebee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1" name=""/>
          <p:cNvSpPr/>
          <p:nvPr/>
        </p:nvSpPr>
        <p:spPr>
          <a:xfrm>
            <a:off x="324000" y="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Slim gezien van die waterlo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03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05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o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et is voorbestemd wat je daar doet, je kan er niets aan verand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8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09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0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11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Gooi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at moet ik nu doen met die ba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…………… 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of nie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15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17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Zwijndrech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9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r is een varken in het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geraakt en ik denk dat 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igenaar nu naar zijn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21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2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23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oogstrat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5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r zijn niet alleen laaggelegen steegjes maar ook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27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29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Meerhou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1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Als ik het vuur wil laten branden moet ik …………… hebbe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2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33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4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35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Bal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et steekt mij tege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moet er echt van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39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0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41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ier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Bij uitstek middeleeuws muziekinstru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45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47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eff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9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t til ik niet op, ik z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mij een breuk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0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51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2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53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ees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ar moeten de schoenma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bij blijv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309760" y="1143000"/>
          <a:ext cx="485316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9760" y="1143000"/>
                    <a:ext cx="4853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219320" y="228600"/>
          <a:ext cx="630072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28600"/>
                    <a:ext cx="630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581280" y="4724280"/>
            <a:ext cx="2133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ec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6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57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59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Ess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ier komen veel Duitsers e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63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65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Keerberg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e bodemverheff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raaien zich 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69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0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71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Aarscho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3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ier voelen homo’s zich thu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4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75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6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77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angdorp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9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en kleine gemeente ma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toch niet zo k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0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81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83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Bierbee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5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Van die waterloop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je wel dron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6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87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8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89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and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1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eze plaats is heel geschikt 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e vliegtuigen te laten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2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93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95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Kerm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ij heeft zeker veel pij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ij …………… nog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99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01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outhal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wil de open haard wel aansteken maar ik moet eerst nog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"/>
          <p:cNvGrpSpPr/>
          <p:nvPr/>
        </p:nvGrpSpPr>
        <p:grpSpPr>
          <a:xfrm>
            <a:off x="4932360" y="3429000"/>
            <a:ext cx="3672000" cy="3429000"/>
            <a:chOff x="4932360" y="3429000"/>
            <a:chExt cx="3672000" cy="3429000"/>
          </a:xfrm>
        </p:grpSpPr>
        <p:sp>
          <p:nvSpPr>
            <p:cNvPr id="1605" name=""/>
            <p:cNvSpPr/>
            <p:nvPr/>
          </p:nvSpPr>
          <p:spPr>
            <a:xfrm>
              <a:off x="6607800" y="3429000"/>
              <a:ext cx="318960" cy="3429000"/>
            </a:xfrm>
            <a:custGeom>
              <a:avLst/>
              <a:gdLst>
                <a:gd name="textAreaLeft" fmla="*/ 15480 w 318960"/>
                <a:gd name="textAreaRight" fmla="*/ 303480 w 318960"/>
                <a:gd name="textAreaTop" fmla="*/ 15480 h 3429000"/>
                <a:gd name="textAreaBottom" fmla="*/ 3413520 h 3429000"/>
              </a:gdLst>
              <a:ahLst/>
              <a:rect l="textAreaLeft" t="textAreaTop" r="textAreaRight" b="textAreaBottom"/>
              <a:pathLst>
                <a:path w="21600" h="231975">
                  <a:moveTo>
                    <a:pt x="3600" y="0"/>
                  </a:moveTo>
                  <a:arcTo wR="3600" hR="3600" stAng="16200000" swAng="-5400000"/>
                  <a:lnTo>
                    <a:pt x="0" y="228375"/>
                  </a:lnTo>
                  <a:arcTo wR="3600" hR="3600" stAng="10800000" swAng="-5400000"/>
                  <a:lnTo>
                    <a:pt x="18000" y="231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32360" y="3571920"/>
              <a:ext cx="3672000" cy="1142640"/>
              <a:chOff x="4932360" y="3571920"/>
              <a:chExt cx="3672000" cy="114264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32360" y="3571920"/>
                <a:ext cx="367200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70520" y="3642840"/>
                <a:ext cx="359532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Per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9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t gaat te ver, daar moet 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…………… 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n …………… aan stell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539640" y="3429000"/>
            <a:ext cx="3672000" cy="3429000"/>
            <a:chOff x="539640" y="3429000"/>
            <a:chExt cx="3672000" cy="3429000"/>
          </a:xfrm>
        </p:grpSpPr>
        <p:sp>
          <p:nvSpPr>
            <p:cNvPr id="1611" name=""/>
            <p:cNvSpPr/>
            <p:nvPr/>
          </p:nvSpPr>
          <p:spPr>
            <a:xfrm>
              <a:off x="2215080" y="3429000"/>
              <a:ext cx="318960" cy="3429000"/>
            </a:xfrm>
            <a:custGeom>
              <a:avLst/>
              <a:gdLst>
                <a:gd name="textAreaLeft" fmla="*/ 15480 w 318960"/>
                <a:gd name="textAreaRight" fmla="*/ 303480 w 318960"/>
                <a:gd name="textAreaTop" fmla="*/ 15480 h 3429000"/>
                <a:gd name="textAreaBottom" fmla="*/ 3413520 h 3429000"/>
              </a:gdLst>
              <a:ahLst/>
              <a:rect l="textAreaLeft" t="textAreaTop" r="textAreaRight" b="textAreaBottom"/>
              <a:pathLst>
                <a:path w="21600" h="231975">
                  <a:moveTo>
                    <a:pt x="3600" y="0"/>
                  </a:moveTo>
                  <a:arcTo wR="3600" hR="3600" stAng="16200000" swAng="-5400000"/>
                  <a:lnTo>
                    <a:pt x="0" y="228375"/>
                  </a:lnTo>
                  <a:arcTo wR="3600" hR="3600" stAng="10800000" swAng="-5400000"/>
                  <a:lnTo>
                    <a:pt x="18000" y="231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539640" y="3571920"/>
              <a:ext cx="3672000" cy="1142640"/>
              <a:chOff x="539640" y="3571920"/>
              <a:chExt cx="3672000" cy="1142640"/>
            </a:xfrm>
          </p:grpSpPr>
          <p:sp>
            <p:nvSpPr>
              <p:cNvPr id="1613" name=""/>
              <p:cNvSpPr/>
              <p:nvPr/>
            </p:nvSpPr>
            <p:spPr>
              <a:xfrm>
                <a:off x="539640" y="3571920"/>
                <a:ext cx="367200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77800" y="3642840"/>
                <a:ext cx="359532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Paal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5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16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18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Diepenbee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0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n deze waterloop k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je niet rechtsta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309760" y="1143000"/>
          <a:ext cx="485316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9760" y="1143000"/>
                    <a:ext cx="4853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581280" y="4724280"/>
            <a:ext cx="2133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ec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19320" y="228600"/>
          <a:ext cx="630072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28600"/>
                    <a:ext cx="630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1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22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24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anklaar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6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Je merkt dat het zomer i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et is ‘s avonds nog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28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30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Berg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Je waant je wel in Zwitser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met al die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34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36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ar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8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had echt schrik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mijn …………… rezen ten ber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9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40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42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auw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t bier is niet te drin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et is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46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7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48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eks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0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Gemeente op een bezemste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1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52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3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54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am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6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it op een broodje met kaas, sla, tomaat, ei, mayonaise, en zo mee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n je hebt een sm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7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58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60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Odeur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2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Aan deze Waalse geme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zit wel een reukj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64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66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Kom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8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r is een tijd van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n een tijd van ga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70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1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72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Driekapell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4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Meer dan 2 gebedshuisj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maar toch geen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5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76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78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Wachtebeke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0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e, ……………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kan niet volg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219320" y="228600"/>
          <a:ext cx="6300720" cy="9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8600"/>
                    <a:ext cx="630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309760" y="1143000"/>
          <a:ext cx="4853160" cy="5715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09760" y="1143000"/>
                    <a:ext cx="4853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581280" y="4724280"/>
            <a:ext cx="2133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ec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82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84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Kalk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6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moet die muur nog ……………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n is hij mooi w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7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88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9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90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Ertvelde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2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Plantage van peulvruch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73120" y="0"/>
          <a:ext cx="61977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3120" y="0"/>
                    <a:ext cx="619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881440" y="5316480"/>
          <a:ext cx="3367080" cy="12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81440" y="5316480"/>
                    <a:ext cx="336708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10-06-16T05:15:58Z</dcterms:modified>
  <cp:revision>85</cp:revision>
  <dc:subject/>
  <dc:title>Dia 1</dc:title>
</cp:coreProperties>
</file>