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18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666-60F9-4D84-922F-CF00C528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72E-3929-4221-BC6C-341C6A91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BDD-8B33-42EC-804E-3918F998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978-1041-4564-A6E0-747A5CFE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E62-D734-4FA0-9B22-1AAEF1AE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261-3594-4F8B-8179-A1534773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FE4-43A1-495A-A7D5-76434E07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467-DAF9-4573-BCDF-75EF271D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1CE-31DD-470F-84C0-943B2AC4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139-75C0-4A85-A912-859F554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0A5-EE85-43A0-BD73-B7D25E11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422-1443-4306-AE25-3C88253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B4CE-DC21-4731-973F-06AE547B999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692280"/>
            <a:ext cx="76676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mmige mensen zijn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tijd op de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uiste plaats om de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fecte foto te maken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030320"/>
            <a:ext cx="8170920" cy="54468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7416720" cy="5904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495360"/>
            <a:ext cx="6029280" cy="59817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991280" cy="59976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59200" y="476280"/>
            <a:ext cx="3854520" cy="5977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429080" cy="59054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531720"/>
            <a:ext cx="7215120" cy="57754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727440" cy="57592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1346040"/>
            <a:ext cx="7993080" cy="46134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24960" cy="5869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57531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503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57636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933480"/>
            <a:ext cx="7993080" cy="49766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785880"/>
            <a:ext cx="7704360" cy="55926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510160" y="476280"/>
            <a:ext cx="3138480" cy="5977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136000" cy="53913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4648320" cy="57592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6624720" cy="56372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7657920" cy="29973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72720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6858000" cy="58546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690480"/>
            <a:ext cx="8136000" cy="5202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72720" cy="54532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7800" cy="51562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793800"/>
            <a:ext cx="8353440" cy="5410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09080" cy="43005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486320" cy="5715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353880"/>
            <a:ext cx="7167600" cy="61437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0:41:26Z</dcterms:created>
  <dc:creator>Poels</dc:creator>
  <dc:description/>
  <dc:language>en-US</dc:language>
  <cp:lastModifiedBy>Smets</cp:lastModifiedBy>
  <dcterms:modified xsi:type="dcterms:W3CDTF">2009-03-10T20:20:01Z</dcterms:modified>
  <cp:revision>3</cp:revision>
  <dc:subject/>
  <dc:title>Dia 1</dc:title>
</cp:coreProperties>
</file>