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0F1-0C60-4A9A-9649-9BF545D9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897-EC60-410D-A71C-BCE3998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12F-E313-4800-8BC4-B807DD88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DBE-4A38-4DF3-8F69-55AA8C21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922-3EAB-4741-9C0F-BFF3446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921-C57B-4947-9D91-CC251CA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E2B-99EE-41E5-99EC-2E6D1ED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50D-2F7F-4ABB-A5C5-08C23B8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4AD-0BF3-44D3-AA2E-59E2185C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B13-0E8F-4DA5-80E9-A4F38929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8C8-D5D0-4C58-A21A-813AEA2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1D5-CC8B-418D-8AB4-E45C47D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343-69DF-4EBF-B3B1-C0B97E1A897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692280"/>
            <a:ext cx="76676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mige mensen zijn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tijd op d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iste plaats om de 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fecte foto te maken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030320"/>
            <a:ext cx="8170920" cy="54468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495360"/>
            <a:ext cx="6029280" cy="59817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991280" cy="59976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59200" y="476280"/>
            <a:ext cx="3854520" cy="5977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531720"/>
            <a:ext cx="7215120" cy="57754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2744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346040"/>
            <a:ext cx="7993080" cy="46134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24960" cy="5869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531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503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576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933480"/>
            <a:ext cx="7993080" cy="49766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785880"/>
            <a:ext cx="7704360" cy="55926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10160" y="476280"/>
            <a:ext cx="3138480" cy="5977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136000" cy="5391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464832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6624720" cy="56372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7657920" cy="2997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727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858000" cy="585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690480"/>
            <a:ext cx="8136000" cy="520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72720" cy="5453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7800" cy="51562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793800"/>
            <a:ext cx="8353440" cy="5410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43005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486320" cy="5715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353880"/>
            <a:ext cx="7167600" cy="61437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6Z</dcterms:created>
  <dc:creator>Poels</dc:creator>
  <dc:description/>
  <dc:language>en-US</dc:language>
  <cp:lastModifiedBy>Smets</cp:lastModifiedBy>
  <dcterms:modified xsi:type="dcterms:W3CDTF">2009-03-10T20:20:01Z</dcterms:modified>
  <cp:revision>3</cp:revision>
  <dc:subject/>
  <dc:title>Dia 1</dc:title>
</cp:coreProperties>
</file>