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A32A-8538-42CD-A7FA-1E7B2EBB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909E-321E-4AC2-8FF8-BC5450BF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1C28-4F0B-4A15-8032-217AAD6DE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976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740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976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740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D6A7-C19F-4F91-AA66-861D481C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3463-E07F-4224-B111-A926CA2F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D0D7-683C-4F7E-9AE8-0EDF1469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3E03-62BD-4039-AC76-3ED8C0EB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1034-4185-4CB0-A3AB-1DCD47CA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F69D-D624-44A2-8369-D74B8C9C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D3FB-297C-4C2C-AC56-2009B8A0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9E71-57DA-43F8-870E-12E2C921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42DF-6369-4AFA-91E8-A276F7AF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87A0-758D-4D83-98D7-E90E12F2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5E3F-C443-4F71-B01C-E3EA0DED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BAE0-22A7-4B54-B680-D94A4469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EFC3-B226-4833-A920-BDDD9067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9976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4740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12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9976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4740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365F-0618-4349-BF59-17C7E61C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FBF3-6866-4600-B50E-12667E31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9271-C8D4-4346-920F-71150416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EA72-5AF3-49F3-B52A-5704044C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EEFB-47D2-4490-AFF2-A9D9FFDB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0F27-3B98-4428-AE2F-65EB19B7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38A4-66DA-4E07-8BBB-C0487D1C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BCBD-1A63-41A9-A7A2-4218C2C5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ba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297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297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297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297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297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2979a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2979a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01BB-EC15-498F-B242-5EDFAC2E7A80}" type="slidenum">
              <a:rPr b="0" lang="en-US" sz="1400" spc="-1" strike="noStrike">
                <a:solidFill>
                  <a:srgbClr val="82979a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33523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ba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2979a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2979a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2979a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B7C1-C735-4B31-B038-D1BA656D2080}" type="slidenum">
              <a:rPr b="0" lang="en-US" sz="1400" spc="-1" strike="noStrike">
                <a:solidFill>
                  <a:srgbClr val="82979a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86440" y="257040"/>
            <a:ext cx="596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alatino Linotype"/>
              </a:rPr>
              <a:t>HUMAN COMMUNICATION: </a:t>
            </a:r>
            <a:endParaRPr b="0" lang="en-US" sz="3200" spc="-1" strike="noStrike">
              <a:solidFill>
                <a:srgbClr val="82979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alatino Linotype"/>
              </a:rPr>
              <a:t>VERBAL MESSAGES</a:t>
            </a:r>
            <a:endParaRPr b="0" lang="en-US" sz="32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438280"/>
            <a:ext cx="5867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Garamond"/>
              </a:rPr>
              <a:t>Verbal Messages </a:t>
            </a:r>
            <a:endParaRPr b="0" lang="en-US" sz="28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99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Garamond"/>
              </a:rPr>
              <a:t>is a system for communication meaning; it is the concepts of confirmation &amp; disconfirmation</a:t>
            </a:r>
            <a:endParaRPr b="0" lang="en-US" sz="2800" spc="-1" strike="noStrike">
              <a:solidFill>
                <a:srgbClr val="82979a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9080" y="4267080"/>
            <a:ext cx="1806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4724280"/>
            <a:ext cx="6781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Palatino Linotype"/>
              </a:rPr>
              <a:t>Confirmation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Palatino Linotype"/>
              </a:rPr>
              <a:t>- you acknowledge the presence of another and indicate your acceptance of this person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143000"/>
            <a:ext cx="701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Palatino Linotype"/>
              </a:rPr>
              <a:t>Disconfirmation</a:t>
            </a:r>
            <a:r>
              <a:rPr b="1" lang="en-US" sz="2400" spc="-1" strike="noStrike">
                <a:solidFill>
                  <a:srgbClr val="9900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Palatino Linotype"/>
              </a:rPr>
              <a:t>- a communication pattern in which you ignore someone’s presence as well as that person’s communication 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2666880"/>
            <a:ext cx="6400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Garamond"/>
              </a:rPr>
              <a:t>Rejection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- you disagree with someone and indicate your unwillingness to accept something to other person says or does.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5360" y="282600"/>
            <a:ext cx="37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alatino Linotype"/>
              </a:rPr>
              <a:t>VERBAL MESSAGES</a:t>
            </a:r>
            <a:endParaRPr b="0" lang="en-US" sz="2800" spc="-1" strike="noStrike">
              <a:solidFill>
                <a:srgbClr val="82979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76920" y="3581280"/>
            <a:ext cx="822240" cy="838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391520" y="1295280"/>
            <a:ext cx="1104840" cy="1105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05360" y="282600"/>
            <a:ext cx="37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alatino Linotype"/>
              </a:rPr>
              <a:t>VERBAL MESSAGES</a:t>
            </a:r>
            <a:endParaRPr b="0" lang="en-US" sz="28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143000"/>
            <a:ext cx="396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You pergi mana? Dah dekat 2 jam I tunggu you. You memang sengaja cari pasallah</a:t>
            </a:r>
            <a:endParaRPr b="0" lang="en-US" sz="20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4343400"/>
            <a:ext cx="2454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Palatino Linotype"/>
              </a:rPr>
              <a:t>Yang you marah sangat kenapa? Last week I tunggu you sampai 1 jam tak bising pun.. </a:t>
            </a:r>
            <a:endParaRPr b="0" lang="en-US" sz="20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4267080"/>
            <a:ext cx="2895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Ok, you have all the right to be angry. I should have call, but my car broke down. I lambat ni sebab tunggu teksi.</a:t>
            </a:r>
            <a:endParaRPr b="0" lang="en-US" sz="20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981080"/>
            <a:ext cx="2819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bad"/>
                </a:solidFill>
                <a:latin typeface="Palatino Linotype"/>
              </a:rPr>
              <a:t>Jangan nak bising-bising, marah I tak habis lagi ni. Nanti you pulak yang kena.</a:t>
            </a:r>
            <a:endParaRPr b="0" lang="en-US" sz="2000" spc="-1" strike="noStrike">
              <a:solidFill>
                <a:srgbClr val="82979a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505320" y="3200400"/>
            <a:ext cx="822240" cy="838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3124080" y="4343400"/>
            <a:ext cx="8971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05360" y="282600"/>
            <a:ext cx="37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alatino Linotype"/>
              </a:rPr>
              <a:t>VERBAL MESSAGES</a:t>
            </a:r>
            <a:endParaRPr b="0" lang="en-US" sz="28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447920"/>
            <a:ext cx="754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6699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Palatino Linotype"/>
              </a:rPr>
              <a:t>Language is both Denotative &amp; Connotative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Palatino Linotype"/>
              </a:rPr>
              <a:t>	</a:t>
            </a:r>
            <a:r>
              <a:rPr b="1" lang="en-US" sz="2400" spc="-1" strike="noStrike" u="sng">
                <a:solidFill>
                  <a:srgbClr val="669900"/>
                </a:solidFill>
                <a:uFillTx/>
                <a:latin typeface="Palatino Linotype"/>
              </a:rPr>
              <a:t>Denotative</a:t>
            </a:r>
            <a:r>
              <a:rPr b="1" lang="en-US" sz="2400" spc="-1" strike="noStrike">
                <a:solidFill>
                  <a:srgbClr val="ff0000"/>
                </a:solidFill>
                <a:latin typeface="Palatino Linotype"/>
              </a:rPr>
              <a:t>:-objective meaning of a terms, word that you can find in a dictionary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Palatino Linotype"/>
              </a:rPr>
              <a:t>	</a:t>
            </a:r>
            <a:r>
              <a:rPr b="1" lang="en-US" sz="2400" spc="-1" strike="noStrike" u="sng">
                <a:solidFill>
                  <a:srgbClr val="669900"/>
                </a:solidFill>
                <a:uFillTx/>
                <a:latin typeface="Palatino Linotype"/>
              </a:rPr>
              <a:t>Connotative</a:t>
            </a:r>
            <a:r>
              <a:rPr b="1" lang="en-US" sz="2400" spc="-1" strike="noStrike">
                <a:solidFill>
                  <a:srgbClr val="ff0000"/>
                </a:solidFill>
                <a:latin typeface="Palatino Linotype"/>
              </a:rPr>
              <a:t>- subjective or emotional meaning of a word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6760" y="812880"/>
            <a:ext cx="49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Palatino Linotype"/>
              </a:rPr>
              <a:t>6 Principles of verbal messages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4280" y="5791320"/>
            <a:ext cx="56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bad"/>
                </a:solidFill>
                <a:latin typeface="Times New Roman"/>
              </a:rPr>
              <a:t>* S.I Hayakawa:  snarl words &amp; purr words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1676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676520"/>
            <a:ext cx="8305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979a"/>
                </a:solidFill>
                <a:latin typeface="Palatino Linotype"/>
              </a:rPr>
              <a:t>2.</a:t>
            </a:r>
            <a:r>
              <a:rPr b="1" lang="en-US" sz="2400" spc="-1" strike="noStrike">
                <a:solidFill>
                  <a:srgbClr val="82979a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669900"/>
                </a:solidFill>
                <a:latin typeface="Palatino Linotype"/>
              </a:rPr>
              <a:t>Language varies in Abstraction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979a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Palatino Linotype"/>
              </a:rPr>
              <a:t>refer to the general concepts of situation , sentences or words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5360" y="282600"/>
            <a:ext cx="37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alatino Linotype"/>
              </a:rPr>
              <a:t>VERBAL MESSAGES</a:t>
            </a:r>
            <a:endParaRPr b="0" lang="en-US" sz="28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8280" y="838080"/>
            <a:ext cx="49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Palatino Linotype"/>
              </a:rPr>
              <a:t>6 Principles of verbal messages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3352680" cy="3105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00400" y="4343400"/>
            <a:ext cx="237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bad"/>
                </a:solidFill>
                <a:latin typeface="Times New Roman"/>
              </a:rPr>
              <a:t>Example: 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buClr>
                <a:srgbClr val="ff5ba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bad"/>
                </a:solidFill>
                <a:latin typeface="Times New Roman"/>
              </a:rPr>
              <a:t>Love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buClr>
                <a:srgbClr val="ff5ba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bad"/>
                </a:solidFill>
                <a:latin typeface="Times New Roman"/>
              </a:rPr>
              <a:t>Love to God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buClr>
                <a:srgbClr val="ff5ba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bad"/>
                </a:solidFill>
                <a:latin typeface="Times New Roman"/>
              </a:rPr>
              <a:t>Puppy Love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buClr>
                <a:srgbClr val="ff5ba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bad"/>
                </a:solidFill>
                <a:latin typeface="Times New Roman"/>
              </a:rPr>
              <a:t>Motherly love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15238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Garamond"/>
              </a:rPr>
              <a:t>3.</a:t>
            </a:r>
            <a:r>
              <a:rPr b="1" lang="en-US" sz="2400" spc="-1" strike="noStrike">
                <a:solidFill>
                  <a:srgbClr val="6699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669900"/>
                </a:solidFill>
                <a:latin typeface="Garamond"/>
              </a:rPr>
              <a:t>Language varies in Directness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5360" y="282600"/>
            <a:ext cx="37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alatino Linotype"/>
              </a:rPr>
              <a:t>VERBAL MESSAGES</a:t>
            </a:r>
            <a:endParaRPr b="0" lang="en-US" sz="28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8280" y="838080"/>
            <a:ext cx="49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Palatino Linotype"/>
              </a:rPr>
              <a:t>6 Principles of verbal messages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228600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direct speech:-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mpts to get the listener to say or do something without committing the speaker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rect speech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 clearly state the speakers preferences and ask the listener whether they agree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622680"/>
            <a:ext cx="68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9900"/>
                </a:solidFill>
                <a:latin typeface="Times New Roman"/>
              </a:rPr>
              <a:t>Eg: “ Malasnya nak ke kelas hari ini, macam nak sambung tidur lagilah”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5562720"/>
            <a:ext cx="68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9900"/>
                </a:solidFill>
                <a:latin typeface="Times New Roman"/>
              </a:rPr>
              <a:t>Eg: “ I tak nak pergi kelas lah hari ni, malas…you nak pergi ke?”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09480" y="152388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669900"/>
              </a:buClr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Garamond"/>
              </a:rPr>
              <a:t>Message are culturally Influenced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979a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ultural rules focus on the principles that you culture consider important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5360" y="282600"/>
            <a:ext cx="37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alatino Linotype"/>
              </a:rPr>
              <a:t>VERBAL MESSAGES</a:t>
            </a:r>
            <a:endParaRPr b="0" lang="en-US" sz="28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8280" y="838080"/>
            <a:ext cx="49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Palatino Linotype"/>
              </a:rPr>
              <a:t>6 Principles of verbal messages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120" y="3505320"/>
            <a:ext cx="5779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669900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Garamond"/>
              </a:rPr>
              <a:t>Message vary in Politeness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669900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2979a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669900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Garamond"/>
              </a:rPr>
              <a:t>Language Meanings are in people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669900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33520" y="1066680"/>
            <a:ext cx="7010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9900"/>
                </a:solidFill>
                <a:uFillTx/>
                <a:latin typeface="Garamond"/>
              </a:rPr>
              <a:t>Specific Forms of Disconfirmation</a:t>
            </a:r>
            <a:r>
              <a:rPr b="1" lang="en-US" sz="2400" spc="-1" strike="noStrike">
                <a:solidFill>
                  <a:srgbClr val="82979a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66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Garamond"/>
              </a:rPr>
              <a:t>Sexism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language that puts down people because of their gender.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* sex role stereotyping – assumption that certain roles or professions belong to men and others belong to women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360" y="282600"/>
            <a:ext cx="37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alatino Linotype"/>
              </a:rPr>
              <a:t>VERBAL MESSAGES</a:t>
            </a:r>
            <a:endParaRPr b="0" lang="en-US" sz="28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449568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buClr>
                <a:srgbClr val="66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Garamond"/>
              </a:rPr>
              <a:t>Heterosexism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language that puts down or negatively evaluates gay men and lesbians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520" y="914400"/>
            <a:ext cx="701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9900"/>
                </a:solidFill>
                <a:uFillTx/>
                <a:latin typeface="Garamond"/>
              </a:rPr>
              <a:t>Specific Forms of Disconfirmation</a:t>
            </a:r>
            <a:r>
              <a:rPr b="1" lang="en-US" sz="2400" spc="-1" strike="noStrike">
                <a:solidFill>
                  <a:srgbClr val="6699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66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Garamond"/>
              </a:rPr>
              <a:t>Racism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language that puts down or negatively evaluates members of racial subgroups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5360" y="282600"/>
            <a:ext cx="37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alatino Linotype"/>
              </a:rPr>
              <a:t>VERBAL MESSAGES</a:t>
            </a:r>
            <a:endParaRPr b="0" lang="en-US" sz="2800" spc="-1" strike="noStrike">
              <a:solidFill>
                <a:srgbClr val="82979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2767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66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Garamond"/>
              </a:rPr>
              <a:t>Ageism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Discrimination base on age</a:t>
            </a:r>
            <a:endParaRPr b="0" lang="en-US" sz="2400" spc="-1" strike="noStrike">
              <a:solidFill>
                <a:srgbClr val="82979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6:51:43Z</dcterms:created>
  <dc:creator>Valued Customer</dc:creator>
  <dc:description/>
  <dc:language>en-US</dc:language>
  <cp:lastModifiedBy>roziya</cp:lastModifiedBy>
  <dcterms:modified xsi:type="dcterms:W3CDTF">2007-02-04T00:55:11Z</dcterms:modified>
  <cp:revision>23</cp:revision>
  <dc:subject/>
  <dc:title>PowerPoint Presentation</dc:title>
</cp:coreProperties>
</file>