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7E9-9F6C-4E03-A815-35C5605D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8C8-646B-4AFD-A2B5-0CCDDF5A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C70-40B1-45BF-A5E0-528D48D5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954-D833-49D8-B157-05C749F4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F96F-3DA5-48A0-9BCD-88E8BC32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CF0F-0297-4A68-89F5-B3DED51A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33E-09F6-4CEF-ABA1-7F90B6E1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7614-F266-4B65-A381-18C4BF22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0BEF-0A06-4D5E-9C0D-63F0DFB9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53A1-3268-4848-B04C-D1103C0D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79F1-4D06-4ED0-A67E-B7E47E76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F59-97DA-4E7B-813A-FB3356FF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8BAA-3740-409C-89E2-D53702F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6EDD-B9E3-4DD5-BC5B-1ADA2BA5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5B93-ADA4-4170-803C-487B941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FEA5-793B-4118-9BB3-6DCDD0A2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7191-96B3-4EE0-9CF9-ED038ACE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1AA-89C0-471C-AB01-3A6F5E9C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6D0-6ECF-41BE-BAB7-6E4DD049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87A-E057-499D-8966-AFE374EF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952-6C1E-4ED3-9497-85249DBD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B18-A315-439A-B5CA-5DD7CB83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935-FCFF-4154-B774-451BB79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D00-B433-444E-BADC-CF61ADB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B67B-C6E0-4EB9-9B30-905A9A29B23F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4D13-E3B8-4EFF-8E66-21F52E1C1687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86440" y="25704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HUMAN COMMUNICATION: </a:t>
            </a:r>
            <a:endParaRPr b="0" lang="en-US" sz="3200" spc="-1" strike="noStrike">
              <a:solidFill>
                <a:srgbClr val="82979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32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438280"/>
            <a:ext cx="586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Verbal Messages 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99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is a system for communication meaning; it is the concepts of confirmation &amp; disconfirmation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80" y="4267080"/>
            <a:ext cx="1806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4724280"/>
            <a:ext cx="6781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Palatino Linotype"/>
              </a:rPr>
              <a:t>Confirmatio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- you acknowledge the presence of another and indicate your acceptance of this perso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14300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Palatino Linotype"/>
              </a:rPr>
              <a:t>Disconfirmation</a:t>
            </a: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- a communication pattern in which you ignore someone’s presence as well as that person’s communication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666880"/>
            <a:ext cx="640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Rejectio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- you disagree with someone and indicate your unwillingness to accept something to other person says or does.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82224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391520" y="12952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14300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You pergi mana? Dah dekat 2 jam I tunggu you. You memang sengaja cari pasallah</a:t>
            </a:r>
            <a:endParaRPr b="0" lang="en-US" sz="20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343400"/>
            <a:ext cx="245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Palatino Linotype"/>
              </a:rPr>
              <a:t>Yang you marah sangat kenapa? Last week I tunggu you sampai 1 jam tak bising pun.. </a:t>
            </a:r>
            <a:endParaRPr b="0" lang="en-US" sz="20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26708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Ok, you have all the right to be angry. I should have call, but my car broke down. I lambat ni sebab tunggu teksi.</a:t>
            </a:r>
            <a:endParaRPr b="0" lang="en-US" sz="20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98108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bad"/>
                </a:solidFill>
                <a:latin typeface="Palatino Linotype"/>
              </a:rPr>
              <a:t>Jangan nak bising-bising, marah I tak habis lagi ni. Nanti you pulak yang kena.</a:t>
            </a:r>
            <a:endParaRPr b="0" lang="en-US" sz="2000" spc="-1" strike="noStrike">
              <a:solidFill>
                <a:srgbClr val="82979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05320" y="32004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124080" y="4343400"/>
            <a:ext cx="897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Palatino Linotype"/>
              </a:rPr>
              <a:t>Language is both Denotative &amp; Connotativ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1" lang="en-US" sz="2400" spc="-1" strike="noStrike" u="sng">
                <a:solidFill>
                  <a:srgbClr val="669900"/>
                </a:solidFill>
                <a:uFillTx/>
                <a:latin typeface="Palatino Linotype"/>
              </a:rPr>
              <a:t>Denotative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:-objective meaning of a terms, word that you can find in a dictionary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1" lang="en-US" sz="2400" spc="-1" strike="noStrike" u="sng">
                <a:solidFill>
                  <a:srgbClr val="669900"/>
                </a:solidFill>
                <a:uFillTx/>
                <a:latin typeface="Palatino Linotype"/>
              </a:rPr>
              <a:t>Connotative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- subjective or emotional meaning of a word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760" y="8128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Palatino Linotype"/>
              </a:rPr>
              <a:t>6 Principles of verbal message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4280" y="5791320"/>
            <a:ext cx="56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* S.I Hayakawa:  snarl words &amp; purr word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Palatino Linotype"/>
              </a:rPr>
              <a:t>2.</a:t>
            </a:r>
            <a:r>
              <a:rPr b="1" lang="en-US" sz="2400" spc="-1" strike="noStrike">
                <a:solidFill>
                  <a:srgbClr val="82979a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669900"/>
                </a:solidFill>
                <a:latin typeface="Palatino Linotype"/>
              </a:rPr>
              <a:t>Language varies in Abstractio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refer to the general concepts of situation , sentences or word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8280" y="8380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Palatino Linotype"/>
              </a:rPr>
              <a:t>6 Principles of verbal message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3352680" cy="3105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00400" y="4343400"/>
            <a:ext cx="23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5ba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Lov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5ba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Love to God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5ba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Puppy Lov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5ba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Motherly lov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523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3.</a:t>
            </a: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Language varies in Directnes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8280" y="8380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Palatino Linotype"/>
              </a:rPr>
              <a:t>6 Principles of verbal message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28600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direct speech:-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mpts to get the listener to say or do something without committing the speaker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rect speech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clearly state the speakers preferences and ask the listener whether they agre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62268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Eg: “ Malasnya nak ke kelas hari ini, macam nak sambung tidur lagilah”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56272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Eg: “ I tak nak pergi kelas lah hari ni, malas…you nak pergi ke?”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5238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Message are culturally Influenced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ultural rules focus on the principles that you culture consider important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8280" y="8380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Palatino Linotype"/>
              </a:rPr>
              <a:t>6 Principles of verbal message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120" y="3505320"/>
            <a:ext cx="5779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Message vary in Politenes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2979a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Language Meanings are in peopl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106668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9900"/>
                </a:solidFill>
                <a:uFillTx/>
                <a:latin typeface="Garamond"/>
              </a:rPr>
              <a:t>Specific Forms of Disconfirmation</a:t>
            </a:r>
            <a:r>
              <a:rPr b="1" lang="en-US" sz="2400" spc="-1" strike="noStrike">
                <a:solidFill>
                  <a:srgbClr val="82979a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Sexism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anguage that puts down people because of their gender.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* sex role stereotyping – assumption that certain roles or professions belong to men and others belong to wome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4956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Heterosexism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anguage that puts down or negatively evaluates gay men and lesbian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91440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9900"/>
                </a:solidFill>
                <a:uFillTx/>
                <a:latin typeface="Garamond"/>
              </a:rPr>
              <a:t>Specific Forms of Disconfirmation</a:t>
            </a: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Racism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anguage that puts down or negatively evaluates members of racial subgroup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2767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Ageism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iscrimination base on ag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6:51:43Z</dcterms:created>
  <dc:creator>Valued Customer</dc:creator>
  <dc:description/>
  <dc:language>en-US</dc:language>
  <cp:lastModifiedBy>roziya</cp:lastModifiedBy>
  <dcterms:modified xsi:type="dcterms:W3CDTF">2007-02-04T00:55:11Z</dcterms:modified>
  <cp:revision>23</cp:revision>
  <dc:subject/>
  <dc:title>PowerPoint Presentation</dc:title>
</cp:coreProperties>
</file>