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9.jpeg" ContentType="image/jpeg"/>
  <Override PartName="/ppt/media/image2.png" ContentType="image/png"/>
  <Override PartName="/ppt/media/image25.jpeg" ContentType="image/jpeg"/>
  <Override PartName="/ppt/media/image3.jpeg" ContentType="image/jpeg"/>
  <Override PartName="/ppt/media/image28.jpeg" ContentType="image/jpeg"/>
  <Override PartName="/ppt/media/image27.jpeg" ContentType="image/jpeg"/>
  <Override PartName="/ppt/media/image17.png" ContentType="image/png"/>
  <Override PartName="/ppt/media/image26.jpeg" ContentType="image/jpeg"/>
  <Override PartName="/ppt/media/image19.png" ContentType="image/png"/>
  <Override PartName="/ppt/media/image23.jpeg" ContentType="image/jpeg"/>
  <Override PartName="/ppt/media/image18.jpeg" ContentType="image/jpeg"/>
  <Override PartName="/ppt/media/image1.png" ContentType="image/png"/>
  <Override PartName="/ppt/media/image24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EC18B-5A5B-429B-BB89-C4B902BBC8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CFB2D-CC0C-46B6-9C68-182BF3629C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4D454-150F-4B30-ABA6-6867F90C5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DC71D-E25D-43D2-9A44-173B1A7BC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737950-EDA9-4E12-AAAC-2ECA42585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499132-0D4E-4F53-9BE8-0490CF060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65DC1F-18B2-4141-BD11-FF2A662AA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3E546F-3205-4E66-941E-136C63B73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F07FC1-80EC-4840-8695-EFBACB759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1674E0-52B3-4C7B-997B-318D986D7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07DB04-7679-4747-B01A-B8843F56C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37779E-09E0-4D78-A688-551766AEC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0B8582-7FE3-41AE-B8F1-BFCDBC0DB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9EC142-0A27-4447-BF0A-1891CDA2A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15397-C5A2-49CD-B0BF-F5DDB4E55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9E2AFA-C12D-40FE-A60E-BC2875E79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1E9680-0792-4FFE-AC9A-DFAEF9E60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FA278F-B824-4A60-943D-8DB1A1AAC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0EF99B-CE79-4B0D-A06C-A004C2071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B0DD1D-0BBA-4F0A-ACFF-94C369882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8CB13B-7F97-4882-A89D-5D6971421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378FE5-F355-4C33-9328-10AB5E770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4D335D-98E1-4E53-BAF8-11C92DEEC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B76783-F50C-4B86-8C21-DF848F47A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679EED-3D70-4B3A-AFD6-238CCC127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ED594-C14A-4E1D-90D5-7573F75E8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1DC29E-F17F-4168-A9CC-01854307D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DBF39F-013F-4FA2-998F-28C9B7DDC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042EC5-EC34-48B2-BFD8-0CE90D48A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726DEE-D339-4AEF-A8C2-435C036EF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F14FBE-5992-4ED4-B61A-BE85E90A9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446BBB-EED9-4FE1-A814-0B30201E3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E760DE-5C92-4A8E-B75D-32227CD41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C7CDFF-5A2C-43C6-A45B-ED1643815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CBC58D-A794-486F-8610-79ED4BB26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C1F85D-C422-4274-85A0-6968C49E8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BB762-1F78-46BB-BA92-F5BEA76A2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2EC2EF-DA1E-4975-B7DA-1A0DD02B5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0756B4-B615-46B3-A0A3-81D04EF85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D3833E-E561-4B04-8BB3-CD408A23A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8CB64F-DF9B-4590-BF2B-55AD09061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FA7F24-56A4-4309-BDED-CEA78816E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BBA474-2340-421E-AD6A-93CB8C0D2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8D32B0-8570-4353-ADF4-0C4C1B1F6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886255-E891-4AB2-89E3-FB228B945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11D4BF-CC02-4AF3-A9DF-FB7DA575E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4A238E-6ED6-4574-9C88-4856CA50F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B399F-99F0-49A2-AAD3-02E62E965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A636D3-68C1-4A1C-8274-9D0E6F504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185B14-1BAB-4647-939F-48FBEF495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9FBE4E-3CBE-47A7-9D44-84C6FCB1C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AF2A88-C744-4E79-9C64-CB1BBBC71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EF4CBA-AD25-4657-9BFC-5554687CF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C6D04-1384-46DD-993A-8BD6E7A89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B080D-4B2E-42D5-8C51-37C885FDA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B64C8-8694-4D38-8430-A2B53AE4B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04304-BA1C-410C-99A4-1505B457E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C6CAD-48AF-4F84-9CF7-03B60C0A4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9812E-9500-40EA-BC89-8924CE314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B35AD-DD6E-4F37-8E50-3F84899BF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F5799-1DA3-4036-ABBA-2BD555557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2244C-F770-4DD0-BC92-A5EED133C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81806-3A13-4668-9972-C042AE677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E683C-83D5-493A-B25A-BDF288646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74688E-32A0-4578-AC5A-86068D670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F563BE-2EC5-4342-9929-70F51D1F8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A27547-88E8-4762-8AAB-B4A642D7A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AD14D3-4733-4206-A76A-BDB1EA54E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CEC083-EA33-4E12-95F6-C7FDBA538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F78EB-CD7E-49F1-958E-1A1378A20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CCE572-EB06-4AFF-95DA-AE643B5AC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F561E5-BA44-4C10-B925-E0977D325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E92857-7203-487A-BEF6-051238A07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F9C9EA-3A05-4E07-B434-B090FE6DD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8A3C60-F143-4103-ABF9-09864D753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8B2458-521B-4295-9A52-BAFD4188C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3F86EF-B3D5-4EB7-956C-F2EAB63B6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81F7A8-5BCC-4C57-8F54-1094D522D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B9CF70-007A-489B-A1D9-DD21B0F51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71A814-0717-4F98-8BF0-228B55F2C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3CAE5-65C3-445E-A49F-84E0AC2A5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18E547-BC19-4D00-A350-64C1C3D9A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2D6688-E82B-4E87-B59D-82C6EFA67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EC2765-C093-4D4B-843D-A69A337F1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9F9A52-611B-4294-894F-4875EB56F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0950DD-5C5F-407B-B29C-DA33CD92E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021769-9C25-4705-B3AB-6EB487531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6B6B4C-F30F-4C81-8EF4-5C4A1163D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BFD3EC-1B73-497E-82DD-B2FC052F5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816AFF-93DE-4E54-A012-0B701923A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6280C0-87D4-4BD4-B2CA-FC43FB82B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E9023-7CF6-481B-BA65-7126C2944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96F37B-1C88-4B87-8212-6813171B5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781F16-55C0-4BB6-8095-3151BA895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155A8E-DD3D-470D-B343-AA27CA71C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317414-445D-406A-9F59-B84F79298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29752E-5BD7-4419-ADEA-9B3BD4C48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60ADF4-3426-47C4-A097-8DB38E204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2F47F8-B89B-4981-9FDB-C37C36B59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22D6EF-E363-48F9-899E-8E647A105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603AB9-581F-424C-A6D7-D98CC3042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44206D-C865-4ABB-9041-FA1B201A1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6CA8E-0350-43BB-9437-E4E125AA7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E95B7C-102C-4931-BFBE-414B48CB3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CBD363-C859-457C-97A3-7D63B0203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A41122-7998-4B6D-80B4-86FE86978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0B33B9-57EB-4431-9F49-8A2AF5885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1414C4-739B-41FC-9553-85FA57505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843E55-D70A-4AA1-939C-59346CBDE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6D9319-D6F4-49A3-9503-E7ECFD453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5DE63D-924B-435B-BECF-F102D88C9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7F31F1-9804-411E-8837-0585C61CD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79A8C7-69AE-43B3-99BE-888EAB522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0EB0A-4025-4C8F-80A8-C78FCBA87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027C17-F80D-4DF0-92AF-D2829162E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C3234D-B0AA-4716-A011-F76D5922C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1C224C-89F6-4CE7-A432-D245BF26F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AB215F-43D2-492F-B4F9-0D9D3D37D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424FE7-91B7-40F9-968B-81D01D7B1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0F9E22-E7E2-4373-AA40-BC930E2E7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1ED129-E2A8-4B4E-9E9F-A48A137B5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5D0965-3673-4717-B5BF-587E0FEC8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B0A924-A99C-4DCF-9826-8147AE904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759776-225E-4CC9-B1C5-A07962508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9AE3B-2843-4FFF-B03B-42AB19169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EFDA69-A69A-4937-A3FA-5E6349E0D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D58AA5-F502-47D4-B06F-EFC5B921F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590A8D-BEE0-426B-B40E-EB8501DD8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753132-3AF9-4AAA-A272-F704D5687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5BEBE8-43A8-4067-AB27-610108B25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F88E34-8B41-4D97-9990-496AE99B3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284C63-CAAC-418E-A141-869E5FCD9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601954-78FC-4AF9-87A9-9CD96393F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0C94FF-786E-4D0F-997D-9E2AADE93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7A0E4C-9997-4D2F-B825-B9AE4F347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0CEA6-A5A2-46F5-B671-C93F882C3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A1C12B-50B9-46BF-8555-9E17D99F9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17C02F-F7DD-4D25-85AE-04D0A8B7F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BA196C-8401-4C69-82E6-778771477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4DE85B-7D1A-4B16-9627-E49A68D2F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9E1DA2-E732-453D-8796-BCC236B3B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8743ED-F0B6-4E1C-94F6-5868E5466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BE1D40-06AD-4A5A-8E26-AF7314703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47A09A-06F3-465C-A988-5545E76A5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399BBD-D69F-4AD9-97C7-59805CA83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85234D-0670-419C-A5FB-F72C84D49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8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8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8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8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Zyxel_P660_FW_UPG_V1.0_88.08.2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B0BBB-F9CA-4019-B9A6-1B8FFE038793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42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42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42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 type="ftr" idx="29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Zyxel_P660_FW_UPG_V1.0_88.08.2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 type="sldNum" idx="30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CD97A-A231-41F4-AD75-5584254F2EB5}" type="slidenum">
              <a:rPr b="0" lang="ar-SA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47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47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7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47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7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Zyxel_P660_FW_UPG_V1.0_88.08.2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281F7-90E1-4A3E-B4CB-A373F6FB8D57}" type="slidenum">
              <a:rPr b="0" lang="ar-SA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 type="ftr" idx="3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Zyxel_P660_FW_UPG_V1.0_88.08.2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 type="sldNum" idx="3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57B66-542E-4F98-9F82-0772FD275586}" type="slidenum">
              <a:rPr b="0" lang="ar-SA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Zyxel_P660_FW_UPG_V1.0_88.08.2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03F0E-B49E-4AC0-A116-3BA13F503BDC}" type="slidenum">
              <a:rPr b="0" lang="ar-SA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5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6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9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99" name="Freeform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10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0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8f0f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8f0f4"/>
                </a:solidFill>
                <a:latin typeface="Times New Roman"/>
              </a:rPr>
              <a:t>Zyxel_P660_FW_UPG_V1.0_88.08.2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9D6FD-E436-45E0-B485-4F308C35C574}" type="slidenum">
              <a:rPr b="0" lang="ar-SA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Zyxel_P660_FW_UPG_V1.0_88.08.2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109C0-6763-47FF-8DA6-166D4428B452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9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Zyxel_P660_FW_UPG_V1.0_88.08.2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13DA5-04B3-4298-B2D3-10DCC3DC1128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Zyxel_P660_FW_UPG_V1.0_88.08.2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228B8-AAF6-4F47-8747-E78658B02F8C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8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8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Zyxel_P660_FW_UPG_V1.0_88.08.2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A9BC6-CA4D-4B01-9C21-C6AACFAFB25E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Zyxel_P660_FW_UPG_V1.0_88.08.2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AD42C-CB1A-4671-994B-1665AC44B1A3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Freeform 10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Freeform 15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3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7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7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7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 type="dt" idx="25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 type="ftr" idx="26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Zyxel_P660_FW_UPG_V1.0_88.08.2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 type="sldNum" idx="27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29A1B-50E8-42EF-B6DD-BE161F807A9C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"/>
          <p:cNvSpPr txBox="1"/>
          <p:nvPr/>
        </p:nvSpPr>
        <p:spPr>
          <a:xfrm>
            <a:off x="457200" y="6858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318960" indent="-31896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onstantia"/>
              </a:rPr>
              <a:t>Upgrading Firmware of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318960" indent="-318960" algn="ctr">
              <a:lnSpc>
                <a:spcPct val="80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900" spc="-1" strike="noStrike">
                <a:solidFill>
                  <a:srgbClr val="ffffff"/>
                </a:solidFill>
                <a:latin typeface="Arial"/>
                <a:ea typeface="Arial"/>
              </a:rPr>
              <a:t>ZyXEL</a:t>
            </a:r>
            <a:endParaRPr b="0" lang="en-US" sz="4900" spc="-1" strike="noStrike">
              <a:solidFill>
                <a:srgbClr val="000000"/>
              </a:solidFill>
              <a:latin typeface="Constantia"/>
            </a:endParaRPr>
          </a:p>
          <a:p>
            <a:pPr marL="318960" indent="-31896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nstantia"/>
                <a:ea typeface="Arial"/>
              </a:rPr>
              <a:t>ADSL Router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18960" indent="-31896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nstantia"/>
                <a:ea typeface="Arial"/>
              </a:rPr>
              <a:t>P660RU &amp; P660Hw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18960" indent="-31896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573" name="Picture 7" descr="POLTEL-LOGO-Large.jpg"/>
          <p:cNvPicPr/>
          <p:nvPr/>
        </p:nvPicPr>
        <p:blipFill>
          <a:blip r:embed="rId2"/>
          <a:stretch/>
        </p:blipFill>
        <p:spPr>
          <a:xfrm>
            <a:off x="2057400" y="5122800"/>
            <a:ext cx="5181480" cy="1430280"/>
          </a:xfrm>
          <a:prstGeom prst="rect">
            <a:avLst/>
          </a:prstGeom>
          <a:ln w="0">
            <a:noFill/>
          </a:ln>
        </p:spPr>
      </p:pic>
      <p:sp>
        <p:nvSpPr>
          <p:cNvPr id="574" name="TextBox 6"/>
          <p:cNvSpPr/>
          <p:nvPr/>
        </p:nvSpPr>
        <p:spPr>
          <a:xfrm>
            <a:off x="1447920" y="3833640"/>
            <a:ext cx="6095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Maintenance Adsl Te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Version 1.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88.08.3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Title 1"/>
          <p:cNvSpPr/>
          <p:nvPr/>
        </p:nvSpPr>
        <p:spPr>
          <a:xfrm>
            <a:off x="457200" y="5335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Lucida Sans Unicode"/>
              </a:rPr>
              <a:t>در حالتی که از مودم </a:t>
            </a:r>
            <a:r>
              <a:rPr b="1" lang="en-US" sz="1600" spc="-1" strike="noStrike">
                <a:solidFill>
                  <a:srgbClr val="000000"/>
                </a:solidFill>
                <a:latin typeface="Lucida Sans Unicode"/>
              </a:rPr>
              <a:t>P660HW</a:t>
            </a:r>
            <a:r>
              <a:rPr b="1" lang="fa-IR" sz="1600" spc="-1" strike="noStrike">
                <a:solidFill>
                  <a:srgbClr val="000000"/>
                </a:solidFill>
                <a:latin typeface="Lucida Sans Unicode"/>
              </a:rPr>
              <a:t> استفاده می کنید نکات زبر را در نظر بگیرید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Lucida Sans Unicode"/>
              </a:rPr>
              <a:t>- </a:t>
            </a:r>
            <a:r>
              <a:rPr b="1" lang="en-US" sz="1600" spc="-1" strike="noStrike">
                <a:solidFill>
                  <a:srgbClr val="000000"/>
                </a:solidFill>
                <a:latin typeface="Lucida Sans Unicode"/>
              </a:rPr>
              <a:t>IP Address</a:t>
            </a:r>
            <a:r>
              <a:rPr b="1" lang="fa-IR" sz="1600" spc="-1" strike="noStrike">
                <a:solidFill>
                  <a:srgbClr val="000000"/>
                </a:solidFill>
                <a:latin typeface="Lucida Sans Unicode"/>
              </a:rPr>
              <a:t> در حالت </a:t>
            </a:r>
            <a:r>
              <a:rPr b="1" lang="en-US" sz="1600" spc="-1" strike="noStrike">
                <a:solidFill>
                  <a:srgbClr val="000000"/>
                </a:solidFill>
                <a:latin typeface="Lucida Sans Unicode"/>
              </a:rPr>
              <a:t>Obtain an IP Address Automatically</a:t>
            </a:r>
            <a:r>
              <a:rPr b="1" lang="fa-IR" sz="1600" spc="-1" strike="noStrike">
                <a:solidFill>
                  <a:srgbClr val="000000"/>
                </a:solidFill>
                <a:latin typeface="Lucida Sans Unicode"/>
              </a:rPr>
              <a:t> قرار بگیر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Lucida Sans Unicode"/>
              </a:rPr>
              <a:t>- </a:t>
            </a:r>
            <a:r>
              <a:rPr b="1" lang="en-US" sz="1600" spc="-1" strike="noStrike">
                <a:solidFill>
                  <a:srgbClr val="000000"/>
                </a:solidFill>
                <a:latin typeface="Lucida Sans Unicode"/>
              </a:rPr>
              <a:t>Connection Mode</a:t>
            </a:r>
            <a:r>
              <a:rPr b="1" lang="fa-IR" sz="1600" spc="-1" strike="noStrike">
                <a:solidFill>
                  <a:srgbClr val="000000"/>
                </a:solidFill>
                <a:latin typeface="Lucida Sans Unicode"/>
              </a:rPr>
              <a:t> در حالت </a:t>
            </a:r>
            <a:r>
              <a:rPr b="1" lang="en-US" sz="1600" spc="-1" strike="noStrike">
                <a:solidFill>
                  <a:srgbClr val="000000"/>
                </a:solidFill>
                <a:latin typeface="Lucida Sans Unicode"/>
              </a:rPr>
              <a:t>Nailed-up Connection</a:t>
            </a:r>
            <a:r>
              <a:rPr b="1" lang="fa-IR" sz="1600" spc="-1" strike="noStrike">
                <a:solidFill>
                  <a:srgbClr val="000000"/>
                </a:solidFill>
                <a:latin typeface="Lucida Sans Unicode"/>
              </a:rPr>
              <a:t> تنظیم گرد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3" name="Picture 6" descr="POLTEL-LOGO-Large.jpg"/>
          <p:cNvPicPr/>
          <p:nvPr/>
        </p:nvPicPr>
        <p:blipFill>
          <a:blip r:embed="rId1"/>
          <a:stretch/>
        </p:blipFill>
        <p:spPr>
          <a:xfrm>
            <a:off x="6383160" y="6095880"/>
            <a:ext cx="2760840" cy="762120"/>
          </a:xfrm>
          <a:prstGeom prst="rect">
            <a:avLst/>
          </a:prstGeom>
          <a:ln w="0">
            <a:noFill/>
          </a:ln>
        </p:spPr>
      </p:pic>
      <p:pic>
        <p:nvPicPr>
          <p:cNvPr id="604" name="Picture 12" descr="zyxel1.jpg"/>
          <p:cNvPicPr/>
          <p:nvPr/>
        </p:nvPicPr>
        <p:blipFill>
          <a:blip r:embed="rId2"/>
          <a:stretch/>
        </p:blipFill>
        <p:spPr>
          <a:xfrm>
            <a:off x="1752480" y="1371600"/>
            <a:ext cx="5848560" cy="4419720"/>
          </a:xfrm>
          <a:prstGeom prst="rect">
            <a:avLst/>
          </a:prstGeom>
          <a:ln w="0">
            <a:noFill/>
          </a:ln>
        </p:spPr>
      </p:pic>
      <p:sp>
        <p:nvSpPr>
          <p:cNvPr id="605" name="Rectangle 13"/>
          <p:cNvSpPr/>
          <p:nvPr/>
        </p:nvSpPr>
        <p:spPr>
          <a:xfrm>
            <a:off x="3276720" y="3733920"/>
            <a:ext cx="1676160" cy="228600"/>
          </a:xfrm>
          <a:prstGeom prst="rect">
            <a:avLst/>
          </a:prstGeom>
          <a:solidFill>
            <a:srgbClr val="2da2bf">
              <a:alpha val="27000"/>
            </a:srgbClr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Rectangle 14"/>
          <p:cNvSpPr/>
          <p:nvPr/>
        </p:nvSpPr>
        <p:spPr>
          <a:xfrm>
            <a:off x="3352680" y="4419720"/>
            <a:ext cx="1067040" cy="228600"/>
          </a:xfrm>
          <a:prstGeom prst="rect">
            <a:avLst/>
          </a:prstGeom>
          <a:solidFill>
            <a:srgbClr val="2da2bf">
              <a:alpha val="23000"/>
            </a:srgbClr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Rectangle 15"/>
          <p:cNvSpPr/>
          <p:nvPr/>
        </p:nvSpPr>
        <p:spPr>
          <a:xfrm>
            <a:off x="1752480" y="2209680"/>
            <a:ext cx="838440" cy="381240"/>
          </a:xfrm>
          <a:prstGeom prst="rect">
            <a:avLst/>
          </a:prstGeom>
          <a:solidFill>
            <a:srgbClr val="da1f28">
              <a:alpha val="25000"/>
            </a:srgbClr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Title 1"/>
          <p:cNvSpPr/>
          <p:nvPr/>
        </p:nvSpPr>
        <p:spPr>
          <a:xfrm>
            <a:off x="457200" y="533520"/>
            <a:ext cx="822960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Lucida Sans Unicode"/>
              </a:rPr>
              <a:t>پس از انجام عمل </a:t>
            </a:r>
            <a:r>
              <a:rPr b="1" lang="en-US" sz="1600" spc="-1" strike="noStrike">
                <a:solidFill>
                  <a:srgbClr val="000000"/>
                </a:solidFill>
                <a:latin typeface="Lucida Sans Unicode"/>
              </a:rPr>
              <a:t>Upgrade</a:t>
            </a:r>
            <a:r>
              <a:rPr b="1" lang="fa-IR" sz="1600" spc="-1" strike="noStrike">
                <a:solidFill>
                  <a:srgbClr val="000000"/>
                </a:solidFill>
                <a:latin typeface="Lucida Sans Unicode"/>
              </a:rPr>
              <a:t> نسخه </a:t>
            </a:r>
            <a:r>
              <a:rPr b="1" lang="en-US" sz="1600" spc="-1" strike="noStrike">
                <a:solidFill>
                  <a:srgbClr val="000000"/>
                </a:solidFill>
                <a:latin typeface="Lucida Sans Unicode"/>
              </a:rPr>
              <a:t>Firmware</a:t>
            </a:r>
            <a:r>
              <a:rPr b="1" lang="fa-IR" sz="1600" spc="-1" strike="noStrike">
                <a:solidFill>
                  <a:srgbClr val="000000"/>
                </a:solidFill>
                <a:latin typeface="Lucida Sans Unicode"/>
              </a:rPr>
              <a:t> برای هر مودم بشرح زیر می باشد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Lucida Sans Unicode"/>
              </a:rPr>
              <a:t>- P660RU-T1 v2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Lucida Sans Unicode"/>
              </a:rPr>
              <a:t> V3.40(BJO.3)b1 | 11/20/20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Lucida Sans Unicode"/>
              </a:rPr>
              <a:t>- P660HW-T1 v2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Lucida Sans Unicode"/>
              </a:rPr>
              <a:t> V3.40(BJN.3)b2 | 11/19/20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Picture 6" descr="POLTEL-LOGO-Large.jpg"/>
          <p:cNvPicPr/>
          <p:nvPr/>
        </p:nvPicPr>
        <p:blipFill>
          <a:blip r:embed="rId1"/>
          <a:stretch/>
        </p:blipFill>
        <p:spPr>
          <a:xfrm>
            <a:off x="6383160" y="6095880"/>
            <a:ext cx="276084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TextBox 8"/>
          <p:cNvSpPr/>
          <p:nvPr/>
        </p:nvSpPr>
        <p:spPr>
          <a:xfrm>
            <a:off x="533520" y="3276720"/>
            <a:ext cx="7924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Lucida Sans Unicode"/>
              </a:rPr>
              <a:t>Thank you for your ti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ADSL Maintenance Te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1" name="Picture 7" descr="POLTEL-LOGO-Large.jpg"/>
          <p:cNvPicPr/>
          <p:nvPr/>
        </p:nvPicPr>
        <p:blipFill>
          <a:blip r:embed="rId1"/>
          <a:stretch/>
        </p:blipFill>
        <p:spPr>
          <a:xfrm>
            <a:off x="1523880" y="0"/>
            <a:ext cx="607248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5" name="Rectangle 2" descr=""/>
          <p:cNvPicPr/>
          <p:nvPr/>
        </p:nvPicPr>
        <p:blipFill>
          <a:blip r:embed="rId1"/>
          <a:stretch/>
        </p:blipFill>
        <p:spPr>
          <a:xfrm>
            <a:off x="450720" y="225360"/>
            <a:ext cx="8291520" cy="1152720"/>
          </a:xfrm>
          <a:prstGeom prst="rect">
            <a:avLst/>
          </a:prstGeom>
          <a:ln w="0">
            <a:noFill/>
          </a:ln>
        </p:spPr>
      </p:pic>
      <p:pic>
        <p:nvPicPr>
          <p:cNvPr id="576" name="Picture 6" descr="15"/>
          <p:cNvPicPr/>
          <p:nvPr/>
        </p:nvPicPr>
        <p:blipFill>
          <a:blip r:embed="rId2"/>
          <a:stretch/>
        </p:blipFill>
        <p:spPr>
          <a:xfrm>
            <a:off x="898560" y="1143000"/>
            <a:ext cx="7346880" cy="45244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77" name="Picture 6" descr="POLTEL-LOGO-Large.jpg"/>
          <p:cNvPicPr/>
          <p:nvPr/>
        </p:nvPicPr>
        <p:blipFill>
          <a:blip r:embed="rId3"/>
          <a:stretch/>
        </p:blipFill>
        <p:spPr>
          <a:xfrm>
            <a:off x="6383160" y="6095880"/>
            <a:ext cx="276084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8" name="Rectangle 2" descr=""/>
          <p:cNvPicPr/>
          <p:nvPr/>
        </p:nvPicPr>
        <p:blipFill>
          <a:blip r:embed="rId1"/>
          <a:stretch/>
        </p:blipFill>
        <p:spPr>
          <a:xfrm>
            <a:off x="450720" y="225360"/>
            <a:ext cx="8309160" cy="1609920"/>
          </a:xfrm>
          <a:prstGeom prst="rect">
            <a:avLst/>
          </a:prstGeom>
          <a:ln w="0">
            <a:noFill/>
          </a:ln>
        </p:spPr>
      </p:pic>
      <p:pic>
        <p:nvPicPr>
          <p:cNvPr id="579" name="Picture 6" descr="16"/>
          <p:cNvPicPr/>
          <p:nvPr/>
        </p:nvPicPr>
        <p:blipFill>
          <a:blip r:embed="rId2"/>
          <a:srcRect l="2955" t="3226" r="5547" b="8065"/>
          <a:stretch/>
        </p:blipFill>
        <p:spPr>
          <a:xfrm>
            <a:off x="1143000" y="1371600"/>
            <a:ext cx="6172200" cy="43513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80" name="Picture 6" descr="POLTEL-LOGO-Large.jpg"/>
          <p:cNvPicPr/>
          <p:nvPr/>
        </p:nvPicPr>
        <p:blipFill>
          <a:blip r:embed="rId3"/>
          <a:stretch/>
        </p:blipFill>
        <p:spPr>
          <a:xfrm>
            <a:off x="6383160" y="6095880"/>
            <a:ext cx="276084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1" name="Rectangle 2" descr=""/>
          <p:cNvPicPr/>
          <p:nvPr/>
        </p:nvPicPr>
        <p:blipFill>
          <a:blip r:embed="rId1"/>
          <a:stretch/>
        </p:blipFill>
        <p:spPr>
          <a:xfrm>
            <a:off x="-237960" y="-85680"/>
            <a:ext cx="9315360" cy="1158840"/>
          </a:xfrm>
          <a:prstGeom prst="rect">
            <a:avLst/>
          </a:prstGeom>
          <a:ln w="0">
            <a:noFill/>
          </a:ln>
        </p:spPr>
      </p:pic>
      <p:pic>
        <p:nvPicPr>
          <p:cNvPr id="582" name="Picture 3" descr="01.jpg"/>
          <p:cNvPicPr/>
          <p:nvPr/>
        </p:nvPicPr>
        <p:blipFill>
          <a:blip r:embed="rId2"/>
          <a:stretch/>
        </p:blipFill>
        <p:spPr>
          <a:xfrm>
            <a:off x="484200" y="1263600"/>
            <a:ext cx="7897680" cy="4527720"/>
          </a:xfrm>
          <a:prstGeom prst="rect">
            <a:avLst/>
          </a:prstGeom>
          <a:ln w="0">
            <a:noFill/>
          </a:ln>
        </p:spPr>
      </p:pic>
      <p:sp>
        <p:nvSpPr>
          <p:cNvPr id="583" name="Rectangle 4"/>
          <p:cNvSpPr/>
          <p:nvPr/>
        </p:nvSpPr>
        <p:spPr>
          <a:xfrm>
            <a:off x="2895480" y="2657520"/>
            <a:ext cx="1600200" cy="76320"/>
          </a:xfrm>
          <a:prstGeom prst="rect">
            <a:avLst/>
          </a:prstGeom>
          <a:solidFill>
            <a:srgbClr val="ff0000">
              <a:alpha val="16000"/>
            </a:srgbClr>
          </a:solidFill>
          <a:ln w="55080">
            <a:solidFill>
              <a:srgbClr val="ff0000">
                <a:alpha val="4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4" name="Picture 6" descr="POLTEL-LOGO-Large.jpg"/>
          <p:cNvPicPr/>
          <p:nvPr/>
        </p:nvPicPr>
        <p:blipFill>
          <a:blip r:embed="rId3"/>
          <a:stretch/>
        </p:blipFill>
        <p:spPr>
          <a:xfrm>
            <a:off x="6383160" y="6095880"/>
            <a:ext cx="276084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5" name="Picture 6" descr="POLTEL-LOGO-Large.jpg"/>
          <p:cNvPicPr/>
          <p:nvPr/>
        </p:nvPicPr>
        <p:blipFill>
          <a:blip r:embed="rId1"/>
          <a:stretch/>
        </p:blipFill>
        <p:spPr>
          <a:xfrm>
            <a:off x="6383160" y="6095880"/>
            <a:ext cx="2760840" cy="762120"/>
          </a:xfrm>
          <a:prstGeom prst="rect">
            <a:avLst/>
          </a:prstGeom>
          <a:ln w="0">
            <a:noFill/>
          </a:ln>
        </p:spPr>
      </p:pic>
      <p:sp>
        <p:nvSpPr>
          <p:cNvPr id="586" name="Title 11"/>
          <p:cNvSpPr/>
          <p:nvPr/>
        </p:nvSpPr>
        <p:spPr>
          <a:xfrm>
            <a:off x="838080" y="533520"/>
            <a:ext cx="7809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365040" indent="-255600" algn="r" rtl="1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500" spc="-1" strike="noStrike">
                <a:solidFill>
                  <a:srgbClr val="000000"/>
                </a:solidFill>
                <a:latin typeface="Lucida Sans Unicode"/>
              </a:rPr>
              <a:t>در این صفحه در قسمت</a:t>
            </a:r>
            <a:r>
              <a:rPr b="1" lang="en-US" sz="15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r>
              <a:rPr b="1" lang="en-US" sz="1500" spc="-1" strike="noStrike">
                <a:solidFill>
                  <a:srgbClr val="000000"/>
                </a:solidFill>
                <a:latin typeface="Lucida Sans Unicode"/>
              </a:rPr>
              <a:t>Firmware</a:t>
            </a:r>
            <a:r>
              <a:rPr b="1" lang="fa-IR" sz="1500" spc="-1" strike="noStrike">
                <a:solidFill>
                  <a:srgbClr val="000000"/>
                </a:solidFill>
                <a:latin typeface="Lucida Sans Unicode"/>
              </a:rPr>
              <a:t> روی دکمه </a:t>
            </a:r>
            <a:r>
              <a:rPr b="1" lang="en-US" sz="1500" spc="-1" strike="noStrike">
                <a:solidFill>
                  <a:srgbClr val="000000"/>
                </a:solidFill>
                <a:latin typeface="Lucida Sans Unicode"/>
              </a:rPr>
              <a:t>Browse</a:t>
            </a:r>
            <a:r>
              <a:rPr b="1" lang="fa-IR" sz="1500" spc="-1" strike="noStrike">
                <a:solidFill>
                  <a:srgbClr val="000000"/>
                </a:solidFill>
                <a:latin typeface="Lucida Sans Unicode"/>
              </a:rPr>
              <a:t> کلیک کرده و مسیر </a:t>
            </a:r>
            <a:r>
              <a:rPr b="1" lang="en-US" sz="1500" spc="-1" strike="noStrike">
                <a:solidFill>
                  <a:srgbClr val="000000"/>
                </a:solidFill>
                <a:latin typeface="Lucida Sans Unicode"/>
              </a:rPr>
              <a:t>Firmware</a:t>
            </a:r>
            <a:r>
              <a:rPr b="1" lang="en-US" sz="15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fa-IR" sz="1500" spc="-1" strike="noStrike">
                <a:solidFill>
                  <a:srgbClr val="000000"/>
                </a:solidFill>
                <a:latin typeface="Lucida Sans Unicode"/>
              </a:rPr>
              <a:t> جدید را وارد کنید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7" name="Picture 8" descr="03.jpg"/>
          <p:cNvPicPr/>
          <p:nvPr/>
        </p:nvPicPr>
        <p:blipFill>
          <a:blip r:embed="rId2"/>
          <a:stretch/>
        </p:blipFill>
        <p:spPr>
          <a:xfrm>
            <a:off x="380880" y="1143000"/>
            <a:ext cx="84204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Title 11"/>
          <p:cNvSpPr/>
          <p:nvPr/>
        </p:nvSpPr>
        <p:spPr>
          <a:xfrm>
            <a:off x="533520" y="533520"/>
            <a:ext cx="8113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343080" indent="-343080" algn="r" rtl="1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600" spc="-1" strike="noStrike">
                <a:solidFill>
                  <a:srgbClr val="000000"/>
                </a:solidFill>
                <a:latin typeface="Lucida Sans Unicode"/>
              </a:rPr>
              <a:t>روی دکمه </a:t>
            </a:r>
            <a:r>
              <a:rPr b="1" lang="en-US" sz="1600" spc="-1" strike="noStrike">
                <a:solidFill>
                  <a:srgbClr val="000000"/>
                </a:solidFill>
                <a:latin typeface="Lucida Sans Unicode"/>
              </a:rPr>
              <a:t>Upload</a:t>
            </a:r>
            <a:r>
              <a:rPr b="1" lang="fa-IR" sz="1600" spc="-1" strike="noStrike">
                <a:solidFill>
                  <a:srgbClr val="000000"/>
                </a:solidFill>
                <a:latin typeface="Lucida Sans Unicode"/>
              </a:rPr>
              <a:t> کلیک کنید و منتظر بمانید تا </a:t>
            </a:r>
            <a:r>
              <a:rPr b="1" lang="en-US" sz="1600" spc="-1" strike="noStrike">
                <a:solidFill>
                  <a:srgbClr val="000000"/>
                </a:solidFill>
                <a:latin typeface="Lucida Sans Unicode"/>
              </a:rPr>
              <a:t>Firmware</a:t>
            </a:r>
            <a:r>
              <a:rPr b="1" lang="en-US" sz="16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fa-IR" sz="1600" spc="-1" strike="noStrike">
                <a:solidFill>
                  <a:srgbClr val="000000"/>
                </a:solidFill>
                <a:latin typeface="Lucida Sans Unicode"/>
              </a:rPr>
              <a:t> جدید روی مودم بارگذاری گردد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9" name="Picture 4" descr="04.jpg"/>
          <p:cNvPicPr/>
          <p:nvPr/>
        </p:nvPicPr>
        <p:blipFill>
          <a:blip r:embed="rId1"/>
          <a:stretch/>
        </p:blipFill>
        <p:spPr>
          <a:xfrm>
            <a:off x="533520" y="1219320"/>
            <a:ext cx="8134200" cy="4024080"/>
          </a:xfrm>
          <a:prstGeom prst="rect">
            <a:avLst/>
          </a:prstGeom>
          <a:ln w="0">
            <a:noFill/>
          </a:ln>
        </p:spPr>
      </p:pic>
      <p:sp>
        <p:nvSpPr>
          <p:cNvPr id="590" name="Oval 5"/>
          <p:cNvSpPr/>
          <p:nvPr/>
        </p:nvSpPr>
        <p:spPr>
          <a:xfrm>
            <a:off x="7029360" y="3695760"/>
            <a:ext cx="762120" cy="533520"/>
          </a:xfrm>
          <a:prstGeom prst="ellipse">
            <a:avLst/>
          </a:prstGeom>
          <a:solidFill>
            <a:srgbClr val="ff0000">
              <a:alpha val="29000"/>
            </a:srgbClr>
          </a:solidFill>
          <a:ln w="55080">
            <a:solidFill>
              <a:srgbClr val="ff0000">
                <a:alpha val="2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1" name="Picture 6" descr="POLTEL-LOGO-Large.jpg"/>
          <p:cNvPicPr/>
          <p:nvPr/>
        </p:nvPicPr>
        <p:blipFill>
          <a:blip r:embed="rId2"/>
          <a:stretch/>
        </p:blipFill>
        <p:spPr>
          <a:xfrm>
            <a:off x="6383160" y="6095880"/>
            <a:ext cx="276084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2" name="Picture 2" descr="05.jpg"/>
          <p:cNvPicPr/>
          <p:nvPr/>
        </p:nvPicPr>
        <p:blipFill>
          <a:blip r:embed="rId1"/>
          <a:stretch/>
        </p:blipFill>
        <p:spPr>
          <a:xfrm>
            <a:off x="1219320" y="1600200"/>
            <a:ext cx="6858000" cy="4000680"/>
          </a:xfrm>
          <a:prstGeom prst="rect">
            <a:avLst/>
          </a:prstGeom>
          <a:ln w="0">
            <a:noFill/>
          </a:ln>
        </p:spPr>
      </p:pic>
      <p:sp>
        <p:nvSpPr>
          <p:cNvPr id="593" name="Title 11"/>
          <p:cNvSpPr/>
          <p:nvPr/>
        </p:nvSpPr>
        <p:spPr>
          <a:xfrm>
            <a:off x="380880" y="685800"/>
            <a:ext cx="8418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343080" indent="-343080" algn="r" rtl="1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600" spc="-1" strike="noStrike">
                <a:solidFill>
                  <a:srgbClr val="000000"/>
                </a:solidFill>
                <a:latin typeface="Lucida Sans Unicode"/>
              </a:rPr>
              <a:t>پس از پایان بارگذاری مودم بصورت خودکار شروع به نصب 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Firmware</a:t>
            </a:r>
            <a:r>
              <a:rPr b="0" lang="fa-IR" sz="1600" spc="-1" strike="noStrike">
                <a:solidFill>
                  <a:srgbClr val="000000"/>
                </a:solidFill>
                <a:latin typeface="Lucida Sans Unicode"/>
              </a:rPr>
              <a:t> جدید می کند و صفحه زیر نمایش داده میشود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600" spc="-1" strike="noStrike">
                <a:solidFill>
                  <a:srgbClr val="000000"/>
                </a:solidFill>
                <a:latin typeface="Lucida Sans Unicode"/>
              </a:rPr>
              <a:t>حدود </a:t>
            </a:r>
            <a:r>
              <a:rPr b="0" lang="fa-IR" sz="1600" spc="-1" strike="noStrike">
                <a:solidFill>
                  <a:srgbClr val="000000"/>
                </a:solidFill>
                <a:latin typeface="Lucida Sans Unicode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fa-IR" sz="1600" spc="-1" strike="noStrike">
                <a:solidFill>
                  <a:srgbClr val="000000"/>
                </a:solidFill>
                <a:latin typeface="Lucida Sans Unicode"/>
              </a:rPr>
              <a:t> تا </a:t>
            </a:r>
            <a:r>
              <a:rPr b="0" lang="fa-IR" sz="1600" spc="-1" strike="noStrike">
                <a:solidFill>
                  <a:srgbClr val="000000"/>
                </a:solidFill>
                <a:latin typeface="Lucida Sans Unicode"/>
              </a:rPr>
              <a:t>3</a:t>
            </a:r>
            <a:r>
              <a:rPr b="0" lang="fa-IR" sz="1600" spc="-1" strike="noStrike">
                <a:solidFill>
                  <a:srgbClr val="000000"/>
                </a:solidFill>
                <a:latin typeface="Lucida Sans Unicode"/>
              </a:rPr>
              <a:t> دقیقه صبر کنید. در این مدت مودم پس از نصب 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Firmware</a:t>
            </a:r>
            <a:r>
              <a:rPr b="0" lang="fa-IR" sz="1600" spc="-1" strike="noStrike">
                <a:solidFill>
                  <a:srgbClr val="000000"/>
                </a:solidFill>
                <a:latin typeface="Lucida Sans Unicode"/>
              </a:rPr>
              <a:t> جدید به صورت خودکار 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Reboot</a:t>
            </a:r>
            <a:r>
              <a:rPr b="0" lang="fa-IR" sz="1600" spc="-1" strike="noStrike">
                <a:solidFill>
                  <a:srgbClr val="000000"/>
                </a:solidFill>
                <a:latin typeface="Lucida Sans Unicode"/>
              </a:rPr>
              <a:t> میشود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4" name="Picture 6" descr="POLTEL-LOGO-Large.jpg"/>
          <p:cNvPicPr/>
          <p:nvPr/>
        </p:nvPicPr>
        <p:blipFill>
          <a:blip r:embed="rId2"/>
          <a:stretch/>
        </p:blipFill>
        <p:spPr>
          <a:xfrm>
            <a:off x="6383160" y="6095880"/>
            <a:ext cx="276084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5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91520" cy="1158840"/>
          </a:xfrm>
          <a:prstGeom prst="rect">
            <a:avLst/>
          </a:prstGeom>
          <a:ln w="0">
            <a:noFill/>
          </a:ln>
        </p:spPr>
      </p:pic>
      <p:pic>
        <p:nvPicPr>
          <p:cNvPr id="596" name="Picture 5" descr="06.jpg"/>
          <p:cNvPicPr/>
          <p:nvPr/>
        </p:nvPicPr>
        <p:blipFill>
          <a:blip r:embed="rId2"/>
          <a:stretch/>
        </p:blipFill>
        <p:spPr>
          <a:xfrm>
            <a:off x="1143000" y="1428840"/>
            <a:ext cx="6858000" cy="4000320"/>
          </a:xfrm>
          <a:prstGeom prst="rect">
            <a:avLst/>
          </a:prstGeom>
          <a:ln w="0">
            <a:noFill/>
          </a:ln>
        </p:spPr>
      </p:pic>
      <p:pic>
        <p:nvPicPr>
          <p:cNvPr id="597" name="Picture 6" descr="POLTEL-LOGO-Large.jpg"/>
          <p:cNvPicPr/>
          <p:nvPr/>
        </p:nvPicPr>
        <p:blipFill>
          <a:blip r:embed="rId3"/>
          <a:stretch/>
        </p:blipFill>
        <p:spPr>
          <a:xfrm>
            <a:off x="6383160" y="6095880"/>
            <a:ext cx="276084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8" name="Picture 7" descr="07.jpg"/>
          <p:cNvPicPr/>
          <p:nvPr/>
        </p:nvPicPr>
        <p:blipFill>
          <a:blip r:embed="rId1"/>
          <a:stretch/>
        </p:blipFill>
        <p:spPr>
          <a:xfrm>
            <a:off x="609480" y="1143000"/>
            <a:ext cx="7848720" cy="4343400"/>
          </a:xfrm>
          <a:prstGeom prst="rect">
            <a:avLst/>
          </a:prstGeom>
          <a:ln w="0">
            <a:noFill/>
          </a:ln>
        </p:spPr>
      </p:pic>
      <p:sp>
        <p:nvSpPr>
          <p:cNvPr id="599" name="Title 1"/>
          <p:cNvSpPr/>
          <p:nvPr/>
        </p:nvSpPr>
        <p:spPr>
          <a:xfrm>
            <a:off x="457200" y="5335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600" spc="-1" strike="noStrike">
                <a:solidFill>
                  <a:srgbClr val="000000"/>
                </a:solidFill>
                <a:latin typeface="Lucida Sans Unicode"/>
              </a:rPr>
              <a:t>با 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login</a:t>
            </a:r>
            <a:r>
              <a:rPr b="0" lang="fa-IR" sz="1600" spc="-1" strike="noStrike">
                <a:solidFill>
                  <a:srgbClr val="000000"/>
                </a:solidFill>
                <a:latin typeface="Lucida Sans Unicode"/>
              </a:rPr>
              <a:t> کردن به 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Web Configuration</a:t>
            </a:r>
            <a:r>
              <a:rPr b="0" lang="fa-IR" sz="1600" spc="-1" strike="noStrike">
                <a:solidFill>
                  <a:srgbClr val="000000"/>
                </a:solidFill>
                <a:latin typeface="Lucida Sans Unicode"/>
              </a:rPr>
              <a:t> مودم از نصب 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Firmware</a:t>
            </a:r>
            <a:r>
              <a:rPr b="0" lang="fa-IR" sz="1600" spc="-1" strike="noStrike">
                <a:solidFill>
                  <a:srgbClr val="000000"/>
                </a:solidFill>
                <a:latin typeface="Lucida Sans Unicode"/>
              </a:rPr>
              <a:t> جدید اطمینان حاصل کنید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600" spc="-1" strike="noStrike">
                <a:solidFill>
                  <a:srgbClr val="000000"/>
                </a:solidFill>
                <a:latin typeface="Lucida Sans Unicode"/>
              </a:rPr>
              <a:t>در این مثال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rmware Version: V3.40(BJN.2)D0_200911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Rectangle 11"/>
          <p:cNvSpPr/>
          <p:nvPr/>
        </p:nvSpPr>
        <p:spPr>
          <a:xfrm>
            <a:off x="2971800" y="2486160"/>
            <a:ext cx="1600200" cy="75960"/>
          </a:xfrm>
          <a:prstGeom prst="rect">
            <a:avLst/>
          </a:prstGeom>
          <a:solidFill>
            <a:srgbClr val="ff0000">
              <a:alpha val="16000"/>
            </a:srgbClr>
          </a:solidFill>
          <a:ln w="55080">
            <a:solidFill>
              <a:srgbClr val="ff0000">
                <a:alpha val="4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1" name="Picture 6" descr="POLTEL-LOGO-Large.jpg"/>
          <p:cNvPicPr/>
          <p:nvPr/>
        </p:nvPicPr>
        <p:blipFill>
          <a:blip r:embed="rId2"/>
          <a:stretch/>
        </p:blipFill>
        <p:spPr>
          <a:xfrm>
            <a:off x="6383160" y="6095880"/>
            <a:ext cx="276084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5T07:01:10Z</dcterms:created>
  <dc:creator>Mahyar Montazer Saheb</dc:creator>
  <dc:description/>
  <dc:language>en-US</dc:language>
  <cp:lastModifiedBy>admin</cp:lastModifiedBy>
  <dcterms:modified xsi:type="dcterms:W3CDTF">2009-11-25T09:52:17Z</dcterms:modified>
  <cp:revision>65</cp:revision>
  <dc:subject/>
  <dc:title>Slide 1</dc:title>
</cp:coreProperties>
</file>