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8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19.png" ContentType="image/png"/>
  <Override PartName="/ppt/media/image2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9FB7-2141-4101-8BFC-7DA008D05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ECCD-6B61-42BE-8D8B-06B0DB98E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58B-9055-4B38-AA24-81401E4D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B99-A309-4DC2-9E2F-82C477D7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CFB80-1B46-48B4-ADDE-0916EA24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0F999-FC60-44B0-8022-B8BFA8AC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C25F5-5C12-4809-88B4-1D45D53C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A0624-5B71-4D69-8A81-0A5B2463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04AE5-8A33-43AE-8CF2-289C05EA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0D360-09B4-4398-B36E-59303DEC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BEB45-9421-4D01-9662-89C165F7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E9CFB-3281-4141-89CD-35EF4A61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DBA54-EB47-49ED-B3D8-EDC0F204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AE0E5-86CA-4ED1-B25A-4BF163FE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7847-9396-4DC2-8779-8ABA8F17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A8527-D41F-41D0-8218-7489A5EA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1F483-BF6D-4E7D-BEAD-96A4BB9B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A1BA1-1830-44E4-BB1B-2534FCAD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F3C73-0766-43E8-8EEA-365337D4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14384-459C-430B-8262-F1DBC573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84940-A772-4716-8C61-40BD3308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EFD98-E8A0-4E31-B8EE-E564A1D8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B3A79-5F1B-44C8-AE09-CB9A1A53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F4CBE-5D52-4DAE-A4A2-28C3A482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2DCC6-838E-41F5-9A5C-1B603B6C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FF5D-7A00-40D4-B989-04885836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B5DC5-C620-469A-8D2E-93212681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83257-F0BE-47BB-8A36-8B068D3E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69520-69D3-44E7-8697-D8B05FC2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102D8-39BB-4F00-8DAF-6B8B0D78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2A12E-5436-4EED-A7E5-7C81DE74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A4D35-1FCE-46F7-B2D8-5A24A21B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A68B5-34CB-4451-9522-AEC95C3D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9DDA7-8C8C-452A-B62C-8B9E2816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78485-FB30-455B-8D17-FB8C7F01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86C00-7398-4BE1-85B2-C5F3EBA0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A88B-0985-4377-B127-D6F611FC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5DA87-8767-4641-A006-FD957AB3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62CBB-A993-4294-994A-F9F8A366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FD84D-3F25-442B-9A89-B21BB17F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E1FE1-825D-4DC1-B95D-30ABCC30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1912A-4072-44BE-8D88-9B7692A9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E4AC9-A2CA-4719-BB78-C75E2E82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1CE25-0330-4344-B114-220B2037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FB3D5-138C-4760-A6AA-3CC8FF30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A03DF-34E0-4FCC-97C9-2DD09ED9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75F78-A8E6-437D-87EA-8CF3D8AA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DEB8-20D2-49FC-A801-B9F57595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43EC2-E18C-43F4-8B58-7FE01C0C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DE70A-079D-4561-941C-91B2ED13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D3AA6-7989-4751-8E7E-44B5AAE9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A5732-D942-4968-9039-034BFB6C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77F85-F777-48AF-8AF5-E39F3F0B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0610-A8BB-4F2F-B293-68C18183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BAAA-F3A6-4FFB-BFB1-E1B8E5CC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2961-1D63-4B58-AE47-58AFD9A3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9008-E56C-4F3C-BDB0-48BAA377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1734-F545-4F05-8B6A-A7B9C82B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90B-505F-4850-B3D1-C4893544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8FBE-B012-44E9-97F4-34CBDFBB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C1E3-628B-4607-8A7D-B0965BCD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51EE-9045-425F-A58A-80F852B9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96A1-B64B-4215-86CE-6BF2416E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F063-5CDD-4446-ACAE-2DD0A334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D90D5-AFB2-4C82-90A0-6DFD7853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AAE68-4160-4756-955B-9B6BF41D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90C25-6E4F-4720-8E52-3A052506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F47B0-917C-48EE-BE06-9E50274F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27A53-B246-45E0-A9E6-FBE9301E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0B8-E9A0-482F-A5C1-3B00591D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74D47-A16E-4F80-AE54-2A95641C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BB00C-F0FB-4237-9C77-345A6ED7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5E567-1F9A-4EE7-9147-42BADD95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C3A91-847C-4F9C-95C4-716D9677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69D7B-641F-4B78-899D-6D4165DE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CFE97-AC10-4D92-9174-10AD8F72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15D4A-78D9-4672-9EC5-E36A39D4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103A5-B1DA-43E8-AABE-A6C71110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85C64-0EA4-4360-B835-DEDE4BF2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396B6-E2F4-4D25-9C3A-164E006A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DBD-BB66-498C-9D44-B7006FE1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D4CFB-E73C-4AD4-A322-92B5C1FA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AB25D-232B-4787-AFB4-4BCF57AC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7D233-6E43-4D99-BAC1-76E80456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C3640-0267-4BB0-8F41-636B3445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0A510-1D91-430F-8395-75AEBA46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762D9-3245-4C71-A125-ABF882E7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4F614-744D-4E5A-B12A-413291A8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7D8CA-6992-4D46-AAFD-BE891E55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7E8B3-C87C-4A1F-AD4B-BF03C166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9BC69-E7DE-4CD5-991A-2FF0797F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350-7E24-4459-ABF5-351CB6CE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EC507-EAE0-463D-914A-15531C6F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415D2-58C0-48F5-AB06-D68F8EC8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618CD-9439-4B27-99C6-4A835BA5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7EDD3-355E-408C-B85D-E75EE254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667A7-D3E7-4AB4-AF5D-EEEFAB6A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02608-982E-4CEB-8B06-A671FFCC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7AB9F-0FC4-41B2-9A75-59E9D38C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28EBB-C6A3-4FA3-9F8B-0F681955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1DD5C-7609-44E3-9593-C31E8FB6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63C4F-D926-48FC-B600-D4FA9BD3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1A72-AD3C-4024-BA05-1CA81D33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30E78-27AA-4520-A6EF-FC7B4094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A642F-B239-44A2-B694-D00203D9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4DDAF-367F-464D-9440-73BDD4D2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7C0FD-CB45-4226-A43A-D57B430B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BF6E4-0389-4A3E-A917-EDAEC069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B2962-2325-4E83-BC00-CB12F4C2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E7692-CF4D-458E-A67F-AEE89E3C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28EAE-0E35-44AA-BF30-EF88246C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4B70B-4EA4-4B80-872D-EF6823EF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9CD2E-5893-498F-A796-4AC30752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8D4-81FF-4C0D-BBD1-23CBE6AC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01147-93C6-4C72-B4F1-C0290E0A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F808F-EBBE-4FA9-882E-6F309057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D98A5-B5D0-40C5-AFC1-817D621C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6827C-C865-4240-8E27-F4CCE81D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0209A-75FF-40CD-A2E3-3A023D1A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5AB04-5FD4-4C1A-96F8-75207467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9B514-9F88-4652-A746-1E0478D1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71B2D-9043-4CDF-AA02-BE6D35DE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77735-E327-401E-8DFF-C4FF0EE9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E0BA0-AE55-496D-A9D9-CB61E3EB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108-A443-4052-AEFF-6953652F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22C45-E46D-43D3-AF52-DC6E6B48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ACE85-9F5D-4363-B512-003774C1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5DDD6-E73C-41C1-B729-EFDBEE5C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8E025-30D8-4199-AAA9-E6B11751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385B1-E2D6-4632-BC59-37DC3CF7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D7E28-2A62-4D84-BE0D-E1D1CC7A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EB63A-B6CB-4F19-990E-4F86785D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23259-A04B-47E8-BABC-6E2D164F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A299B-09F3-4E77-9D46-3B20FE06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05941-2D82-4AD6-A988-6C792749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DCB-E771-442C-9D73-F341AD19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B548D-6CCC-4DF2-83B9-B7D14C5D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F6006-725E-4721-AD74-8DE996DD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0FB81-2F99-4F9F-9577-D70F24A5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5BA3B-4F24-46B4-8FBA-D0B3DECF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589EA-0511-43EE-B657-17E7386D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94474-D731-45E4-B60D-078F2454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75E70-95C4-41A5-A693-D5B5D9A0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F1BF9-B401-4AE1-8D58-6C8F88C2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491A6-3183-403E-9A73-BEBFA052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52E9D-E170-4BD9-86AE-EBF909AA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xel_P660_FW_UPG_V1.0_88.08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6030-59AF-4CB2-80DB-4177F36D627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2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2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2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Zyxel_P660_FW_UPG_V1.0_88.08.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BAA8-24B1-479F-951E-97F9826E34C4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7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7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7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Zyxel_P660_FW_UPG_V1.0_88.08.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4B29-5B46-40CD-8B4A-08C1DE32D836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Zyxel_P660_FW_UPG_V1.0_88.08.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1226-B236-413A-BBE2-4A994132E26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Zyxel_P660_FW_UPG_V1.0_88.08.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55EB-38E7-445A-BCEE-D05F22B92DC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0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Zyxel_P660_FW_UPG_V1.0_88.08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45C3-982D-4B14-B6E2-ED46D4202E10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xel_P660_FW_UPG_V1.0_88.08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4531-8DCB-46B1-88DF-1305E6A75B5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xel_P660_FW_UPG_V1.0_88.08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A6DC-E113-4CC5-B270-643BD0239F1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xel_P660_FW_UPG_V1.0_88.08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FD01-218E-4D06-8D05-F6D00F1A122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xel_P660_FW_UPG_V1.0_88.08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8914-4737-487F-A9A0-A07FF601F9D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xel_P660_FW_UPG_V1.0_88.08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9985-9321-4090-959D-36204F288AA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xel_P660_FW_UPG_V1.0_88.08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043A-25B4-473D-86F4-912CD235392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57200" y="685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Upgrading Firmware of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 algn="ctr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ffff"/>
                </a:solidFill>
                <a:latin typeface="Arial"/>
                <a:ea typeface="Arial"/>
              </a:rPr>
              <a:t>ZyXEL</a:t>
            </a: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ADSL Rou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P660RU &amp; P660H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3" name="Picture 7" descr="POLTEL-LOGO-Large.jpg"/>
          <p:cNvPicPr/>
          <p:nvPr/>
        </p:nvPicPr>
        <p:blipFill>
          <a:blip r:embed="rId2"/>
          <a:stretch/>
        </p:blipFill>
        <p:spPr>
          <a:xfrm>
            <a:off x="2057400" y="5122800"/>
            <a:ext cx="5181480" cy="1430280"/>
          </a:xfrm>
          <a:prstGeom prst="rect">
            <a:avLst/>
          </a:prstGeom>
          <a:ln w="0">
            <a:noFill/>
          </a:ln>
        </p:spPr>
      </p:pic>
      <p:sp>
        <p:nvSpPr>
          <p:cNvPr id="574" name="TextBox 6"/>
          <p:cNvSpPr/>
          <p:nvPr/>
        </p:nvSpPr>
        <p:spPr>
          <a:xfrm>
            <a:off x="1447920" y="3833640"/>
            <a:ext cx="609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aintenance Adsl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ersion 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8.08.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itle 1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در حالتی که از مودم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P660HW</a:t>
            </a: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 استفاده می کنید نکات زبر را در نظر بگیرید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IP Address</a:t>
            </a: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 در حالت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Obtain an IP Address Automatically</a:t>
            </a: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 قرار بگیر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Connection Mode</a:t>
            </a: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 در حالت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Nailed-up Connection</a:t>
            </a: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 تنظیم گرد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6" descr="POLTEL-LOGO-Large.jpg"/>
          <p:cNvPicPr/>
          <p:nvPr/>
        </p:nvPicPr>
        <p:blipFill>
          <a:blip r:embed="rId1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zyxel1.jpg"/>
          <p:cNvPicPr/>
          <p:nvPr/>
        </p:nvPicPr>
        <p:blipFill>
          <a:blip r:embed="rId2"/>
          <a:stretch/>
        </p:blipFill>
        <p:spPr>
          <a:xfrm>
            <a:off x="1752480" y="1371600"/>
            <a:ext cx="5848560" cy="441972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13"/>
          <p:cNvSpPr/>
          <p:nvPr/>
        </p:nvSpPr>
        <p:spPr>
          <a:xfrm>
            <a:off x="3276720" y="3733920"/>
            <a:ext cx="1676160" cy="228600"/>
          </a:xfrm>
          <a:prstGeom prst="rect">
            <a:avLst/>
          </a:prstGeom>
          <a:solidFill>
            <a:srgbClr val="2da2bf">
              <a:alpha val="27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4"/>
          <p:cNvSpPr/>
          <p:nvPr/>
        </p:nvSpPr>
        <p:spPr>
          <a:xfrm>
            <a:off x="3352680" y="4419720"/>
            <a:ext cx="1067040" cy="228600"/>
          </a:xfrm>
          <a:prstGeom prst="rect">
            <a:avLst/>
          </a:prstGeom>
          <a:solidFill>
            <a:srgbClr val="2da2bf">
              <a:alpha val="23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5"/>
          <p:cNvSpPr/>
          <p:nvPr/>
        </p:nvSpPr>
        <p:spPr>
          <a:xfrm>
            <a:off x="1752480" y="2209680"/>
            <a:ext cx="838440" cy="381240"/>
          </a:xfrm>
          <a:prstGeom prst="rect">
            <a:avLst/>
          </a:prstGeom>
          <a:solidFill>
            <a:srgbClr val="da1f28">
              <a:alpha val="25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tle 1"/>
          <p:cNvSpPr/>
          <p:nvPr/>
        </p:nvSpPr>
        <p:spPr>
          <a:xfrm>
            <a:off x="457200" y="533520"/>
            <a:ext cx="8229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پس از انجام عمل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Upgrade</a:t>
            </a: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 نسخه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Firmware</a:t>
            </a: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 برای هر مودم بشرح زیر می باشد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- P660RU-T1 v2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V3.40(BJO.3)b1 | 11/20/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- P660HW-T1 v2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V3.40(BJN.3)b2 | 11/19/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6" descr="POLTEL-LOGO-Large.jpg"/>
          <p:cNvPicPr/>
          <p:nvPr/>
        </p:nvPicPr>
        <p:blipFill>
          <a:blip r:embed="rId1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8"/>
          <p:cNvSpPr/>
          <p:nvPr/>
        </p:nvSpPr>
        <p:spPr>
          <a:xfrm>
            <a:off x="533520" y="327672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Thank you for your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DSL Maintenanc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7" descr="POLTEL-LOGO-Large.jpg"/>
          <p:cNvPicPr/>
          <p:nvPr/>
        </p:nvPicPr>
        <p:blipFill>
          <a:blip r:embed="rId1"/>
          <a:stretch/>
        </p:blipFill>
        <p:spPr>
          <a:xfrm>
            <a:off x="1523880" y="0"/>
            <a:ext cx="6072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Rectangle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91520" cy="1152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" descr="15"/>
          <p:cNvPicPr/>
          <p:nvPr/>
        </p:nvPicPr>
        <p:blipFill>
          <a:blip r:embed="rId2"/>
          <a:stretch/>
        </p:blipFill>
        <p:spPr>
          <a:xfrm>
            <a:off x="898560" y="1143000"/>
            <a:ext cx="7346880" cy="452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77" name="Picture 6" descr="POLTEL-LOGO-Large.jpg"/>
          <p:cNvPicPr/>
          <p:nvPr/>
        </p:nvPicPr>
        <p:blipFill>
          <a:blip r:embed="rId3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Rectangle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309160" cy="16099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6" descr="16"/>
          <p:cNvPicPr/>
          <p:nvPr/>
        </p:nvPicPr>
        <p:blipFill>
          <a:blip r:embed="rId2"/>
          <a:srcRect l="2955" t="3226" r="5547" b="8065"/>
          <a:stretch/>
        </p:blipFill>
        <p:spPr>
          <a:xfrm>
            <a:off x="1143000" y="1371600"/>
            <a:ext cx="6172200" cy="43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0" name="Picture 6" descr="POLTEL-LOGO-Large.jpg"/>
          <p:cNvPicPr/>
          <p:nvPr/>
        </p:nvPicPr>
        <p:blipFill>
          <a:blip r:embed="rId3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Rectangle 2" descr=""/>
          <p:cNvPicPr/>
          <p:nvPr/>
        </p:nvPicPr>
        <p:blipFill>
          <a:blip r:embed="rId1"/>
          <a:stretch/>
        </p:blipFill>
        <p:spPr>
          <a:xfrm>
            <a:off x="-237960" y="-85680"/>
            <a:ext cx="9315360" cy="11588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01.jpg"/>
          <p:cNvPicPr/>
          <p:nvPr/>
        </p:nvPicPr>
        <p:blipFill>
          <a:blip r:embed="rId2"/>
          <a:stretch/>
        </p:blipFill>
        <p:spPr>
          <a:xfrm>
            <a:off x="484200" y="1263600"/>
            <a:ext cx="7897680" cy="45277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4"/>
          <p:cNvSpPr/>
          <p:nvPr/>
        </p:nvSpPr>
        <p:spPr>
          <a:xfrm>
            <a:off x="2895480" y="2657520"/>
            <a:ext cx="1600200" cy="76320"/>
          </a:xfrm>
          <a:prstGeom prst="rect">
            <a:avLst/>
          </a:prstGeom>
          <a:solidFill>
            <a:srgbClr val="ff0000">
              <a:alpha val="16000"/>
            </a:srgbClr>
          </a:solidFill>
          <a:ln w="55080">
            <a:solidFill>
              <a:srgbClr val="ff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POLTEL-LOGO-Large.jpg"/>
          <p:cNvPicPr/>
          <p:nvPr/>
        </p:nvPicPr>
        <p:blipFill>
          <a:blip r:embed="rId3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6" descr="POLTEL-LOGO-Large.jpg"/>
          <p:cNvPicPr/>
          <p:nvPr/>
        </p:nvPicPr>
        <p:blipFill>
          <a:blip r:embed="rId1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  <p:sp>
        <p:nvSpPr>
          <p:cNvPr id="586" name="Title 11"/>
          <p:cNvSpPr/>
          <p:nvPr/>
        </p:nvSpPr>
        <p:spPr>
          <a:xfrm>
            <a:off x="838080" y="533520"/>
            <a:ext cx="780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000000"/>
                </a:solidFill>
                <a:latin typeface="Lucida Sans Unicode"/>
              </a:rPr>
              <a:t>در این صفحه در قسمت</a:t>
            </a:r>
            <a:r>
              <a:rPr b="1" lang="en-US" sz="15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Lucida Sans Unicode"/>
              </a:rPr>
              <a:t>Firmware</a:t>
            </a:r>
            <a:r>
              <a:rPr b="1" lang="fa-IR" sz="1500" spc="-1" strike="noStrike">
                <a:solidFill>
                  <a:srgbClr val="000000"/>
                </a:solidFill>
                <a:latin typeface="Lucida Sans Unicode"/>
              </a:rPr>
              <a:t> روی دکمه </a:t>
            </a:r>
            <a:r>
              <a:rPr b="1" lang="en-US" sz="1500" spc="-1" strike="noStrike">
                <a:solidFill>
                  <a:srgbClr val="000000"/>
                </a:solidFill>
                <a:latin typeface="Lucida Sans Unicode"/>
              </a:rPr>
              <a:t>Browse</a:t>
            </a:r>
            <a:r>
              <a:rPr b="1" lang="fa-IR" sz="1500" spc="-1" strike="noStrike">
                <a:solidFill>
                  <a:srgbClr val="000000"/>
                </a:solidFill>
                <a:latin typeface="Lucida Sans Unicode"/>
              </a:rPr>
              <a:t> کلیک کرده و مسیر </a:t>
            </a:r>
            <a:r>
              <a:rPr b="1" lang="en-US" sz="1500" spc="-1" strike="noStrike">
                <a:solidFill>
                  <a:srgbClr val="000000"/>
                </a:solidFill>
                <a:latin typeface="Lucida Sans Unicode"/>
              </a:rPr>
              <a:t>Firmware</a:t>
            </a:r>
            <a:r>
              <a:rPr b="1" lang="en-US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fa-IR" sz="1500" spc="-1" strike="noStrike">
                <a:solidFill>
                  <a:srgbClr val="000000"/>
                </a:solidFill>
                <a:latin typeface="Lucida Sans Unicode"/>
              </a:rPr>
              <a:t> جدید را وارد کنید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8" descr="03.jpg"/>
          <p:cNvPicPr/>
          <p:nvPr/>
        </p:nvPicPr>
        <p:blipFill>
          <a:blip r:embed="rId2"/>
          <a:stretch/>
        </p:blipFill>
        <p:spPr>
          <a:xfrm>
            <a:off x="380880" y="1143000"/>
            <a:ext cx="842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le 11"/>
          <p:cNvSpPr/>
          <p:nvPr/>
        </p:nvSpPr>
        <p:spPr>
          <a:xfrm>
            <a:off x="533520" y="533520"/>
            <a:ext cx="811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روی دکمه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Upload</a:t>
            </a: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 کلیک کنید و منتظر بمانید تا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Firmware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 جدید روی مودم بارگذاری گرد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4" descr="04.jpg"/>
          <p:cNvPicPr/>
          <p:nvPr/>
        </p:nvPicPr>
        <p:blipFill>
          <a:blip r:embed="rId1"/>
          <a:stretch/>
        </p:blipFill>
        <p:spPr>
          <a:xfrm>
            <a:off x="533520" y="1219320"/>
            <a:ext cx="8134200" cy="4024080"/>
          </a:xfrm>
          <a:prstGeom prst="rect">
            <a:avLst/>
          </a:prstGeom>
          <a:ln w="0">
            <a:noFill/>
          </a:ln>
        </p:spPr>
      </p:pic>
      <p:sp>
        <p:nvSpPr>
          <p:cNvPr id="590" name="Oval 5"/>
          <p:cNvSpPr/>
          <p:nvPr/>
        </p:nvSpPr>
        <p:spPr>
          <a:xfrm>
            <a:off x="7029360" y="3695760"/>
            <a:ext cx="762120" cy="533520"/>
          </a:xfrm>
          <a:prstGeom prst="ellipse">
            <a:avLst/>
          </a:prstGeom>
          <a:solidFill>
            <a:srgbClr val="ff0000">
              <a:alpha val="29000"/>
            </a:srgbClr>
          </a:solidFill>
          <a:ln w="55080">
            <a:solidFill>
              <a:srgbClr val="ff0000">
                <a:alpha val="2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POLTEL-LOGO-Large.jpg"/>
          <p:cNvPicPr/>
          <p:nvPr/>
        </p:nvPicPr>
        <p:blipFill>
          <a:blip r:embed="rId2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05.jpg"/>
          <p:cNvPicPr/>
          <p:nvPr/>
        </p:nvPicPr>
        <p:blipFill>
          <a:blip r:embed="rId1"/>
          <a:stretch/>
        </p:blipFill>
        <p:spPr>
          <a:xfrm>
            <a:off x="1219320" y="1600200"/>
            <a:ext cx="6858000" cy="4000680"/>
          </a:xfrm>
          <a:prstGeom prst="rect">
            <a:avLst/>
          </a:prstGeom>
          <a:ln w="0">
            <a:noFill/>
          </a:ln>
        </p:spPr>
      </p:pic>
      <p:sp>
        <p:nvSpPr>
          <p:cNvPr id="593" name="Title 11"/>
          <p:cNvSpPr/>
          <p:nvPr/>
        </p:nvSpPr>
        <p:spPr>
          <a:xfrm>
            <a:off x="380880" y="685800"/>
            <a:ext cx="8418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پس از پایان بارگذاری مودم بصورت خودکار شروع به نصب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irmware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 جدید می کند و صفحه زیر نمایش داده میشو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حدود 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 تا 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 دقیقه صبر کنید. در این مدت مودم پس از نصب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irmware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 جدید به صورت خودکار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eboot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 میشو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6" descr="POLTEL-LOGO-Large.jpg"/>
          <p:cNvPicPr/>
          <p:nvPr/>
        </p:nvPicPr>
        <p:blipFill>
          <a:blip r:embed="rId2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91520" cy="11588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06.jpg"/>
          <p:cNvPicPr/>
          <p:nvPr/>
        </p:nvPicPr>
        <p:blipFill>
          <a:blip r:embed="rId2"/>
          <a:stretch/>
        </p:blipFill>
        <p:spPr>
          <a:xfrm>
            <a:off x="1143000" y="1428840"/>
            <a:ext cx="6858000" cy="40003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6" descr="POLTEL-LOGO-Large.jpg"/>
          <p:cNvPicPr/>
          <p:nvPr/>
        </p:nvPicPr>
        <p:blipFill>
          <a:blip r:embed="rId3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7" descr="07.jpg"/>
          <p:cNvPicPr/>
          <p:nvPr/>
        </p:nvPicPr>
        <p:blipFill>
          <a:blip r:embed="rId1"/>
          <a:stretch/>
        </p:blipFill>
        <p:spPr>
          <a:xfrm>
            <a:off x="609480" y="1143000"/>
            <a:ext cx="7848720" cy="4343400"/>
          </a:xfrm>
          <a:prstGeom prst="rect">
            <a:avLst/>
          </a:prstGeom>
          <a:ln w="0">
            <a:noFill/>
          </a:ln>
        </p:spPr>
      </p:pic>
      <p:sp>
        <p:nvSpPr>
          <p:cNvPr id="599" name="Title 1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با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login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 کردن به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Web Configuration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 مودم از نصب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irmware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 جدید اطمینان حاصل کنی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در این مثال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mware Version: V3.40(BJN.2)D0_200911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2971800" y="2486160"/>
            <a:ext cx="1600200" cy="75960"/>
          </a:xfrm>
          <a:prstGeom prst="rect">
            <a:avLst/>
          </a:prstGeom>
          <a:solidFill>
            <a:srgbClr val="ff0000">
              <a:alpha val="16000"/>
            </a:srgbClr>
          </a:solidFill>
          <a:ln w="55080">
            <a:solidFill>
              <a:srgbClr val="ff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POLTEL-LOGO-Large.jpg"/>
          <p:cNvPicPr/>
          <p:nvPr/>
        </p:nvPicPr>
        <p:blipFill>
          <a:blip r:embed="rId2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7:01:10Z</dcterms:created>
  <dc:creator>Mahyar Montazer Saheb</dc:creator>
  <dc:description/>
  <dc:language>en-US</dc:language>
  <cp:lastModifiedBy>admin</cp:lastModifiedBy>
  <dcterms:modified xsi:type="dcterms:W3CDTF">2009-11-25T09:52:17Z</dcterms:modified>
  <cp:revision>65</cp:revision>
  <dc:subject/>
  <dc:title>Slide 1</dc:title>
</cp:coreProperties>
</file>