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B5F-7BA3-4EAA-B365-3190AF37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27D-7E01-485B-A339-B4537A5D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55C-E2C0-4877-A03D-225B1894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036-3B12-4F15-B968-435AF0F1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287-ED3E-4A88-9FDA-8BB11C85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AEE-AD8B-4049-8260-C313C055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B83-A012-4F68-82AA-9FFFE8CA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10C-1BC0-433D-802C-01BF222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63F-E2AE-4C64-8E6C-FF87736B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F3F-686F-43A6-A917-79EDD17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1EE-E8EA-4EF7-AA14-AAE7FD7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526-82EC-4CF0-A5B5-8BD4FAE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87181-12AD-4B71-895B-4D8E3AAC25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82ACB-36BD-4366-A53E-889599C3190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8:11:00Z</dcterms:created>
  <dc:creator>최봉수</dc:creator>
  <dc:description/>
  <dc:language>en-US</dc:language>
  <cp:lastModifiedBy>맛있다 군만두</cp:lastModifiedBy>
  <dcterms:modified xsi:type="dcterms:W3CDTF">2024-10-01T02:40:33Z</dcterms:modified>
  <cp:revision>4</cp:revision>
  <dc:subject/>
  <dc:title>슬라이드 1</dc:title>
</cp:coreProperties>
</file>