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00C8-452E-4889-807A-8AFBF583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AEDF-42DC-4C14-A526-CDD79327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8439-2478-4174-A89C-DA5EBCA9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10C-6471-4E05-8ECB-2B64FCE0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EC2B-0914-4061-9A9A-ABD7BE16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B5C9-5511-4D75-9ADA-EF656966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E40-836B-4208-BAFB-DC77F913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AD83-198D-40FB-AE25-62C05FF8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ACA-A3A4-470F-A3F0-5A02FE55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DF8E-422A-4ADB-9334-51C6F979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A032-3FA5-40AA-BCD0-F37AAB03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E2B7-3EA5-4EFF-B421-7C218BFF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FD4AE-BB33-4982-9926-1D99BA8181C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D2977-5428-4CAA-8BEA-DC43A86B5615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8:11:00Z</dcterms:created>
  <dc:creator>최봉수</dc:creator>
  <dc:description/>
  <dc:language>en-US</dc:language>
  <cp:lastModifiedBy>맛있다 군만두</cp:lastModifiedBy>
  <dcterms:modified xsi:type="dcterms:W3CDTF">2024-10-01T02:40:33Z</dcterms:modified>
  <cp:revision>4</cp:revision>
  <dc:subject/>
  <dc:title>슬라이드 1</dc:title>
</cp:coreProperties>
</file>