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3394-2731-4730-B621-381BD390B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slamic insurance scholars say that there is no gharar in insurance contract as the subject matter is clear, i.e. the life or property on which the risk is presumed to be occuring in the future. Then, the subject matter of the insurance contract is definite and certain. Therefore the allegation that insurance policy involves the element of gharar, thus making it invalid, is groundless. My opinion is, the subject matter is not the life or the property per se, but the interest that is attached to the life or property insured. (Case :…). In the insurance contract, there is an exchange between premium and protection in the future. When and how much is the protection will be delivered is not certain, then there is a gharar element in the con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113C-482E-4A5D-81D7-F1E61695C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6779-1213-4611-A7E3-0FDC3E446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E67B3-6210-4B54-98FA-668B7E724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36D97-3497-4672-9E0E-2F03B04D8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F3899-3BA3-4CBD-A34F-83E1A19AE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31024-244E-44F4-B16B-DBD99F9A1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6B058-377F-4AD4-AEE5-3759AFDAF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78751-940A-412E-B28A-91D111EDD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B9EB2-2F78-4808-B514-F48C5E052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9A1A8-FF7D-46A9-9414-0A36A13C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331D8-A0CD-4004-BD61-33F959886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0221-6DDC-44EE-B232-8188BDB1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63DA6-838D-4817-AB7F-C4EA47FBE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666C4-B124-4D79-B270-B566D43C4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699A7-7742-4DCB-9CF4-128A82760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B3104-376B-421F-AC03-904D55739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34EA6-2E46-4ED7-B94D-F502932E4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DCA5F-DC4A-412A-B407-CCBB9B11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61DFB-9503-4E27-A4D9-C4A631FA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A23D3-45E0-4BEB-850B-38E5835C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CA31D-2FAC-411B-A95D-10E8465A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AE51-4984-4F74-9FA2-22694F10F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FDDAB-D5ED-460A-B912-2A725FA3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5E0C-5301-43C6-986C-49B0D3776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FF18-0707-4C4A-AE1D-041B410DBD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EF64-FF09-4DDE-99BF-FE33DF5657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LAMIC INSURANCE</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y Sapta Utama SE, AAAIK</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kolah Tinggi Ekonomi Islam</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I TAZKIA</a:t>
            </a: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Sekolah Tinggi Ekonomi Islam (STEI) TAZKIA </a:t>
            </a:r>
          </a:p>
        </p:txBody>
      </p:sp>
      <p:sp>
        <p:nvSpPr>
          <p:cNvPr id="5" name="PlaceHolder 4"/>
          <p:cNvSpPr>
            <a:spLocks noGrp="1"/>
          </p:cNvSpPr>
          <p:nvPr>
            <p:ph type="sldNum" idx="6"/>
          </p:nvPr>
        </p:nvSpPr>
        <p:spPr/>
        <p:txBody>
          <a:bodyPr/>
          <a:p>
            <a:fld id="{95E8EF4E-2089-40A6-A3A5-F7069964E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 QS 5:2, 107:1-4, 106:4, 2:126, 2:177, al hadits, the constitution of Madin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ilosoph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 Responsibility</a:t>
            </a:r>
            <a:endParaRPr b="0" lang="en-US" sz="2800" spc="-1" strike="noStrike">
              <a:solidFill>
                <a:srgbClr val="ffffff"/>
              </a:solidFill>
              <a:latin typeface="Arial"/>
            </a:endParaRPr>
          </a:p>
        </p:txBody>
      </p:sp>
      <p:sp>
        <p:nvSpPr>
          <p:cNvPr id="189" name=""/>
          <p:cNvSpPr/>
          <p:nvPr/>
        </p:nvSpPr>
        <p:spPr>
          <a:xfrm>
            <a:off x="6172200" y="3581280"/>
            <a:ext cx="2286000" cy="1828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PM</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18B842FB-2133-4580-A6CD-89A1B2C9E2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ssence of Islamic Insurance</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l of Fun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mnific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ntional : Risk Transfer &amp; Risk Financing</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lamic : Risk Sharing &amp; Risk Financing</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5F6BC0E9-E60B-47CF-8E7A-9631FF2DD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p:nvPr/>
        </p:nvSpPr>
        <p:spPr>
          <a:xfrm>
            <a:off x="1523880" y="1905120"/>
            <a:ext cx="701064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Manag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l of Fun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mnification</a:t>
            </a:r>
            <a:endParaRPr b="0" lang="en-US" sz="3200" spc="-1" strike="noStrike">
              <a:solidFill>
                <a:srgbClr val="ffffff"/>
              </a:solidFill>
              <a:latin typeface="Arial"/>
            </a:endParaRPr>
          </a:p>
        </p:txBody>
      </p:sp>
      <p:sp>
        <p:nvSpPr>
          <p:cNvPr id="193" name=""/>
          <p:cNvSpPr/>
          <p:nvPr/>
        </p:nvSpPr>
        <p:spPr>
          <a:xfrm>
            <a:off x="5181480" y="2209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867280" y="22096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67280" y="25146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24852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SHARING</a:t>
            </a:r>
            <a:endParaRPr b="0" lang="en-US" sz="2000" spc="-1" strike="noStrike">
              <a:solidFill>
                <a:srgbClr val="ffffff"/>
              </a:solidFill>
              <a:latin typeface="Arial"/>
            </a:endParaRPr>
          </a:p>
        </p:txBody>
      </p:sp>
      <p:sp>
        <p:nvSpPr>
          <p:cNvPr id="198" name=""/>
          <p:cNvSpPr/>
          <p:nvPr/>
        </p:nvSpPr>
        <p:spPr>
          <a:xfrm>
            <a:off x="4495680" y="28954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724280" y="335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67280" y="2895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8672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248520" y="2895480"/>
            <a:ext cx="2209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FINANCING</a:t>
            </a:r>
            <a:endParaRPr b="0" lang="en-US" sz="2000" spc="-1" strike="noStrike">
              <a:solidFill>
                <a:srgbClr val="ffffff"/>
              </a:solidFill>
              <a:latin typeface="Arial"/>
            </a:endParaRPr>
          </a:p>
        </p:txBody>
      </p:sp>
      <p:sp>
        <p:nvSpPr>
          <p:cNvPr id="2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ssence of Islamic Insurance</a:t>
            </a: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Sekolah Tinggi Ekonomi Islam (STEI) TAZKIA </a:t>
            </a:r>
          </a:p>
        </p:txBody>
      </p:sp>
      <p:sp>
        <p:nvSpPr>
          <p:cNvPr id="4" name="PlaceHolder 3"/>
          <p:cNvSpPr>
            <a:spLocks noGrp="1"/>
          </p:cNvSpPr>
          <p:nvPr>
            <p:ph type="sldNum" idx="3"/>
          </p:nvPr>
        </p:nvSpPr>
        <p:spPr/>
        <p:txBody>
          <a:bodyPr/>
          <a:p>
            <a:fld id="{442E8811-60C1-4C3F-80DF-C450DC0A1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aful: the act of a group of people reciprocally guaranteeing each oth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qd is ‘takafuli’, not a selling contract (tabaduli)</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arru’ concep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riba invest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sector oriente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CA32A8F6-0B0F-4F26-A606-59BE95791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transaction in which the parties undertake to fulfill their lawful obligations is valid and binding. The insurance contract is a binding promise, and hence permissible in the eyes of shariah.</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7FF32D56-5CC0-405F-9F39-8D1D95E40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actice of insurance is also based on, inter-alia, the doctrine of public interest (</a:t>
            </a:r>
            <a:r>
              <a:rPr b="0" i="1" lang="en-US" sz="3200" spc="-1" strike="noStrike">
                <a:solidFill>
                  <a:srgbClr val="ffffff"/>
                </a:solidFill>
                <a:latin typeface="Arial"/>
              </a:rPr>
              <a:t>masaalih al mursalah</a:t>
            </a:r>
            <a:r>
              <a:rPr b="0" lang="en-US" sz="3200" spc="-1" strike="noStrike">
                <a:solidFill>
                  <a:srgbClr val="ffffff"/>
                </a:solidFill>
                <a:latin typeface="Arial"/>
              </a:rPr>
              <a:t>). The takaful system is, then, designed for the purpose of eliminating hardship from one’s life, while, taking an initiative to look after the welfare of the poor who may have suffered resulting from an occurrence of loss or dam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0466E4CF-84D8-45E7-A2A6-740E60C3E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kaful system involves an element of contribution (al-musaahamah or tabarru’). The contribution is dedicated to donate those who may have suffered resulting from an occurrence of loss or damage in life, health or propert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 line with the spirit to eliminate difficulties of others in the socie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692A2564-AA7A-426C-8065-C0C0F0F40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akaful system, the transaction is similar to the principle of al-wadi’ah (deposit), whereby two parties engage themselves in an agreement which one of them deposit money to the other as a trust or ‘amanah’ for the purpose of safe keeping.</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70CE370D-F775-4985-AC0E-E31756682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posit is used for operational and for donation. It is also invested according to shariah principles of investment to make the pool of funds bigger and healthier. To secure that the fund is available for donation paymen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chanism of investment and profit/loss distribution is based on the principle of mudharaba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EFB1C2C8-5605-40B5-AD6A-0836E1BB0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ic Insurance : Takaful System</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vestment is not limited to financial investment, but real sector oriented. This is possible because of the wide range of investment schemes available under the shariah law of muamalah, such as mudharabah, musyarakah, murabahah, ijarah, salam, et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onation is intended to finance the real loss suffered – it is also related to the spirit to protect the real sector from bankruptcy or set-back because of financial loss due to accident or damage or loss of lif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08F099F4-FF5C-422B-9BD9-ECD3FAB68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8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ujuan Pelatihan</a:t>
            </a:r>
            <a:endParaRPr b="0" lang="en-US" sz="4800" spc="-1" strike="noStrike">
              <a:solidFill>
                <a:srgbClr val="ffffff"/>
              </a:solidFill>
              <a:latin typeface="Arial"/>
            </a:endParaRPr>
          </a:p>
        </p:txBody>
      </p:sp>
      <p:sp>
        <p:nvSpPr>
          <p:cNvPr id="172" name="PlaceHolder 2"/>
          <p:cNvSpPr>
            <a:spLocks noGrp="1"/>
          </p:cNvSpPr>
          <p:nvPr>
            <p:ph type="subTitle"/>
          </p:nvPr>
        </p:nvSpPr>
        <p:spPr>
          <a:xfrm>
            <a:off x="2209680" y="2209680"/>
            <a:ext cx="6477120" cy="37339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ngenal adanya perbedaan pendapat tentang kedudukan asuransi di dalam Islam</a:t>
            </a: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enal dasar-dasar asuransi Islam</a:t>
            </a:r>
            <a:endParaRPr b="0" lang="en-US" sz="2800" spc="-1" strike="noStrike">
              <a:solidFill>
                <a:srgbClr val="ffffff"/>
              </a:solidFill>
              <a:latin typeface="Arial"/>
            </a:endParaRPr>
          </a:p>
          <a:p>
            <a:pPr>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ahami perbedaan antara asuransi Islam dengan konvensional: paradigma, konsep, praktek</a:t>
            </a: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Sekolah Tinggi Ekonomi Islam (STEI) TAZKIA </a:t>
            </a:r>
          </a:p>
        </p:txBody>
      </p:sp>
      <p:sp>
        <p:nvSpPr>
          <p:cNvPr id="5" name="PlaceHolder 4"/>
          <p:cNvSpPr>
            <a:spLocks noGrp="1"/>
          </p:cNvSpPr>
          <p:nvPr>
            <p:ph type="sldNum" idx="6"/>
          </p:nvPr>
        </p:nvSpPr>
        <p:spPr/>
        <p:txBody>
          <a:bodyPr/>
          <a:p>
            <a:fld id="{6145DDDD-6CA9-4D3B-9A11-B0EACFB0B1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tual Insurance</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 insurance is an unlimited company which is formed and institutionalized by the members who agreed to pay a certain premium to cover financial losses of the members due to unfortunate loss or damage in the future. Usually involving fixed premium and fixed benefit.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lamic mutual insurance : premium is not fixed, depends on the ability and ‘sum insured’, managed by the members themselves according to shariah law.</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oor people, mutual insurance is done through Bait al Maal.</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2D4B2E28-CAF8-4712-8825-7378A47BE62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t of Topic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roversy about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les of Islamic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ssence of Islamic Insurance</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lamic Insurance : Takaful System</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udharabah mechanism</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lamic Invest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7B8BCC81-7228-43B3-AD47-5ACA13C333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roversy about Insurance</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surance policy contains the element of Riba. Any transaction which involves Riba is void ab initio.</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ontains an element of gambling. This is because the insured hopes to get the opportunity for a material gain.</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ontains the element of gharar in either the object or the subject matter of a transaction.</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express authority from Alquran and Sunnah justifying the validity of the practice of insurance policy.</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ontrary to the principle of tawakkal.</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nsure one’s life death is unlawful. Lukman: 31-34</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ight of the shariah, a transaction which guarantees protection of one’s property is said to be invalid except in three situations: fear for unjust enrichment (zhalim), fear of losing one’s property, and fear of one’s property being destroyed or vanished.</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insurance involves unlawful elements, muslims should not making money or profit through insurance.</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BCB1D1FA-634F-4C08-9738-B1626F9AA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insurance does not involve the element of riba. It is practiced on the principle of al-mudharaba financing. Both the insured and the insurer share the profit, bonus and dividends obtained from the paid premiums and investment in agreed proportions. Such transaction is based on mutual agreement.</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surance policy does not supersede the will of Allah swt as the aim is neither to ensure and determine one’s life or death, nor does it intend to determine the future material luck of one’s dependents.  A policy, be it general or life, simply means that both the operator and the participants in a contract of insurance mutually agree to work for a compensation or security against an unexpected tragedy. Such concept is in line with Islamic principle, whereby Islam encourage the ummah to strive hard in overcoming difficulties in their liv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C4B48CD1-5C89-434B-AA73-FA242CD6F9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slamic insurance policy does not involve the element of gambling. In gambling, one is always hoping for a chance to gain materially and with the spirit of defeating other gamblers rather than cooperating. In contrast, the parties in an Islamic insurance contract are bound together in a spirit of mutual cooperation and goodwill in providing material security for the orphans, widows, other dependents, as well as one’s own self against an unexpected future loss, damage or peril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8B2FB78F-30EB-4A2D-B28E-4255D9124C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slamic insurance policy does not involve the element of gharar, as the ground of the contract is not a sale contract (tabaduli), but a takafuli contract, i.e. an agreement to be involved in a mutual cooperation with others in overcoming an unexpected events in the future.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14C1A189-7FA4-453B-854D-21004CCB56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is – of course – not mentioned is Alquran or Sunnah. But the principles of mutual cooperation (ta’awun) in kindness and faith (5:2) provides the basic of any mechanism that is in accordance to such principles, including Islamic insurance mechanism.</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over, the idea of insurance mechanism originated from the traditional doctrine of al-’aqila was approved by the Holy prophet saw, and subsequently approved and commanded by the second caliph, Umar 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2C66E457-F80E-4FB1-803E-4CF6C2BBC3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Islamic Insurance</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tual agreement to take an initiative for protection against an unexpected risk, loss or damage on the subject matter does not deviate from the principle of tawakkal, as such initiative is only an effort to the best of their ability to overcome future unexpected difficulties, and nothing more. The prophet Muhammad saw explained the principle of tawakkal in the hadith: “The Holy Prophet saw told a Bedouin Arab who left his camel untied, trusting to the will of Allah swt: ‘tie the camel first then leave it to the will of Allah swt’ …” (Sunan at-Tirmizi)</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ekolah Tinggi Ekonomi Islam (STEI) TAZKIA </a:t>
            </a:r>
          </a:p>
        </p:txBody>
      </p:sp>
      <p:sp>
        <p:nvSpPr>
          <p:cNvPr id="5" name="PlaceHolder 4"/>
          <p:cNvSpPr>
            <a:spLocks noGrp="1"/>
          </p:cNvSpPr>
          <p:nvPr>
            <p:ph type="sldNum" idx="3"/>
          </p:nvPr>
        </p:nvSpPr>
        <p:spPr/>
        <p:txBody>
          <a:bodyPr/>
          <a:p>
            <a:fld id="{69FD186E-DC26-4EB3-B214-BAABF3246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23:40:52Z</dcterms:created>
  <dc:creator>user</dc:creator>
  <dc:description/>
  <dc:language>en-US</dc:language>
  <cp:lastModifiedBy>user</cp:lastModifiedBy>
  <dcterms:modified xsi:type="dcterms:W3CDTF">2003-06-07T01:27:37Z</dcterms:modified>
  <cp:revision>26</cp:revision>
  <dc:subject/>
  <dc:title>Tujuan Pelatihan</dc:title>
</cp:coreProperties>
</file>