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7.jpeg" ContentType="image/jpeg"/>
  <Override PartName="/ppt/media/Track14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EFF-5C8E-44BF-A6A9-4AC6F86C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363-4A40-43DA-905F-BAE8FB4F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A8C-A7BA-4D03-8F1A-28822FDE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D8E-9BDD-44D7-88C8-DA03BFBE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3DD-9AF3-4420-9BEB-53C86234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E06-6833-47B4-B7D3-397BE156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C01-3506-460A-A1E9-D7EA07F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986-A7A2-4407-9A6D-00C92AB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7DD-1D8A-4B88-BC48-4A30F2AF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B42-AB17-490C-B311-8ED5B38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54D-B503-41B2-9BAE-D05ABA58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AF5-BC69-480F-9768-5C29814B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005-1D52-4E8F-BA34-D19EA5A8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rack14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67120" y="620640"/>
            <a:ext cx="3981600" cy="568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402912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0920" y="3068640"/>
            <a:ext cx="5329440" cy="914400"/>
          </a:xfrm>
          <a:custGeom>
            <a:avLst/>
            <a:gdLst>
              <a:gd name="textAreaLeft" fmla="*/ 0 w 5329440"/>
              <a:gd name="textAreaRight" fmla="*/ 5329800 w 53294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ff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3284640"/>
            <a:ext cx="45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Basic Sans Heavy SF"/>
              </a:rPr>
              <a:t>BiZAR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328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Basic Sans Heavy SF"/>
              </a:rPr>
              <a:t>Powerpoint by To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  <p:sndAc>
      <p:stSnd>
        <p:snd r:embed="rId3" name="Track1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xit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60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800"/>
                            </p:stCondLst>
                            <p:childTnLst>
                              <p:par>
                                <p:cTn id="34" nodeType="afterEffect" fill="hold" presetClass="exit" presetID="15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362400" cy="571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48956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476280"/>
            <a:ext cx="3527280" cy="5832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476280"/>
            <a:ext cx="5040360" cy="5832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85920" y="571680"/>
            <a:ext cx="477216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4000" y="476280"/>
            <a:ext cx="4896000" cy="5905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443560" cy="6048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35280" y="333360"/>
            <a:ext cx="5616360" cy="619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010040" cy="5715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47660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476280"/>
            <a:ext cx="4176720" cy="5832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476280"/>
            <a:ext cx="4608360" cy="58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1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3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62960" cy="6086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6000" y="260280"/>
            <a:ext cx="6912000" cy="62643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58920" y="181080"/>
            <a:ext cx="6697800" cy="642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7280" y="115920"/>
            <a:ext cx="684072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84812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61008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620640"/>
            <a:ext cx="3529080" cy="1152720"/>
          </a:xfrm>
          <a:custGeom>
            <a:avLst/>
            <a:gdLst>
              <a:gd name="textAreaLeft" fmla="*/ 0 w 3529080"/>
              <a:gd name="textAreaRight" fmla="*/ 3529440 w 352908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00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836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99ff33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 advTm="14000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834240" cy="635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1157400"/>
            <a:ext cx="7619760" cy="4543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1052640"/>
            <a:ext cx="7775280" cy="47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14480"/>
            <a:ext cx="7619760" cy="662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228920" cy="571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03640" y="549360"/>
            <a:ext cx="381960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476280"/>
            <a:ext cx="4392360" cy="583236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476280"/>
            <a:ext cx="3960720" cy="583236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31840" y="1565280"/>
            <a:ext cx="5080320" cy="372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1484280"/>
            <a:ext cx="5184720" cy="38894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549360"/>
            <a:ext cx="2771640" cy="571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549360"/>
            <a:ext cx="277164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9640" y="549360"/>
            <a:ext cx="2772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476280"/>
            <a:ext cx="8424720" cy="59054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41767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14480" y="571680"/>
            <a:ext cx="531504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476280"/>
            <a:ext cx="5473440" cy="590544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4464000" cy="571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4290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52448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81360" y="549360"/>
            <a:ext cx="456264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260280"/>
            <a:ext cx="9144000" cy="730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24080" y="571680"/>
            <a:ext cx="469584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24000" y="476280"/>
            <a:ext cx="4896000" cy="5905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22:56:31Z</dcterms:created>
  <dc:creator>Tonny</dc:creator>
  <dc:description/>
  <dc:language>en-US</dc:language>
  <cp:lastModifiedBy>Smets</cp:lastModifiedBy>
  <dcterms:modified xsi:type="dcterms:W3CDTF">2008-10-31T03:29:35Z</dcterms:modified>
  <cp:revision>7</cp:revision>
  <dc:subject/>
  <dc:title>Dia 1</dc:title>
</cp:coreProperties>
</file>