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0.gif" ContentType="image/gif"/>
  <Override PartName="/ppt/media/image13.jpeg" ContentType="image/jpeg"/>
  <Override PartName="/ppt/media/-FloydCramer-HelloDarlin.wav" ContentType="audio/x-wav"/>
  <Override PartName="/ppt/media/image4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993-490F-4A0D-9978-A64AF4F0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D44-1923-4FDA-90BA-3F379B7C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A0C-753C-4DFC-BC3B-CACE9C5D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EFA-708A-4AC7-A362-A8FD14007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57A-6B8C-4DD7-A9E1-4342BAC4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74E-C072-4988-BD63-CAB1F7AD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917-5CAE-4BE5-9B83-D655EFB0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84E-4186-45D7-9F7D-4D016141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AB1-2D2C-4011-9411-73E822FE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BD9-8100-4E93-9B72-D3642F11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320-FCE4-49B7-9B2A-80578AD3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497-FEC2-4053-B60B-CDB0E7B0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4AD3-508B-430B-BEE8-124363831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-FloydCramer-HelloDarlin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hyperlink" Target="mailto:jacobs.paul1@telenet.be" TargetMode="External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-2748" r="1961" b="2756"/>
          <a:stretch/>
        </p:blipFill>
        <p:spPr>
          <a:xfrm>
            <a:off x="20520" y="-84240"/>
            <a:ext cx="8964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799240" y="4526640"/>
            <a:ext cx="2839680" cy="1801800"/>
            <a:chOff x="5799240" y="4526640"/>
            <a:chExt cx="2839680" cy="180180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 rot="330600">
              <a:off x="5867280" y="4652640"/>
              <a:ext cx="27036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 rot="1895400">
              <a:off x="6477840" y="5256000"/>
              <a:ext cx="1400400" cy="26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Marvan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 rot="2056800">
            <a:off x="3634920" y="2528640"/>
            <a:ext cx="431964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d3b5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lbehagen.</a:t>
            </a:r>
            <a:endParaRPr b="0" lang="en-US" sz="1800" spc="1" strike="noStrike">
              <a:ln w="0">
                <a:noFill/>
              </a:ln>
              <a:solidFill>
                <a:srgbClr val="1d3b5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4243320"/>
            <a:ext cx="260640" cy="539640"/>
          </a:xfrm>
          <a:custGeom>
            <a:avLst/>
            <a:gdLst/>
            <a:ahLst/>
            <a:rect l="l" t="t" r="r" b="b"/>
            <a:pathLst>
              <a:path w="164" h="340">
                <a:moveTo>
                  <a:pt x="84" y="340"/>
                </a:moveTo>
                <a:cubicBezTo>
                  <a:pt x="130" y="270"/>
                  <a:pt x="164" y="173"/>
                  <a:pt x="57" y="137"/>
                </a:cubicBezTo>
                <a:cubicBezTo>
                  <a:pt x="51" y="128"/>
                  <a:pt x="47" y="117"/>
                  <a:pt x="39" y="110"/>
                </a:cubicBezTo>
                <a:cubicBezTo>
                  <a:pt x="32" y="104"/>
                  <a:pt x="13" y="110"/>
                  <a:pt x="13" y="101"/>
                </a:cubicBezTo>
                <a:cubicBezTo>
                  <a:pt x="13" y="92"/>
                  <a:pt x="30" y="94"/>
                  <a:pt x="39" y="92"/>
                </a:cubicBezTo>
                <a:cubicBezTo>
                  <a:pt x="63" y="86"/>
                  <a:pt x="86" y="81"/>
                  <a:pt x="110" y="75"/>
                </a:cubicBezTo>
                <a:cubicBezTo>
                  <a:pt x="113" y="84"/>
                  <a:pt x="110" y="101"/>
                  <a:pt x="119" y="101"/>
                </a:cubicBezTo>
                <a:cubicBezTo>
                  <a:pt x="130" y="101"/>
                  <a:pt x="148" y="75"/>
                  <a:pt x="137" y="75"/>
                </a:cubicBezTo>
                <a:cubicBezTo>
                  <a:pt x="122" y="75"/>
                  <a:pt x="114" y="92"/>
                  <a:pt x="102" y="101"/>
                </a:cubicBezTo>
                <a:cubicBezTo>
                  <a:pt x="62" y="72"/>
                  <a:pt x="57" y="42"/>
                  <a:pt x="13" y="57"/>
                </a:cubicBezTo>
                <a:cubicBezTo>
                  <a:pt x="16" y="54"/>
                  <a:pt x="64" y="20"/>
                  <a:pt x="31" y="4"/>
                </a:cubicBezTo>
                <a:cubicBezTo>
                  <a:pt x="22" y="0"/>
                  <a:pt x="13" y="10"/>
                  <a:pt x="4" y="13"/>
                </a:cubicBezTo>
                <a:cubicBezTo>
                  <a:pt x="10" y="72"/>
                  <a:pt x="0" y="150"/>
                  <a:pt x="66" y="172"/>
                </a:cubicBezTo>
                <a:cubicBezTo>
                  <a:pt x="110" y="238"/>
                  <a:pt x="84" y="188"/>
                  <a:pt x="84" y="34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2870" t="0" r="0" b="0"/>
          <a:stretch/>
        </p:blipFill>
        <p:spPr>
          <a:xfrm>
            <a:off x="539640" y="22320"/>
            <a:ext cx="8604360" cy="6835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68400" y="333360"/>
            <a:ext cx="27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Naaldhakken gaven 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gracieuze verleideli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benen zo werd vertel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9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maar die hakjes mo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maandelijks wo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hersteld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9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450"/>
                            </p:stCondLst>
                            <p:childTnLst>
                              <p:par>
                                <p:cTn id="2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85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30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6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26028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4c"/>
                </a:solidFill>
                <a:latin typeface="Comic Sans MS"/>
              </a:rPr>
              <a:t>Misschien was het in die tijd wat overdre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5877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c004c"/>
                </a:solidFill>
                <a:latin typeface="Comic Sans MS"/>
              </a:rPr>
              <a:t>toch denk ik met welbehagen terug aan de normen die ons werden gege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rot="1836000">
            <a:off x="4427640" y="1557360"/>
            <a:ext cx="3313080" cy="3179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4760" y="4581360"/>
            <a:ext cx="32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jacobs.paul1@telenet.b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bc004c"/>
                </a:solidFill>
                <a:latin typeface="Arial"/>
              </a:rPr>
              <a:t>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700"/>
                            </p:stCondLst>
                            <p:childTnLst>
                              <p:par>
                                <p:cTn id="2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500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7960" y="98280"/>
            <a:ext cx="8385120" cy="6289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5853240"/>
            <a:ext cx="74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Soms denk ik vol welbehagen terug aan de vroegere ja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toen we goede omgangsvormen als gewoonte zag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20" y="-25560"/>
            <a:ext cx="204480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600"/>
                            </p:stCondLst>
                            <p:childTnLst>
                              <p:par>
                                <p:cTn id="36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6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15920" y="0"/>
            <a:ext cx="8128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609300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en ramp wanneer 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en ladder in versch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773360"/>
            <a:ext cx="31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e droegen nylons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aadje achteraan het be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200"/>
                            </p:stCondLst>
                            <p:childTnLst>
                              <p:par>
                                <p:cTn id="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700"/>
                            </p:stCondLst>
                            <p:childTnLst>
                              <p:par>
                                <p:cTn id="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558972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489"/>
                </a:solidFill>
                <a:latin typeface="Comic Sans MS"/>
              </a:rPr>
              <a:t>In de bioscoop hielden de jongens de meisjes vri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489"/>
                </a:solidFill>
                <a:latin typeface="Comic Sans MS"/>
              </a:rPr>
              <a:t>wij gaven dan een zoentje en ze waren bl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17672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1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10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742" t="3797" r="3543" b="4860"/>
          <a:stretch/>
        </p:blipFill>
        <p:spPr>
          <a:xfrm>
            <a:off x="0" y="77760"/>
            <a:ext cx="9144000" cy="668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920" y="4292640"/>
            <a:ext cx="832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0036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860036"/>
                </a:solidFill>
                <a:latin typeface="Comic Sans MS"/>
              </a:rPr>
              <a:t>Onze ouders zegden ” degene die echt van je houd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60036"/>
                </a:solidFill>
                <a:latin typeface="Comic Sans MS"/>
              </a:rPr>
              <a:t>wacht met de liefdesdaad tot de dag dat je met hem bent getrouw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5229360"/>
            <a:ext cx="1008000" cy="99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12000" y="5373720"/>
            <a:ext cx="1008000" cy="9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549" t="0" r="2079" b="0"/>
          <a:stretch/>
        </p:blipFill>
        <p:spPr>
          <a:xfrm>
            <a:off x="755640" y="0"/>
            <a:ext cx="8437680" cy="6705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38160" y="6116760"/>
            <a:ext cx="60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 heren gebruikten scheermes en kwa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aalden voor een afspraak het mooiste pak uit de k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3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8420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3795" r="3543" b="3795"/>
          <a:stretch/>
        </p:blipFill>
        <p:spPr>
          <a:xfrm>
            <a:off x="0" y="260280"/>
            <a:ext cx="8820000" cy="6337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4600" y="4124160"/>
            <a:ext cx="51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eel verbaast moet ik toen hebben geke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63760" y="458640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k had de uitleg niet meteen begre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4520" y="2857680"/>
            <a:ext cx="62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en kwam me als voorbehoedsmiddel toen verklapp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66000" y="3341520"/>
            <a:ext cx="59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e lief moet een halte te vroeg van de trein afsta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80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64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48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48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960"/>
                            </p:stCondLst>
                            <p:childTnLst>
                              <p:par>
                                <p:cTn id="1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3040" y="189000"/>
            <a:ext cx="74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                 </a:t>
            </a: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Als we al eens naar de dancing mochten ga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de dreigende stem van ma en pa rond twaalf uur hier terug staan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922320"/>
            <a:ext cx="7920000" cy="588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762120"/>
            <a:ext cx="8128080" cy="6095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07960" y="781200"/>
            <a:ext cx="8128080" cy="6095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0" t="0" r="0" b="5913"/>
          <a:stretch/>
        </p:blipFill>
        <p:spPr>
          <a:xfrm>
            <a:off x="507960" y="933480"/>
            <a:ext cx="8128080" cy="5735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0" t="0" r="0" b="3543"/>
          <a:stretch/>
        </p:blipFill>
        <p:spPr>
          <a:xfrm>
            <a:off x="507960" y="789120"/>
            <a:ext cx="8128080" cy="5879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826920" y="907920"/>
            <a:ext cx="7736040" cy="5802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39640" y="907920"/>
            <a:ext cx="7664400" cy="5748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9640" y="981000"/>
            <a:ext cx="7448760" cy="558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39640" y="907920"/>
            <a:ext cx="7593120" cy="569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0" b="5102"/>
          <a:stretch/>
        </p:blipFill>
        <p:spPr>
          <a:xfrm>
            <a:off x="179280" y="554040"/>
            <a:ext cx="8856720" cy="6303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507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De volgende morgen moesten we terug vroeg uit de ve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d0fc"/>
                </a:solidFill>
                <a:latin typeface="Comic Sans MS"/>
              </a:rPr>
              <a:t>wie kan uitgaan moet kunnen werken was wat ze ons l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934920" cy="611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124452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75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6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6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1:27:27Z</dcterms:created>
  <dc:creator>Jacobs Marvan</dc:creator>
  <dc:description/>
  <dc:language>en-US</dc:language>
  <cp:lastModifiedBy>Smets</cp:lastModifiedBy>
  <dcterms:modified xsi:type="dcterms:W3CDTF">2008-10-16T04:48:28Z</dcterms:modified>
  <cp:revision>33</cp:revision>
  <dc:subject/>
  <dc:title>Welbehagen</dc:title>
</cp:coreProperties>
</file>